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9.png" ContentType="image/png"/>
  <Override PartName="/ppt/media/image15.wmf" ContentType="image/x-wmf"/>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7.jpeg" ContentType="image/jpeg"/>
  <Override PartName="/ppt/media/image11.png" ContentType="image/png"/>
  <Override PartName="/ppt/media/image5.png" ContentType="image/pn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CB02-FFA7-42A2-B6B7-2AC642C739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will guide you through the steps of marking your site and marking individual plants. This module is appropriate for individuals observing either plants or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is also available on USA-NPN website at www.usanpn.org.</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853A-3677-43C7-BB01-623E1A85FF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so, if you are observing at a site on public land, be sure to get permission before marking your site or your plants.</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A8B5-2D1D-4D93-AC1F-1E79E47CAD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cludes our presentation on marking your site and your plants. Thank you for your time and interest in our program!</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7A9F-69D6-449F-B4ED-379FD66958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resentation, we’ll focus on marking your site and your plants that you wish to observe using Nature’s Noteboo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9FFF-B054-4830-B280-C91BC4E99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ether you are observing only plants, only animals, or both,  you will make your observations repeatedly at the same site or sites over time. You will want to somehow mark your site so that you can find it again in the future.</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7048-EAC6-456D-AF4C-DEB250B0A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plant monitoring requires that you observe </a:t>
            </a:r>
            <a:r>
              <a:rPr b="0" i="1" lang="en-US" sz="1200" spc="-1" strike="noStrike">
                <a:solidFill>
                  <a:srgbClr val="000000"/>
                </a:solidFill>
                <a:latin typeface="Calibri"/>
              </a:rPr>
              <a:t>the same individual plants</a:t>
            </a:r>
            <a:r>
              <a:rPr b="0" lang="en-US" sz="1200" spc="-1" strike="noStrike">
                <a:solidFill>
                  <a:srgbClr val="000000"/>
                </a:solidFill>
                <a:latin typeface="Calibri"/>
              </a:rPr>
              <a:t> repeatedly, you will also need to mark each plant so that you can find it on each visit. </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9E162-890B-4E57-A0DA-9BF6D1D5EE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recommend that you mark each individual plant with a </a:t>
            </a:r>
            <a:r>
              <a:rPr b="0" lang="en-US" sz="1200" spc="-1" strike="noStrike" u="sng">
                <a:solidFill>
                  <a:srgbClr val="000000"/>
                </a:solidFill>
                <a:uFillTx/>
                <a:latin typeface="Calibri"/>
              </a:rPr>
              <a:t>unique label</a:t>
            </a:r>
            <a:r>
              <a:rPr b="0" lang="en-US" sz="1200" spc="-1" strike="noStrike">
                <a:solidFill>
                  <a:srgbClr val="000000"/>
                </a:solidFill>
                <a:latin typeface="Calibri"/>
              </a:rPr>
              <a:t>. For example, you could mark pieces of flagging tape with “red maple-1”, “red maple-2”, etc. and then tie them to each of the red maples you are observing. </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E6CA-95F4-4D12-B2CA-8C28865432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options for marking your site, but the most important thing is that you mark your site so that you an find it again in the future. For most sites, it is probably easiest to mark the four corners with colorful flagging, which is a colored non-adhesive tape often made of PVC or vinyl, scrap cloth, or something similar. You can also use natural or human-made landmarks, like the edge of a yard, large rocks, a bend in a trail, a road, or something similar to define the bounda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o replace your markers periodically as they weather and become unreadable.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6AF2-0E19-4F9B-832E-324B62B028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rees and shrubs, flagging tape can be tied around stems, trunks, or branches. Biodegradable flagging, made of wood fiber cellulose, also exists. Flagging should be marked with permanent marker and replaced seasonally, as it breaks down in the sun and wind. </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FA3C-B337-4A86-B15A-E5519DEFF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luminum tags can also be effective in marking trees and shrubs in a nonintrusive way. Both flagging and aluminum tags can be found at hardware stores or forestry supply compa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you mark your location and individual plants, ensure that the marking does not change the growing conditions of the plant or injure the plant in any way. For example, do not wind wire around a tree branch or trunk where it could cut into the bark and interfere with the tree’s grow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841E-7678-4D59-AAE3-6B3EAD1D2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grasses and small herbaceous plants, small pins can be placed next to the individuals that will be observed. Some observers have used colored toothpicks as unobtrusive stakes (sometimes hard to spot as vegetation grows) and loosely tied colored string or small plastic flags around the base of individu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however you mark your location and individual plants, you will want to make sure that the marking does not change the growing conditions of the plant. For example, avoid placing a broad stake next to a small plant that would shade it or cause root dam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rs may need to be replaced periodically as they weather and become unreadable.</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E4E4-9F16-4AC0-BFC8-221D9870A2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80812-C684-49B1-88F3-5522473FE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19BDF-1883-4FC8-B51C-2FD919A66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42B44-497B-4CEF-8F81-B5AE55F34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081A4-3348-4FDE-818F-032E19B18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379A5B-5869-4DBD-BC69-4D0F30923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95912-0CFB-4ECE-9CB9-2C6F82920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A4AFB-A080-4AA5-AFBB-D35EE7D30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2A054-D7BE-4286-BD6F-B97C94AE0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FB878-B688-46C4-9460-17B50A741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2F4A9-4DA1-4181-978A-0BB824C53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48ABB-9940-414E-B97A-CBCB0DE2F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E07E9-1FAF-4C41-9C9B-F9521A6BE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CFCB7-B807-4220-A99A-0B3B39716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D44AC-3DAC-4E25-AF41-A48E88148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1E549-E1D2-47A6-8E6E-F615748F1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F90E92-938B-4F0B-8FE2-89BFE63E8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88DC5-8D3B-43AB-A8DD-DBBBDEB8B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721ABF-1C9E-4E79-96EF-04372A0DE6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DF307A-052D-4BDE-8588-C56EC2CC36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0CECD7-9F57-4604-AEA0-60DBFF0E7C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8504AC-272B-4CD7-977A-202B9E32E6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359152-5953-4D90-AE37-5C5F53EA9A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7D54C-56AA-4C5C-B80C-9AFC4A441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BBEAF9-DC77-4605-AAEF-890EB7F210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DA0E9-15FF-41AA-818A-04F6CDF804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33BAA-4870-4632-BFF7-E3DABD860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D313C7-187F-4D4F-9C53-FA66D5C69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5610BB-38D0-481A-81B5-D8E291A932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85576A-10B4-4227-A265-F5C82B6ED9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321B6A-9036-42DB-A6CC-030B844861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E4EA6-62F2-44B4-A51A-1E1E3E5BF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A98FA-1A52-466F-A8CC-36D435F31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B01C1-764E-4B9B-A5ED-29B6FE1D1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58ACF-5C4A-4088-90D9-BCFCB38FF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90768-9252-4F26-8A6B-B365143A6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CC37E-0B3A-4CB0-97DB-070E4ED36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C213-BDA8-401D-B81E-D51FDB45002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E2D5-FBB6-4782-87EF-A0B9743232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rcRect l="0" t="0" r="2040" b="0"/>
          <a:stretch/>
        </p:blipFill>
        <p:spPr>
          <a:xfrm>
            <a:off x="0" y="0"/>
            <a:ext cx="9144000" cy="1066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0B5F-CFE0-4A6C-8677-00E3613114F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0955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FB0A-BA2D-4476-AC63-6E63A6EB0D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
          <p:cNvPicPr/>
          <p:nvPr/>
        </p:nvPicPr>
        <p:blipFill>
          <a:blip r:embed="rId2"/>
          <a:srcRect l="0" t="0" r="2040" b="0"/>
          <a:stretch/>
        </p:blipFill>
        <p:spPr>
          <a:xfrm>
            <a:off x="0" y="0"/>
            <a:ext cx="9144000" cy="106668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C5A5-8CE1-4F37-AB48-46A274F8B64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0955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98B55-13BD-423D-ABED-E930DBF433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92280" y="29685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a882f"/>
                </a:solidFill>
                <a:latin typeface="Calibri"/>
              </a:rPr>
              <a:t>Training Materials</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104840" y="4249800"/>
            <a:ext cx="69357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5220"/>
                </a:solidFill>
                <a:latin typeface="Calibri"/>
              </a:rPr>
              <a:t>Marking Your Site and Individual Plants</a:t>
            </a:r>
            <a:endParaRPr b="0" lang="en-US" sz="3200" spc="-1" strike="noStrike">
              <a:solidFill>
                <a:srgbClr val="000000"/>
              </a:solidFill>
              <a:latin typeface="Calibri"/>
            </a:endParaRPr>
          </a:p>
        </p:txBody>
      </p:sp>
      <p:pic>
        <p:nvPicPr>
          <p:cNvPr id="134" name="Picture 4" descr="natures_notesbook-lrg.png"/>
          <p:cNvPicPr/>
          <p:nvPr/>
        </p:nvPicPr>
        <p:blipFill>
          <a:blip r:embed="rId1"/>
          <a:stretch/>
        </p:blipFill>
        <p:spPr>
          <a:xfrm>
            <a:off x="2406600" y="1536840"/>
            <a:ext cx="4330800" cy="1893600"/>
          </a:xfrm>
          <a:prstGeom prst="rect">
            <a:avLst/>
          </a:prstGeom>
          <a:ln w="0">
            <a:noFill/>
          </a:ln>
        </p:spPr>
      </p:pic>
      <p:pic>
        <p:nvPicPr>
          <p:cNvPr id="135" name="Picture 2" descr=""/>
          <p:cNvPicPr/>
          <p:nvPr/>
        </p:nvPicPr>
        <p:blipFill>
          <a:blip r:embed="rId2"/>
          <a:srcRect l="0" t="0" r="2040" b="0"/>
          <a:stretch/>
        </p:blipFill>
        <p:spPr>
          <a:xfrm>
            <a:off x="0" y="0"/>
            <a:ext cx="9144000" cy="1066680"/>
          </a:xfrm>
          <a:prstGeom prst="rect">
            <a:avLst/>
          </a:prstGeom>
          <a:ln w="0">
            <a:noFill/>
          </a:ln>
        </p:spPr>
      </p:pic>
      <p:pic>
        <p:nvPicPr>
          <p:cNvPr id="136" name="Picture 5" descr="usanpndotorg-lrg.png"/>
          <p:cNvPicPr/>
          <p:nvPr/>
        </p:nvPicPr>
        <p:blipFill>
          <a:blip r:embed="rId3"/>
          <a:stretch/>
        </p:blipFill>
        <p:spPr>
          <a:xfrm>
            <a:off x="1996920" y="5668920"/>
            <a:ext cx="5150160" cy="81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4760" y="2647440"/>
            <a:ext cx="5769000" cy="4526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ceive permission before marking your site or plants on public lan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TextBox 4"/>
          <p:cNvSpPr/>
          <p:nvPr/>
        </p:nvSpPr>
        <p:spPr>
          <a:xfrm>
            <a:off x="627120" y="1763640"/>
            <a:ext cx="3771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oper permission</a:t>
            </a:r>
            <a:endParaRPr b="0" lang="en-US" sz="3200" spc="-1" strike="noStrike">
              <a:solidFill>
                <a:srgbClr val="000000"/>
              </a:solidFill>
              <a:latin typeface="Arial"/>
            </a:endParaRPr>
          </a:p>
        </p:txBody>
      </p:sp>
      <p:pic>
        <p:nvPicPr>
          <p:cNvPr id="222" name="Picture 2" descr="C:\Documents and Settings\Theresa Crimmins\Local Settings\Temporary Internet Files\Content.IE5\2XCDIHAD\MCj04127540000[1].wmf"/>
          <p:cNvPicPr/>
          <p:nvPr/>
        </p:nvPicPr>
        <p:blipFill>
          <a:blip r:embed="rId1"/>
          <a:stretch/>
        </p:blipFill>
        <p:spPr>
          <a:xfrm>
            <a:off x="6188040" y="2476440"/>
            <a:ext cx="2343240" cy="2989440"/>
          </a:xfrm>
          <a:prstGeom prst="rect">
            <a:avLst/>
          </a:prstGeom>
          <a:ln w="0">
            <a:noFill/>
          </a:ln>
        </p:spPr>
      </p:pic>
      <p:sp>
        <p:nvSpPr>
          <p:cNvPr id="223" name="Slide Number Placeholder 5"/>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8755-DD97-4CB1-B9A5-3108D372C1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6FAE-F1AA-44F6-9C33-29939E4ACE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5" name="Picture 4" descr="natures_notesbook-lrg.png"/>
          <p:cNvPicPr/>
          <p:nvPr/>
        </p:nvPicPr>
        <p:blipFill>
          <a:blip r:embed="rId1"/>
          <a:stretch/>
        </p:blipFill>
        <p:spPr>
          <a:xfrm>
            <a:off x="2406600" y="2050920"/>
            <a:ext cx="4330800" cy="1893960"/>
          </a:xfrm>
          <a:prstGeom prst="rect">
            <a:avLst/>
          </a:prstGeom>
          <a:ln w="0">
            <a:noFill/>
          </a:ln>
        </p:spPr>
      </p:pic>
      <p:pic>
        <p:nvPicPr>
          <p:cNvPr id="226" name="Picture 2" descr=""/>
          <p:cNvPicPr/>
          <p:nvPr/>
        </p:nvPicPr>
        <p:blipFill>
          <a:blip r:embed="rId2"/>
          <a:srcRect l="0" t="0" r="2040" b="0"/>
          <a:stretch/>
        </p:blipFill>
        <p:spPr>
          <a:xfrm>
            <a:off x="0" y="0"/>
            <a:ext cx="9144000" cy="1066680"/>
          </a:xfrm>
          <a:prstGeom prst="rect">
            <a:avLst/>
          </a:prstGeom>
          <a:ln w="0">
            <a:noFill/>
          </a:ln>
        </p:spPr>
      </p:pic>
      <p:pic>
        <p:nvPicPr>
          <p:cNvPr id="227" name="Picture 7" descr="usanpndotorg-lrg.png"/>
          <p:cNvPicPr/>
          <p:nvPr/>
        </p:nvPicPr>
        <p:blipFill>
          <a:blip r:embed="rId3"/>
          <a:stretch/>
        </p:blipFill>
        <p:spPr>
          <a:xfrm>
            <a:off x="1995480" y="4870440"/>
            <a:ext cx="514980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DSC_1145"/>
          <p:cNvPicPr/>
          <p:nvPr/>
        </p:nvPicPr>
        <p:blipFill>
          <a:blip r:embed="rId1"/>
          <a:srcRect l="22230" t="0" r="26117" b="11580"/>
          <a:stretch/>
        </p:blipFill>
        <p:spPr>
          <a:xfrm>
            <a:off x="6245280" y="2319480"/>
            <a:ext cx="2658960" cy="3055680"/>
          </a:xfrm>
          <a:prstGeom prst="rect">
            <a:avLst/>
          </a:prstGeom>
          <a:ln w="0">
            <a:noFill/>
          </a:ln>
        </p:spPr>
      </p:pic>
      <p:sp>
        <p:nvSpPr>
          <p:cNvPr id="138" name="Rectangle 4"/>
          <p:cNvSpPr/>
          <p:nvPr/>
        </p:nvSpPr>
        <p:spPr>
          <a:xfrm>
            <a:off x="1259280" y="6008760"/>
            <a:ext cx="67917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ww.usanpn.org/participate/guidelines</a:t>
            </a:r>
            <a:endParaRPr b="0" lang="en-US" sz="3200" spc="-1" strike="noStrike">
              <a:solidFill>
                <a:srgbClr val="000000"/>
              </a:solidFill>
              <a:latin typeface="Arial"/>
            </a:endParaRPr>
          </a:p>
        </p:txBody>
      </p:sp>
      <p:sp>
        <p:nvSpPr>
          <p:cNvPr id="139" name="Slide Number Placeholder 9"/>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27D6-D9ED-4627-8E56-5B16E59953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Text Box 3"/>
          <p:cNvSpPr/>
          <p:nvPr/>
        </p:nvSpPr>
        <p:spPr>
          <a:xfrm>
            <a:off x="326880" y="1863720"/>
            <a:ext cx="7242480" cy="413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elect a site</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elect plant and animal specie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elect individual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ark your site and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cord your observations of animal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rd your observations of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port your data online</a:t>
            </a:r>
            <a:endParaRPr b="0" lang="en-US" sz="2600" spc="-1" strike="noStrike">
              <a:solidFill>
                <a:srgbClr val="000000"/>
              </a:solidFill>
              <a:latin typeface="Arial"/>
            </a:endParaRPr>
          </a:p>
        </p:txBody>
      </p:sp>
      <p:pic>
        <p:nvPicPr>
          <p:cNvPr id="141" name="Picture 5" descr="natures_notesbook-lrg.png"/>
          <p:cNvPicPr/>
          <p:nvPr/>
        </p:nvPicPr>
        <p:blipFill>
          <a:blip r:embed="rId2"/>
          <a:stretch/>
        </p:blipFill>
        <p:spPr>
          <a:xfrm>
            <a:off x="6951600" y="1235160"/>
            <a:ext cx="1800360" cy="78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599840"/>
            <a:ext cx="8229600" cy="685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hy mark sites?</a:t>
            </a:r>
            <a:endParaRPr b="0" lang="en-US" sz="3200" spc="-1" strike="noStrike">
              <a:solidFill>
                <a:srgbClr val="000000"/>
              </a:solidFill>
              <a:latin typeface="Calibri"/>
            </a:endParaRPr>
          </a:p>
        </p:txBody>
      </p:sp>
      <p:sp>
        <p:nvSpPr>
          <p:cNvPr id="143"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4BC3-C10B-4488-9F81-62EA26D979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4" name="Content Placeholder 2"/>
          <p:cNvSpPr/>
          <p:nvPr/>
        </p:nvSpPr>
        <p:spPr>
          <a:xfrm>
            <a:off x="228600" y="2209680"/>
            <a:ext cx="4495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locate 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Picture 6" descr="DSC_2484.JPG"/>
          <p:cNvPicPr/>
          <p:nvPr/>
        </p:nvPicPr>
        <p:blipFill>
          <a:blip r:embed="rId1"/>
          <a:srcRect l="31206" t="0" r="0" b="0"/>
          <a:stretch/>
        </p:blipFill>
        <p:spPr>
          <a:xfrm>
            <a:off x="4648320" y="1752480"/>
            <a:ext cx="4368600" cy="42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28600" y="1599840"/>
            <a:ext cx="8229600" cy="685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hy mark plants?</a:t>
            </a:r>
            <a:endParaRPr b="0" lang="en-US" sz="3200" spc="-1" strike="noStrike">
              <a:solidFill>
                <a:srgbClr val="000000"/>
              </a:solidFill>
              <a:latin typeface="Calibri"/>
            </a:endParaRPr>
          </a:p>
        </p:txBody>
      </p:sp>
      <p:sp>
        <p:nvSpPr>
          <p:cNvPr id="147"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8434-08DD-4AF5-B3A9-79C5636D2B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Content Placeholder 2"/>
          <p:cNvSpPr/>
          <p:nvPr/>
        </p:nvSpPr>
        <p:spPr>
          <a:xfrm>
            <a:off x="228600" y="2209680"/>
            <a:ext cx="4495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locate individu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sure observations are from same individ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Picture 5" descr="IMG_0122.JPG"/>
          <p:cNvPicPr/>
          <p:nvPr/>
        </p:nvPicPr>
        <p:blipFill>
          <a:blip r:embed="rId1"/>
          <a:srcRect l="27738" t="0" r="0" b="0"/>
          <a:stretch/>
        </p:blipFill>
        <p:spPr>
          <a:xfrm>
            <a:off x="4648320" y="1905120"/>
            <a:ext cx="396396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reeform 536"/>
          <p:cNvSpPr/>
          <p:nvPr/>
        </p:nvSpPr>
        <p:spPr>
          <a:xfrm>
            <a:off x="380880" y="2590920"/>
            <a:ext cx="8153640" cy="4267080"/>
          </a:xfrm>
          <a:custGeom>
            <a:avLst/>
            <a:gdLst>
              <a:gd name="textAreaLeft" fmla="*/ 0 w 8153640"/>
              <a:gd name="textAreaRight" fmla="*/ 8154000 w 8153640"/>
              <a:gd name="textAreaTop" fmla="*/ 0 h 4267080"/>
              <a:gd name="textAreaBottom" fmla="*/ 4267440 h 4267080"/>
            </a:gdLst>
            <a:ahLst/>
            <a:rect l="textAreaLeft" t="textAreaTop" r="textAreaRight" b="textAreaBottom"/>
            <a:pathLst>
              <a:path w="2139" h="1656">
                <a:moveTo>
                  <a:pt x="2103" y="757"/>
                </a:moveTo>
                <a:lnTo>
                  <a:pt x="2111" y="737"/>
                </a:lnTo>
                <a:lnTo>
                  <a:pt x="2118" y="717"/>
                </a:lnTo>
                <a:lnTo>
                  <a:pt x="2125" y="697"/>
                </a:lnTo>
                <a:lnTo>
                  <a:pt x="2129" y="676"/>
                </a:lnTo>
                <a:lnTo>
                  <a:pt x="2133" y="654"/>
                </a:lnTo>
                <a:lnTo>
                  <a:pt x="2136" y="632"/>
                </a:lnTo>
                <a:lnTo>
                  <a:pt x="2137" y="609"/>
                </a:lnTo>
                <a:lnTo>
                  <a:pt x="2139" y="585"/>
                </a:lnTo>
                <a:lnTo>
                  <a:pt x="2136" y="546"/>
                </a:lnTo>
                <a:lnTo>
                  <a:pt x="2132" y="507"/>
                </a:lnTo>
                <a:lnTo>
                  <a:pt x="2122" y="470"/>
                </a:lnTo>
                <a:lnTo>
                  <a:pt x="2111" y="434"/>
                </a:lnTo>
                <a:lnTo>
                  <a:pt x="2097" y="400"/>
                </a:lnTo>
                <a:lnTo>
                  <a:pt x="2080" y="367"/>
                </a:lnTo>
                <a:lnTo>
                  <a:pt x="2059" y="337"/>
                </a:lnTo>
                <a:lnTo>
                  <a:pt x="2037" y="309"/>
                </a:lnTo>
                <a:lnTo>
                  <a:pt x="2025" y="295"/>
                </a:lnTo>
                <a:lnTo>
                  <a:pt x="2011" y="281"/>
                </a:lnTo>
                <a:lnTo>
                  <a:pt x="1996" y="268"/>
                </a:lnTo>
                <a:lnTo>
                  <a:pt x="1981" y="256"/>
                </a:lnTo>
                <a:lnTo>
                  <a:pt x="1966" y="244"/>
                </a:lnTo>
                <a:lnTo>
                  <a:pt x="1950" y="234"/>
                </a:lnTo>
                <a:lnTo>
                  <a:pt x="1934" y="225"/>
                </a:lnTo>
                <a:lnTo>
                  <a:pt x="1916" y="215"/>
                </a:lnTo>
                <a:lnTo>
                  <a:pt x="1899" y="208"/>
                </a:lnTo>
                <a:lnTo>
                  <a:pt x="1881" y="202"/>
                </a:lnTo>
                <a:lnTo>
                  <a:pt x="1862" y="196"/>
                </a:lnTo>
                <a:lnTo>
                  <a:pt x="1844" y="191"/>
                </a:lnTo>
                <a:lnTo>
                  <a:pt x="1824" y="187"/>
                </a:lnTo>
                <a:lnTo>
                  <a:pt x="1805" y="184"/>
                </a:lnTo>
                <a:lnTo>
                  <a:pt x="1785" y="182"/>
                </a:lnTo>
                <a:lnTo>
                  <a:pt x="1765" y="182"/>
                </a:lnTo>
                <a:lnTo>
                  <a:pt x="1760" y="182"/>
                </a:lnTo>
                <a:lnTo>
                  <a:pt x="1754" y="182"/>
                </a:lnTo>
                <a:lnTo>
                  <a:pt x="1747" y="182"/>
                </a:lnTo>
                <a:lnTo>
                  <a:pt x="1741" y="183"/>
                </a:lnTo>
                <a:lnTo>
                  <a:pt x="1735" y="183"/>
                </a:lnTo>
                <a:lnTo>
                  <a:pt x="1730" y="184"/>
                </a:lnTo>
                <a:lnTo>
                  <a:pt x="1723" y="184"/>
                </a:lnTo>
                <a:lnTo>
                  <a:pt x="1717" y="185"/>
                </a:lnTo>
                <a:lnTo>
                  <a:pt x="1701" y="165"/>
                </a:lnTo>
                <a:lnTo>
                  <a:pt x="1684" y="145"/>
                </a:lnTo>
                <a:lnTo>
                  <a:pt x="1665" y="127"/>
                </a:lnTo>
                <a:lnTo>
                  <a:pt x="1646" y="109"/>
                </a:lnTo>
                <a:lnTo>
                  <a:pt x="1625" y="93"/>
                </a:lnTo>
                <a:lnTo>
                  <a:pt x="1604" y="77"/>
                </a:lnTo>
                <a:lnTo>
                  <a:pt x="1581" y="63"/>
                </a:lnTo>
                <a:lnTo>
                  <a:pt x="1558" y="51"/>
                </a:lnTo>
                <a:lnTo>
                  <a:pt x="1533" y="39"/>
                </a:lnTo>
                <a:lnTo>
                  <a:pt x="1507" y="29"/>
                </a:lnTo>
                <a:lnTo>
                  <a:pt x="1482" y="21"/>
                </a:lnTo>
                <a:lnTo>
                  <a:pt x="1456" y="14"/>
                </a:lnTo>
                <a:lnTo>
                  <a:pt x="1428" y="8"/>
                </a:lnTo>
                <a:lnTo>
                  <a:pt x="1400" y="3"/>
                </a:lnTo>
                <a:lnTo>
                  <a:pt x="1372" y="1"/>
                </a:lnTo>
                <a:lnTo>
                  <a:pt x="1343" y="0"/>
                </a:lnTo>
                <a:lnTo>
                  <a:pt x="1312" y="1"/>
                </a:lnTo>
                <a:lnTo>
                  <a:pt x="1281" y="3"/>
                </a:lnTo>
                <a:lnTo>
                  <a:pt x="1252" y="9"/>
                </a:lnTo>
                <a:lnTo>
                  <a:pt x="1224" y="15"/>
                </a:lnTo>
                <a:lnTo>
                  <a:pt x="1198" y="23"/>
                </a:lnTo>
                <a:lnTo>
                  <a:pt x="1172" y="32"/>
                </a:lnTo>
                <a:lnTo>
                  <a:pt x="1148" y="43"/>
                </a:lnTo>
                <a:lnTo>
                  <a:pt x="1125" y="54"/>
                </a:lnTo>
                <a:lnTo>
                  <a:pt x="1102" y="66"/>
                </a:lnTo>
                <a:lnTo>
                  <a:pt x="1080" y="78"/>
                </a:lnTo>
                <a:lnTo>
                  <a:pt x="1059" y="92"/>
                </a:lnTo>
                <a:lnTo>
                  <a:pt x="1038" y="106"/>
                </a:lnTo>
                <a:lnTo>
                  <a:pt x="1018" y="120"/>
                </a:lnTo>
                <a:lnTo>
                  <a:pt x="997" y="134"/>
                </a:lnTo>
                <a:lnTo>
                  <a:pt x="978" y="146"/>
                </a:lnTo>
                <a:lnTo>
                  <a:pt x="958" y="160"/>
                </a:lnTo>
                <a:lnTo>
                  <a:pt x="944" y="158"/>
                </a:lnTo>
                <a:lnTo>
                  <a:pt x="930" y="154"/>
                </a:lnTo>
                <a:lnTo>
                  <a:pt x="917" y="150"/>
                </a:lnTo>
                <a:lnTo>
                  <a:pt x="903" y="145"/>
                </a:lnTo>
                <a:lnTo>
                  <a:pt x="889" y="138"/>
                </a:lnTo>
                <a:lnTo>
                  <a:pt x="875" y="132"/>
                </a:lnTo>
                <a:lnTo>
                  <a:pt x="861" y="124"/>
                </a:lnTo>
                <a:lnTo>
                  <a:pt x="846" y="117"/>
                </a:lnTo>
                <a:lnTo>
                  <a:pt x="830" y="109"/>
                </a:lnTo>
                <a:lnTo>
                  <a:pt x="814" y="102"/>
                </a:lnTo>
                <a:lnTo>
                  <a:pt x="796" y="94"/>
                </a:lnTo>
                <a:lnTo>
                  <a:pt x="777" y="88"/>
                </a:lnTo>
                <a:lnTo>
                  <a:pt x="757" y="81"/>
                </a:lnTo>
                <a:lnTo>
                  <a:pt x="735" y="75"/>
                </a:lnTo>
                <a:lnTo>
                  <a:pt x="711" y="69"/>
                </a:lnTo>
                <a:lnTo>
                  <a:pt x="685" y="64"/>
                </a:lnTo>
                <a:lnTo>
                  <a:pt x="663" y="61"/>
                </a:lnTo>
                <a:lnTo>
                  <a:pt x="641" y="59"/>
                </a:lnTo>
                <a:lnTo>
                  <a:pt x="620" y="58"/>
                </a:lnTo>
                <a:lnTo>
                  <a:pt x="598" y="58"/>
                </a:lnTo>
                <a:lnTo>
                  <a:pt x="576" y="58"/>
                </a:lnTo>
                <a:lnTo>
                  <a:pt x="555" y="58"/>
                </a:lnTo>
                <a:lnTo>
                  <a:pt x="534" y="60"/>
                </a:lnTo>
                <a:lnTo>
                  <a:pt x="514" y="62"/>
                </a:lnTo>
                <a:lnTo>
                  <a:pt x="493" y="66"/>
                </a:lnTo>
                <a:lnTo>
                  <a:pt x="472" y="69"/>
                </a:lnTo>
                <a:lnTo>
                  <a:pt x="453" y="74"/>
                </a:lnTo>
                <a:lnTo>
                  <a:pt x="433" y="79"/>
                </a:lnTo>
                <a:lnTo>
                  <a:pt x="413" y="85"/>
                </a:lnTo>
                <a:lnTo>
                  <a:pt x="395" y="92"/>
                </a:lnTo>
                <a:lnTo>
                  <a:pt x="377" y="100"/>
                </a:lnTo>
                <a:lnTo>
                  <a:pt x="359" y="108"/>
                </a:lnTo>
                <a:lnTo>
                  <a:pt x="341" y="117"/>
                </a:lnTo>
                <a:lnTo>
                  <a:pt x="324" y="128"/>
                </a:lnTo>
                <a:lnTo>
                  <a:pt x="307" y="138"/>
                </a:lnTo>
                <a:lnTo>
                  <a:pt x="291" y="150"/>
                </a:lnTo>
                <a:lnTo>
                  <a:pt x="276" y="162"/>
                </a:lnTo>
                <a:lnTo>
                  <a:pt x="261" y="175"/>
                </a:lnTo>
                <a:lnTo>
                  <a:pt x="248" y="190"/>
                </a:lnTo>
                <a:lnTo>
                  <a:pt x="235" y="204"/>
                </a:lnTo>
                <a:lnTo>
                  <a:pt x="222" y="220"/>
                </a:lnTo>
                <a:lnTo>
                  <a:pt x="211" y="236"/>
                </a:lnTo>
                <a:lnTo>
                  <a:pt x="200" y="252"/>
                </a:lnTo>
                <a:lnTo>
                  <a:pt x="191" y="269"/>
                </a:lnTo>
                <a:lnTo>
                  <a:pt x="182" y="288"/>
                </a:lnTo>
                <a:lnTo>
                  <a:pt x="175" y="307"/>
                </a:lnTo>
                <a:lnTo>
                  <a:pt x="168" y="326"/>
                </a:lnTo>
                <a:lnTo>
                  <a:pt x="162" y="347"/>
                </a:lnTo>
                <a:lnTo>
                  <a:pt x="155" y="388"/>
                </a:lnTo>
                <a:lnTo>
                  <a:pt x="152" y="428"/>
                </a:lnTo>
                <a:lnTo>
                  <a:pt x="154" y="469"/>
                </a:lnTo>
                <a:lnTo>
                  <a:pt x="160" y="509"/>
                </a:lnTo>
                <a:lnTo>
                  <a:pt x="172" y="548"/>
                </a:lnTo>
                <a:lnTo>
                  <a:pt x="185" y="585"/>
                </a:lnTo>
                <a:lnTo>
                  <a:pt x="205" y="622"/>
                </a:lnTo>
                <a:lnTo>
                  <a:pt x="227" y="656"/>
                </a:lnTo>
                <a:lnTo>
                  <a:pt x="233" y="669"/>
                </a:lnTo>
                <a:lnTo>
                  <a:pt x="235" y="685"/>
                </a:lnTo>
                <a:lnTo>
                  <a:pt x="233" y="703"/>
                </a:lnTo>
                <a:lnTo>
                  <a:pt x="228" y="721"/>
                </a:lnTo>
                <a:lnTo>
                  <a:pt x="221" y="739"/>
                </a:lnTo>
                <a:lnTo>
                  <a:pt x="212" y="754"/>
                </a:lnTo>
                <a:lnTo>
                  <a:pt x="200" y="768"/>
                </a:lnTo>
                <a:lnTo>
                  <a:pt x="188" y="777"/>
                </a:lnTo>
                <a:lnTo>
                  <a:pt x="174" y="785"/>
                </a:lnTo>
                <a:lnTo>
                  <a:pt x="160" y="793"/>
                </a:lnTo>
                <a:lnTo>
                  <a:pt x="147" y="802"/>
                </a:lnTo>
                <a:lnTo>
                  <a:pt x="135" y="811"/>
                </a:lnTo>
                <a:lnTo>
                  <a:pt x="122" y="820"/>
                </a:lnTo>
                <a:lnTo>
                  <a:pt x="111" y="830"/>
                </a:lnTo>
                <a:lnTo>
                  <a:pt x="99" y="841"/>
                </a:lnTo>
                <a:lnTo>
                  <a:pt x="88" y="851"/>
                </a:lnTo>
                <a:lnTo>
                  <a:pt x="76" y="864"/>
                </a:lnTo>
                <a:lnTo>
                  <a:pt x="66" y="876"/>
                </a:lnTo>
                <a:lnTo>
                  <a:pt x="56" y="890"/>
                </a:lnTo>
                <a:lnTo>
                  <a:pt x="47" y="903"/>
                </a:lnTo>
                <a:lnTo>
                  <a:pt x="39" y="918"/>
                </a:lnTo>
                <a:lnTo>
                  <a:pt x="31" y="933"/>
                </a:lnTo>
                <a:lnTo>
                  <a:pt x="24" y="948"/>
                </a:lnTo>
                <a:lnTo>
                  <a:pt x="18" y="963"/>
                </a:lnTo>
                <a:lnTo>
                  <a:pt x="10" y="987"/>
                </a:lnTo>
                <a:lnTo>
                  <a:pt x="5" y="1012"/>
                </a:lnTo>
                <a:lnTo>
                  <a:pt x="1" y="1039"/>
                </a:lnTo>
                <a:lnTo>
                  <a:pt x="0" y="1066"/>
                </a:lnTo>
                <a:lnTo>
                  <a:pt x="1" y="1089"/>
                </a:lnTo>
                <a:lnTo>
                  <a:pt x="3" y="1114"/>
                </a:lnTo>
                <a:lnTo>
                  <a:pt x="8" y="1137"/>
                </a:lnTo>
                <a:lnTo>
                  <a:pt x="15" y="1160"/>
                </a:lnTo>
                <a:lnTo>
                  <a:pt x="20" y="1174"/>
                </a:lnTo>
                <a:lnTo>
                  <a:pt x="24" y="1186"/>
                </a:lnTo>
                <a:lnTo>
                  <a:pt x="29" y="1199"/>
                </a:lnTo>
                <a:lnTo>
                  <a:pt x="35" y="1212"/>
                </a:lnTo>
                <a:lnTo>
                  <a:pt x="40" y="1224"/>
                </a:lnTo>
                <a:lnTo>
                  <a:pt x="47" y="1236"/>
                </a:lnTo>
                <a:lnTo>
                  <a:pt x="54" y="1247"/>
                </a:lnTo>
                <a:lnTo>
                  <a:pt x="62" y="1259"/>
                </a:lnTo>
                <a:lnTo>
                  <a:pt x="77" y="1278"/>
                </a:lnTo>
                <a:lnTo>
                  <a:pt x="92" y="1297"/>
                </a:lnTo>
                <a:lnTo>
                  <a:pt x="109" y="1315"/>
                </a:lnTo>
                <a:lnTo>
                  <a:pt x="128" y="1331"/>
                </a:lnTo>
                <a:lnTo>
                  <a:pt x="146" y="1346"/>
                </a:lnTo>
                <a:lnTo>
                  <a:pt x="167" y="1359"/>
                </a:lnTo>
                <a:lnTo>
                  <a:pt x="188" y="1370"/>
                </a:lnTo>
                <a:lnTo>
                  <a:pt x="210" y="1381"/>
                </a:lnTo>
                <a:lnTo>
                  <a:pt x="228" y="1388"/>
                </a:lnTo>
                <a:lnTo>
                  <a:pt x="248" y="1393"/>
                </a:lnTo>
                <a:lnTo>
                  <a:pt x="267" y="1398"/>
                </a:lnTo>
                <a:lnTo>
                  <a:pt x="288" y="1402"/>
                </a:lnTo>
                <a:lnTo>
                  <a:pt x="309" y="1404"/>
                </a:lnTo>
                <a:lnTo>
                  <a:pt x="329" y="1404"/>
                </a:lnTo>
                <a:lnTo>
                  <a:pt x="350" y="1403"/>
                </a:lnTo>
                <a:lnTo>
                  <a:pt x="372" y="1399"/>
                </a:lnTo>
                <a:lnTo>
                  <a:pt x="395" y="1395"/>
                </a:lnTo>
                <a:lnTo>
                  <a:pt x="416" y="1389"/>
                </a:lnTo>
                <a:lnTo>
                  <a:pt x="434" y="1383"/>
                </a:lnTo>
                <a:lnTo>
                  <a:pt x="450" y="1379"/>
                </a:lnTo>
                <a:lnTo>
                  <a:pt x="466" y="1374"/>
                </a:lnTo>
                <a:lnTo>
                  <a:pt x="481" y="1372"/>
                </a:lnTo>
                <a:lnTo>
                  <a:pt x="496" y="1372"/>
                </a:lnTo>
                <a:lnTo>
                  <a:pt x="512" y="1375"/>
                </a:lnTo>
                <a:lnTo>
                  <a:pt x="524" y="1408"/>
                </a:lnTo>
                <a:lnTo>
                  <a:pt x="535" y="1438"/>
                </a:lnTo>
                <a:lnTo>
                  <a:pt x="549" y="1466"/>
                </a:lnTo>
                <a:lnTo>
                  <a:pt x="563" y="1490"/>
                </a:lnTo>
                <a:lnTo>
                  <a:pt x="577" y="1512"/>
                </a:lnTo>
                <a:lnTo>
                  <a:pt x="593" y="1531"/>
                </a:lnTo>
                <a:lnTo>
                  <a:pt x="609" y="1549"/>
                </a:lnTo>
                <a:lnTo>
                  <a:pt x="626" y="1564"/>
                </a:lnTo>
                <a:lnTo>
                  <a:pt x="638" y="1572"/>
                </a:lnTo>
                <a:lnTo>
                  <a:pt x="648" y="1580"/>
                </a:lnTo>
                <a:lnTo>
                  <a:pt x="661" y="1588"/>
                </a:lnTo>
                <a:lnTo>
                  <a:pt x="673" y="1594"/>
                </a:lnTo>
                <a:lnTo>
                  <a:pt x="685" y="1601"/>
                </a:lnTo>
                <a:lnTo>
                  <a:pt x="698" y="1607"/>
                </a:lnTo>
                <a:lnTo>
                  <a:pt x="712" y="1611"/>
                </a:lnTo>
                <a:lnTo>
                  <a:pt x="726" y="1616"/>
                </a:lnTo>
                <a:lnTo>
                  <a:pt x="739" y="1620"/>
                </a:lnTo>
                <a:lnTo>
                  <a:pt x="754" y="1625"/>
                </a:lnTo>
                <a:lnTo>
                  <a:pt x="769" y="1630"/>
                </a:lnTo>
                <a:lnTo>
                  <a:pt x="785" y="1633"/>
                </a:lnTo>
                <a:lnTo>
                  <a:pt x="802" y="1636"/>
                </a:lnTo>
                <a:lnTo>
                  <a:pt x="818" y="1641"/>
                </a:lnTo>
                <a:lnTo>
                  <a:pt x="835" y="1645"/>
                </a:lnTo>
                <a:lnTo>
                  <a:pt x="852" y="1648"/>
                </a:lnTo>
                <a:lnTo>
                  <a:pt x="887" y="1654"/>
                </a:lnTo>
                <a:lnTo>
                  <a:pt x="921" y="1656"/>
                </a:lnTo>
                <a:lnTo>
                  <a:pt x="956" y="1656"/>
                </a:lnTo>
                <a:lnTo>
                  <a:pt x="989" y="1653"/>
                </a:lnTo>
                <a:lnTo>
                  <a:pt x="1021" y="1648"/>
                </a:lnTo>
                <a:lnTo>
                  <a:pt x="1053" y="1640"/>
                </a:lnTo>
                <a:lnTo>
                  <a:pt x="1083" y="1631"/>
                </a:lnTo>
                <a:lnTo>
                  <a:pt x="1112" y="1619"/>
                </a:lnTo>
                <a:lnTo>
                  <a:pt x="1140" y="1608"/>
                </a:lnTo>
                <a:lnTo>
                  <a:pt x="1167" y="1594"/>
                </a:lnTo>
                <a:lnTo>
                  <a:pt x="1192" y="1579"/>
                </a:lnTo>
                <a:lnTo>
                  <a:pt x="1216" y="1563"/>
                </a:lnTo>
                <a:lnTo>
                  <a:pt x="1238" y="1547"/>
                </a:lnTo>
                <a:lnTo>
                  <a:pt x="1259" y="1531"/>
                </a:lnTo>
                <a:lnTo>
                  <a:pt x="1277" y="1513"/>
                </a:lnTo>
                <a:lnTo>
                  <a:pt x="1294" y="1497"/>
                </a:lnTo>
                <a:lnTo>
                  <a:pt x="1309" y="1494"/>
                </a:lnTo>
                <a:lnTo>
                  <a:pt x="1323" y="1494"/>
                </a:lnTo>
                <a:lnTo>
                  <a:pt x="1338" y="1496"/>
                </a:lnTo>
                <a:lnTo>
                  <a:pt x="1353" y="1501"/>
                </a:lnTo>
                <a:lnTo>
                  <a:pt x="1367" y="1506"/>
                </a:lnTo>
                <a:lnTo>
                  <a:pt x="1382" y="1513"/>
                </a:lnTo>
                <a:lnTo>
                  <a:pt x="1398" y="1522"/>
                </a:lnTo>
                <a:lnTo>
                  <a:pt x="1413" y="1532"/>
                </a:lnTo>
                <a:lnTo>
                  <a:pt x="1428" y="1541"/>
                </a:lnTo>
                <a:lnTo>
                  <a:pt x="1444" y="1550"/>
                </a:lnTo>
                <a:lnTo>
                  <a:pt x="1460" y="1559"/>
                </a:lnTo>
                <a:lnTo>
                  <a:pt x="1478" y="1567"/>
                </a:lnTo>
                <a:lnTo>
                  <a:pt x="1495" y="1574"/>
                </a:lnTo>
                <a:lnTo>
                  <a:pt x="1512" y="1580"/>
                </a:lnTo>
                <a:lnTo>
                  <a:pt x="1529" y="1584"/>
                </a:lnTo>
                <a:lnTo>
                  <a:pt x="1548" y="1585"/>
                </a:lnTo>
                <a:lnTo>
                  <a:pt x="1564" y="1585"/>
                </a:lnTo>
                <a:lnTo>
                  <a:pt x="1579" y="1584"/>
                </a:lnTo>
                <a:lnTo>
                  <a:pt x="1594" y="1581"/>
                </a:lnTo>
                <a:lnTo>
                  <a:pt x="1609" y="1579"/>
                </a:lnTo>
                <a:lnTo>
                  <a:pt x="1624" y="1577"/>
                </a:lnTo>
                <a:lnTo>
                  <a:pt x="1639" y="1573"/>
                </a:lnTo>
                <a:lnTo>
                  <a:pt x="1653" y="1570"/>
                </a:lnTo>
                <a:lnTo>
                  <a:pt x="1668" y="1565"/>
                </a:lnTo>
                <a:lnTo>
                  <a:pt x="1681" y="1559"/>
                </a:lnTo>
                <a:lnTo>
                  <a:pt x="1694" y="1554"/>
                </a:lnTo>
                <a:lnTo>
                  <a:pt x="1708" y="1548"/>
                </a:lnTo>
                <a:lnTo>
                  <a:pt x="1721" y="1541"/>
                </a:lnTo>
                <a:lnTo>
                  <a:pt x="1733" y="1534"/>
                </a:lnTo>
                <a:lnTo>
                  <a:pt x="1746" y="1527"/>
                </a:lnTo>
                <a:lnTo>
                  <a:pt x="1759" y="1519"/>
                </a:lnTo>
                <a:lnTo>
                  <a:pt x="1770" y="1511"/>
                </a:lnTo>
                <a:lnTo>
                  <a:pt x="1801" y="1487"/>
                </a:lnTo>
                <a:lnTo>
                  <a:pt x="1829" y="1459"/>
                </a:lnTo>
                <a:lnTo>
                  <a:pt x="1854" y="1430"/>
                </a:lnTo>
                <a:lnTo>
                  <a:pt x="1876" y="1399"/>
                </a:lnTo>
                <a:lnTo>
                  <a:pt x="1896" y="1366"/>
                </a:lnTo>
                <a:lnTo>
                  <a:pt x="1912" y="1332"/>
                </a:lnTo>
                <a:lnTo>
                  <a:pt x="1923" y="1298"/>
                </a:lnTo>
                <a:lnTo>
                  <a:pt x="1932" y="1262"/>
                </a:lnTo>
                <a:lnTo>
                  <a:pt x="1937" y="1224"/>
                </a:lnTo>
                <a:lnTo>
                  <a:pt x="1936" y="1184"/>
                </a:lnTo>
                <a:lnTo>
                  <a:pt x="1931" y="1144"/>
                </a:lnTo>
                <a:lnTo>
                  <a:pt x="1924" y="1103"/>
                </a:lnTo>
                <a:lnTo>
                  <a:pt x="1919" y="1064"/>
                </a:lnTo>
                <a:lnTo>
                  <a:pt x="1914" y="1027"/>
                </a:lnTo>
                <a:lnTo>
                  <a:pt x="1914" y="993"/>
                </a:lnTo>
                <a:lnTo>
                  <a:pt x="1920" y="963"/>
                </a:lnTo>
                <a:lnTo>
                  <a:pt x="1950" y="941"/>
                </a:lnTo>
                <a:lnTo>
                  <a:pt x="1977" y="918"/>
                </a:lnTo>
                <a:lnTo>
                  <a:pt x="2003" y="895"/>
                </a:lnTo>
                <a:lnTo>
                  <a:pt x="2027" y="869"/>
                </a:lnTo>
                <a:lnTo>
                  <a:pt x="2050" y="843"/>
                </a:lnTo>
                <a:lnTo>
                  <a:pt x="2069" y="815"/>
                </a:lnTo>
                <a:lnTo>
                  <a:pt x="2088" y="787"/>
                </a:lnTo>
                <a:lnTo>
                  <a:pt x="2103" y="757"/>
                </a:lnTo>
                <a:close/>
              </a:path>
            </a:pathLst>
          </a:custGeom>
          <a:solidFill>
            <a:srgbClr val="d1ff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405"/>
          <p:cNvSpPr/>
          <p:nvPr/>
        </p:nvSpPr>
        <p:spPr>
          <a:xfrm>
            <a:off x="838080" y="3048120"/>
            <a:ext cx="1868760" cy="2361960"/>
          </a:xfrm>
          <a:custGeom>
            <a:avLst/>
            <a:gdLst>
              <a:gd name="textAreaLeft" fmla="*/ 0 w 1868760"/>
              <a:gd name="textAreaRight" fmla="*/ 1869120 w 1868760"/>
              <a:gd name="textAreaTop" fmla="*/ 0 h 2361960"/>
              <a:gd name="textAreaBottom" fmla="*/ 2362320 h 2361960"/>
            </a:gdLst>
            <a:ahLst/>
            <a:rect l="textAreaLeft" t="textAreaTop" r="textAreaRight" b="textAreaBottom"/>
            <a:pathLst>
              <a:path w="1225" h="1924">
                <a:moveTo>
                  <a:pt x="264" y="1218"/>
                </a:moveTo>
                <a:lnTo>
                  <a:pt x="239" y="1200"/>
                </a:lnTo>
                <a:lnTo>
                  <a:pt x="212" y="1194"/>
                </a:lnTo>
                <a:lnTo>
                  <a:pt x="185" y="1196"/>
                </a:lnTo>
                <a:lnTo>
                  <a:pt x="162" y="1199"/>
                </a:lnTo>
                <a:lnTo>
                  <a:pt x="142" y="1200"/>
                </a:lnTo>
                <a:lnTo>
                  <a:pt x="127" y="1196"/>
                </a:lnTo>
                <a:lnTo>
                  <a:pt x="119" y="1181"/>
                </a:lnTo>
                <a:lnTo>
                  <a:pt x="121" y="1151"/>
                </a:lnTo>
                <a:lnTo>
                  <a:pt x="115" y="1146"/>
                </a:lnTo>
                <a:lnTo>
                  <a:pt x="108" y="1141"/>
                </a:lnTo>
                <a:lnTo>
                  <a:pt x="100" y="1137"/>
                </a:lnTo>
                <a:lnTo>
                  <a:pt x="94" y="1132"/>
                </a:lnTo>
                <a:lnTo>
                  <a:pt x="88" y="1129"/>
                </a:lnTo>
                <a:lnTo>
                  <a:pt x="81" y="1124"/>
                </a:lnTo>
                <a:lnTo>
                  <a:pt x="77" y="1119"/>
                </a:lnTo>
                <a:lnTo>
                  <a:pt x="70" y="1114"/>
                </a:lnTo>
                <a:lnTo>
                  <a:pt x="83" y="1102"/>
                </a:lnTo>
                <a:lnTo>
                  <a:pt x="94" y="1090"/>
                </a:lnTo>
                <a:lnTo>
                  <a:pt x="102" y="1079"/>
                </a:lnTo>
                <a:lnTo>
                  <a:pt x="107" y="1062"/>
                </a:lnTo>
                <a:lnTo>
                  <a:pt x="97" y="1055"/>
                </a:lnTo>
                <a:lnTo>
                  <a:pt x="80" y="1049"/>
                </a:lnTo>
                <a:lnTo>
                  <a:pt x="57" y="1041"/>
                </a:lnTo>
                <a:lnTo>
                  <a:pt x="35" y="1035"/>
                </a:lnTo>
                <a:lnTo>
                  <a:pt x="14" y="1025"/>
                </a:lnTo>
                <a:lnTo>
                  <a:pt x="2" y="1013"/>
                </a:lnTo>
                <a:lnTo>
                  <a:pt x="0" y="997"/>
                </a:lnTo>
                <a:lnTo>
                  <a:pt x="11" y="976"/>
                </a:lnTo>
                <a:lnTo>
                  <a:pt x="22" y="971"/>
                </a:lnTo>
                <a:lnTo>
                  <a:pt x="34" y="966"/>
                </a:lnTo>
                <a:lnTo>
                  <a:pt x="45" y="960"/>
                </a:lnTo>
                <a:lnTo>
                  <a:pt x="54" y="952"/>
                </a:lnTo>
                <a:lnTo>
                  <a:pt x="51" y="946"/>
                </a:lnTo>
                <a:lnTo>
                  <a:pt x="49" y="939"/>
                </a:lnTo>
                <a:lnTo>
                  <a:pt x="49" y="933"/>
                </a:lnTo>
                <a:lnTo>
                  <a:pt x="49" y="920"/>
                </a:lnTo>
                <a:lnTo>
                  <a:pt x="64" y="914"/>
                </a:lnTo>
                <a:lnTo>
                  <a:pt x="78" y="907"/>
                </a:lnTo>
                <a:lnTo>
                  <a:pt x="91" y="901"/>
                </a:lnTo>
                <a:lnTo>
                  <a:pt x="105" y="892"/>
                </a:lnTo>
                <a:lnTo>
                  <a:pt x="116" y="882"/>
                </a:lnTo>
                <a:lnTo>
                  <a:pt x="126" y="871"/>
                </a:lnTo>
                <a:lnTo>
                  <a:pt x="132" y="857"/>
                </a:lnTo>
                <a:lnTo>
                  <a:pt x="137" y="842"/>
                </a:lnTo>
                <a:lnTo>
                  <a:pt x="124" y="831"/>
                </a:lnTo>
                <a:lnTo>
                  <a:pt x="119" y="823"/>
                </a:lnTo>
                <a:lnTo>
                  <a:pt x="118" y="817"/>
                </a:lnTo>
                <a:lnTo>
                  <a:pt x="123" y="812"/>
                </a:lnTo>
                <a:lnTo>
                  <a:pt x="129" y="807"/>
                </a:lnTo>
                <a:lnTo>
                  <a:pt x="139" y="801"/>
                </a:lnTo>
                <a:lnTo>
                  <a:pt x="150" y="793"/>
                </a:lnTo>
                <a:lnTo>
                  <a:pt x="159" y="783"/>
                </a:lnTo>
                <a:lnTo>
                  <a:pt x="143" y="771"/>
                </a:lnTo>
                <a:lnTo>
                  <a:pt x="127" y="760"/>
                </a:lnTo>
                <a:lnTo>
                  <a:pt x="115" y="750"/>
                </a:lnTo>
                <a:lnTo>
                  <a:pt x="102" y="739"/>
                </a:lnTo>
                <a:lnTo>
                  <a:pt x="91" y="729"/>
                </a:lnTo>
                <a:lnTo>
                  <a:pt x="81" y="717"/>
                </a:lnTo>
                <a:lnTo>
                  <a:pt x="73" y="701"/>
                </a:lnTo>
                <a:lnTo>
                  <a:pt x="67" y="682"/>
                </a:lnTo>
                <a:lnTo>
                  <a:pt x="86" y="670"/>
                </a:lnTo>
                <a:lnTo>
                  <a:pt x="108" y="661"/>
                </a:lnTo>
                <a:lnTo>
                  <a:pt x="131" y="650"/>
                </a:lnTo>
                <a:lnTo>
                  <a:pt x="154" y="639"/>
                </a:lnTo>
                <a:lnTo>
                  <a:pt x="175" y="624"/>
                </a:lnTo>
                <a:lnTo>
                  <a:pt x="193" y="608"/>
                </a:lnTo>
                <a:lnTo>
                  <a:pt x="204" y="591"/>
                </a:lnTo>
                <a:lnTo>
                  <a:pt x="209" y="569"/>
                </a:lnTo>
                <a:lnTo>
                  <a:pt x="201" y="562"/>
                </a:lnTo>
                <a:lnTo>
                  <a:pt x="193" y="559"/>
                </a:lnTo>
                <a:lnTo>
                  <a:pt x="182" y="554"/>
                </a:lnTo>
                <a:lnTo>
                  <a:pt x="164" y="546"/>
                </a:lnTo>
                <a:lnTo>
                  <a:pt x="162" y="545"/>
                </a:lnTo>
                <a:lnTo>
                  <a:pt x="162" y="541"/>
                </a:lnTo>
                <a:lnTo>
                  <a:pt x="162" y="540"/>
                </a:lnTo>
                <a:lnTo>
                  <a:pt x="162" y="538"/>
                </a:lnTo>
                <a:lnTo>
                  <a:pt x="172" y="530"/>
                </a:lnTo>
                <a:lnTo>
                  <a:pt x="178" y="522"/>
                </a:lnTo>
                <a:lnTo>
                  <a:pt x="183" y="514"/>
                </a:lnTo>
                <a:lnTo>
                  <a:pt x="186" y="503"/>
                </a:lnTo>
                <a:lnTo>
                  <a:pt x="178" y="502"/>
                </a:lnTo>
                <a:lnTo>
                  <a:pt x="169" y="500"/>
                </a:lnTo>
                <a:lnTo>
                  <a:pt x="158" y="499"/>
                </a:lnTo>
                <a:lnTo>
                  <a:pt x="147" y="495"/>
                </a:lnTo>
                <a:lnTo>
                  <a:pt x="135" y="494"/>
                </a:lnTo>
                <a:lnTo>
                  <a:pt x="124" y="492"/>
                </a:lnTo>
                <a:lnTo>
                  <a:pt x="118" y="491"/>
                </a:lnTo>
                <a:lnTo>
                  <a:pt x="113" y="489"/>
                </a:lnTo>
                <a:lnTo>
                  <a:pt x="113" y="486"/>
                </a:lnTo>
                <a:lnTo>
                  <a:pt x="113" y="484"/>
                </a:lnTo>
                <a:lnTo>
                  <a:pt x="113" y="481"/>
                </a:lnTo>
                <a:lnTo>
                  <a:pt x="113" y="479"/>
                </a:lnTo>
                <a:lnTo>
                  <a:pt x="140" y="460"/>
                </a:lnTo>
                <a:lnTo>
                  <a:pt x="172" y="448"/>
                </a:lnTo>
                <a:lnTo>
                  <a:pt x="207" y="438"/>
                </a:lnTo>
                <a:lnTo>
                  <a:pt x="242" y="430"/>
                </a:lnTo>
                <a:lnTo>
                  <a:pt x="274" y="419"/>
                </a:lnTo>
                <a:lnTo>
                  <a:pt x="301" y="405"/>
                </a:lnTo>
                <a:lnTo>
                  <a:pt x="320" y="382"/>
                </a:lnTo>
                <a:lnTo>
                  <a:pt x="328" y="349"/>
                </a:lnTo>
                <a:lnTo>
                  <a:pt x="602" y="577"/>
                </a:lnTo>
                <a:lnTo>
                  <a:pt x="602" y="583"/>
                </a:lnTo>
                <a:lnTo>
                  <a:pt x="602" y="588"/>
                </a:lnTo>
                <a:lnTo>
                  <a:pt x="602" y="594"/>
                </a:lnTo>
                <a:lnTo>
                  <a:pt x="602" y="600"/>
                </a:lnTo>
                <a:lnTo>
                  <a:pt x="608" y="605"/>
                </a:lnTo>
                <a:lnTo>
                  <a:pt x="614" y="608"/>
                </a:lnTo>
                <a:lnTo>
                  <a:pt x="621" y="613"/>
                </a:lnTo>
                <a:lnTo>
                  <a:pt x="627" y="618"/>
                </a:lnTo>
                <a:lnTo>
                  <a:pt x="625" y="612"/>
                </a:lnTo>
                <a:lnTo>
                  <a:pt x="624" y="605"/>
                </a:lnTo>
                <a:lnTo>
                  <a:pt x="622" y="600"/>
                </a:lnTo>
                <a:lnTo>
                  <a:pt x="621" y="594"/>
                </a:lnTo>
                <a:lnTo>
                  <a:pt x="629" y="592"/>
                </a:lnTo>
                <a:lnTo>
                  <a:pt x="637" y="591"/>
                </a:lnTo>
                <a:lnTo>
                  <a:pt x="645" y="591"/>
                </a:lnTo>
                <a:lnTo>
                  <a:pt x="653" y="589"/>
                </a:lnTo>
                <a:lnTo>
                  <a:pt x="653" y="578"/>
                </a:lnTo>
                <a:lnTo>
                  <a:pt x="654" y="567"/>
                </a:lnTo>
                <a:lnTo>
                  <a:pt x="657" y="557"/>
                </a:lnTo>
                <a:lnTo>
                  <a:pt x="665" y="551"/>
                </a:lnTo>
                <a:lnTo>
                  <a:pt x="662" y="549"/>
                </a:lnTo>
                <a:lnTo>
                  <a:pt x="657" y="546"/>
                </a:lnTo>
                <a:lnTo>
                  <a:pt x="653" y="545"/>
                </a:lnTo>
                <a:lnTo>
                  <a:pt x="649" y="543"/>
                </a:lnTo>
                <a:lnTo>
                  <a:pt x="646" y="537"/>
                </a:lnTo>
                <a:lnTo>
                  <a:pt x="641" y="530"/>
                </a:lnTo>
                <a:lnTo>
                  <a:pt x="637" y="526"/>
                </a:lnTo>
                <a:lnTo>
                  <a:pt x="632" y="519"/>
                </a:lnTo>
                <a:lnTo>
                  <a:pt x="627" y="524"/>
                </a:lnTo>
                <a:lnTo>
                  <a:pt x="622" y="532"/>
                </a:lnTo>
                <a:lnTo>
                  <a:pt x="619" y="540"/>
                </a:lnTo>
                <a:lnTo>
                  <a:pt x="618" y="551"/>
                </a:lnTo>
                <a:lnTo>
                  <a:pt x="622" y="549"/>
                </a:lnTo>
                <a:lnTo>
                  <a:pt x="627" y="549"/>
                </a:lnTo>
                <a:lnTo>
                  <a:pt x="632" y="549"/>
                </a:lnTo>
                <a:lnTo>
                  <a:pt x="637" y="549"/>
                </a:lnTo>
                <a:lnTo>
                  <a:pt x="638" y="554"/>
                </a:lnTo>
                <a:lnTo>
                  <a:pt x="638" y="561"/>
                </a:lnTo>
                <a:lnTo>
                  <a:pt x="640" y="565"/>
                </a:lnTo>
                <a:lnTo>
                  <a:pt x="640" y="572"/>
                </a:lnTo>
                <a:lnTo>
                  <a:pt x="629" y="584"/>
                </a:lnTo>
                <a:lnTo>
                  <a:pt x="619" y="588"/>
                </a:lnTo>
                <a:lnTo>
                  <a:pt x="610" y="584"/>
                </a:lnTo>
                <a:lnTo>
                  <a:pt x="602" y="577"/>
                </a:lnTo>
                <a:lnTo>
                  <a:pt x="328" y="349"/>
                </a:lnTo>
                <a:lnTo>
                  <a:pt x="344" y="346"/>
                </a:lnTo>
                <a:lnTo>
                  <a:pt x="353" y="343"/>
                </a:lnTo>
                <a:lnTo>
                  <a:pt x="361" y="335"/>
                </a:lnTo>
                <a:lnTo>
                  <a:pt x="374" y="322"/>
                </a:lnTo>
                <a:lnTo>
                  <a:pt x="366" y="312"/>
                </a:lnTo>
                <a:lnTo>
                  <a:pt x="357" y="304"/>
                </a:lnTo>
                <a:lnTo>
                  <a:pt x="350" y="296"/>
                </a:lnTo>
                <a:lnTo>
                  <a:pt x="347" y="288"/>
                </a:lnTo>
                <a:lnTo>
                  <a:pt x="360" y="281"/>
                </a:lnTo>
                <a:lnTo>
                  <a:pt x="377" y="274"/>
                </a:lnTo>
                <a:lnTo>
                  <a:pt x="398" y="269"/>
                </a:lnTo>
                <a:lnTo>
                  <a:pt x="422" y="265"/>
                </a:lnTo>
                <a:lnTo>
                  <a:pt x="446" y="261"/>
                </a:lnTo>
                <a:lnTo>
                  <a:pt x="470" y="257"/>
                </a:lnTo>
                <a:lnTo>
                  <a:pt x="492" y="250"/>
                </a:lnTo>
                <a:lnTo>
                  <a:pt x="511" y="242"/>
                </a:lnTo>
                <a:lnTo>
                  <a:pt x="503" y="226"/>
                </a:lnTo>
                <a:lnTo>
                  <a:pt x="512" y="212"/>
                </a:lnTo>
                <a:lnTo>
                  <a:pt x="532" y="199"/>
                </a:lnTo>
                <a:lnTo>
                  <a:pt x="555" y="187"/>
                </a:lnTo>
                <a:lnTo>
                  <a:pt x="578" y="172"/>
                </a:lnTo>
                <a:lnTo>
                  <a:pt x="594" y="158"/>
                </a:lnTo>
                <a:lnTo>
                  <a:pt x="598" y="140"/>
                </a:lnTo>
                <a:lnTo>
                  <a:pt x="586" y="118"/>
                </a:lnTo>
                <a:lnTo>
                  <a:pt x="586" y="115"/>
                </a:lnTo>
                <a:lnTo>
                  <a:pt x="586" y="112"/>
                </a:lnTo>
                <a:lnTo>
                  <a:pt x="586" y="110"/>
                </a:lnTo>
                <a:lnTo>
                  <a:pt x="586" y="107"/>
                </a:lnTo>
                <a:lnTo>
                  <a:pt x="592" y="102"/>
                </a:lnTo>
                <a:lnTo>
                  <a:pt x="598" y="98"/>
                </a:lnTo>
                <a:lnTo>
                  <a:pt x="605" y="93"/>
                </a:lnTo>
                <a:lnTo>
                  <a:pt x="611" y="88"/>
                </a:lnTo>
                <a:lnTo>
                  <a:pt x="616" y="83"/>
                </a:lnTo>
                <a:lnTo>
                  <a:pt x="622" y="78"/>
                </a:lnTo>
                <a:lnTo>
                  <a:pt x="629" y="75"/>
                </a:lnTo>
                <a:lnTo>
                  <a:pt x="635" y="70"/>
                </a:lnTo>
                <a:lnTo>
                  <a:pt x="635" y="66"/>
                </a:lnTo>
                <a:lnTo>
                  <a:pt x="635" y="61"/>
                </a:lnTo>
                <a:lnTo>
                  <a:pt x="635" y="56"/>
                </a:lnTo>
                <a:lnTo>
                  <a:pt x="635" y="51"/>
                </a:lnTo>
                <a:lnTo>
                  <a:pt x="624" y="45"/>
                </a:lnTo>
                <a:lnTo>
                  <a:pt x="614" y="39"/>
                </a:lnTo>
                <a:lnTo>
                  <a:pt x="608" y="32"/>
                </a:lnTo>
                <a:lnTo>
                  <a:pt x="602" y="24"/>
                </a:lnTo>
                <a:lnTo>
                  <a:pt x="624" y="15"/>
                </a:lnTo>
                <a:lnTo>
                  <a:pt x="648" y="7"/>
                </a:lnTo>
                <a:lnTo>
                  <a:pt x="672" y="2"/>
                </a:lnTo>
                <a:lnTo>
                  <a:pt x="697" y="0"/>
                </a:lnTo>
                <a:lnTo>
                  <a:pt x="723" y="0"/>
                </a:lnTo>
                <a:lnTo>
                  <a:pt x="746" y="5"/>
                </a:lnTo>
                <a:lnTo>
                  <a:pt x="770" y="13"/>
                </a:lnTo>
                <a:lnTo>
                  <a:pt x="793" y="24"/>
                </a:lnTo>
                <a:lnTo>
                  <a:pt x="791" y="42"/>
                </a:lnTo>
                <a:lnTo>
                  <a:pt x="786" y="58"/>
                </a:lnTo>
                <a:lnTo>
                  <a:pt x="783" y="74"/>
                </a:lnTo>
                <a:lnTo>
                  <a:pt x="783" y="94"/>
                </a:lnTo>
                <a:lnTo>
                  <a:pt x="802" y="101"/>
                </a:lnTo>
                <a:lnTo>
                  <a:pt x="820" y="104"/>
                </a:lnTo>
                <a:lnTo>
                  <a:pt x="839" y="102"/>
                </a:lnTo>
                <a:lnTo>
                  <a:pt x="858" y="102"/>
                </a:lnTo>
                <a:lnTo>
                  <a:pt x="875" y="102"/>
                </a:lnTo>
                <a:lnTo>
                  <a:pt x="893" y="104"/>
                </a:lnTo>
                <a:lnTo>
                  <a:pt x="910" y="112"/>
                </a:lnTo>
                <a:lnTo>
                  <a:pt x="926" y="126"/>
                </a:lnTo>
                <a:lnTo>
                  <a:pt x="907" y="163"/>
                </a:lnTo>
                <a:lnTo>
                  <a:pt x="901" y="187"/>
                </a:lnTo>
                <a:lnTo>
                  <a:pt x="906" y="203"/>
                </a:lnTo>
                <a:lnTo>
                  <a:pt x="917" y="214"/>
                </a:lnTo>
                <a:lnTo>
                  <a:pt x="931" y="225"/>
                </a:lnTo>
                <a:lnTo>
                  <a:pt x="947" y="239"/>
                </a:lnTo>
                <a:lnTo>
                  <a:pt x="960" y="261"/>
                </a:lnTo>
                <a:lnTo>
                  <a:pt x="966" y="293"/>
                </a:lnTo>
                <a:lnTo>
                  <a:pt x="980" y="301"/>
                </a:lnTo>
                <a:lnTo>
                  <a:pt x="991" y="304"/>
                </a:lnTo>
                <a:lnTo>
                  <a:pt x="999" y="306"/>
                </a:lnTo>
                <a:lnTo>
                  <a:pt x="1006" y="308"/>
                </a:lnTo>
                <a:lnTo>
                  <a:pt x="1011" y="311"/>
                </a:lnTo>
                <a:lnTo>
                  <a:pt x="1014" y="319"/>
                </a:lnTo>
                <a:lnTo>
                  <a:pt x="1017" y="333"/>
                </a:lnTo>
                <a:lnTo>
                  <a:pt x="1020" y="355"/>
                </a:lnTo>
                <a:lnTo>
                  <a:pt x="1069" y="365"/>
                </a:lnTo>
                <a:lnTo>
                  <a:pt x="1095" y="374"/>
                </a:lnTo>
                <a:lnTo>
                  <a:pt x="1104" y="384"/>
                </a:lnTo>
                <a:lnTo>
                  <a:pt x="1101" y="394"/>
                </a:lnTo>
                <a:lnTo>
                  <a:pt x="1088" y="408"/>
                </a:lnTo>
                <a:lnTo>
                  <a:pt x="1074" y="424"/>
                </a:lnTo>
                <a:lnTo>
                  <a:pt x="1061" y="444"/>
                </a:lnTo>
                <a:lnTo>
                  <a:pt x="1057" y="470"/>
                </a:lnTo>
                <a:lnTo>
                  <a:pt x="1063" y="475"/>
                </a:lnTo>
                <a:lnTo>
                  <a:pt x="1069" y="479"/>
                </a:lnTo>
                <a:lnTo>
                  <a:pt x="1074" y="484"/>
                </a:lnTo>
                <a:lnTo>
                  <a:pt x="1081" y="489"/>
                </a:lnTo>
                <a:lnTo>
                  <a:pt x="1077" y="500"/>
                </a:lnTo>
                <a:lnTo>
                  <a:pt x="1069" y="508"/>
                </a:lnTo>
                <a:lnTo>
                  <a:pt x="1061" y="519"/>
                </a:lnTo>
                <a:lnTo>
                  <a:pt x="1060" y="537"/>
                </a:lnTo>
                <a:lnTo>
                  <a:pt x="1090" y="551"/>
                </a:lnTo>
                <a:lnTo>
                  <a:pt x="1112" y="557"/>
                </a:lnTo>
                <a:lnTo>
                  <a:pt x="1128" y="561"/>
                </a:lnTo>
                <a:lnTo>
                  <a:pt x="1138" y="562"/>
                </a:lnTo>
                <a:lnTo>
                  <a:pt x="1143" y="569"/>
                </a:lnTo>
                <a:lnTo>
                  <a:pt x="1143" y="580"/>
                </a:lnTo>
                <a:lnTo>
                  <a:pt x="1139" y="602"/>
                </a:lnTo>
                <a:lnTo>
                  <a:pt x="1131" y="635"/>
                </a:lnTo>
                <a:lnTo>
                  <a:pt x="1139" y="637"/>
                </a:lnTo>
                <a:lnTo>
                  <a:pt x="1146" y="639"/>
                </a:lnTo>
                <a:lnTo>
                  <a:pt x="1154" y="640"/>
                </a:lnTo>
                <a:lnTo>
                  <a:pt x="1160" y="642"/>
                </a:lnTo>
                <a:lnTo>
                  <a:pt x="1168" y="645"/>
                </a:lnTo>
                <a:lnTo>
                  <a:pt x="1174" y="647"/>
                </a:lnTo>
                <a:lnTo>
                  <a:pt x="1182" y="651"/>
                </a:lnTo>
                <a:lnTo>
                  <a:pt x="1190" y="654"/>
                </a:lnTo>
                <a:lnTo>
                  <a:pt x="1189" y="667"/>
                </a:lnTo>
                <a:lnTo>
                  <a:pt x="1186" y="677"/>
                </a:lnTo>
                <a:lnTo>
                  <a:pt x="1179" y="685"/>
                </a:lnTo>
                <a:lnTo>
                  <a:pt x="1171" y="689"/>
                </a:lnTo>
                <a:lnTo>
                  <a:pt x="1162" y="693"/>
                </a:lnTo>
                <a:lnTo>
                  <a:pt x="1152" y="696"/>
                </a:lnTo>
                <a:lnTo>
                  <a:pt x="1141" y="699"/>
                </a:lnTo>
                <a:lnTo>
                  <a:pt x="1130" y="702"/>
                </a:lnTo>
                <a:lnTo>
                  <a:pt x="1128" y="705"/>
                </a:lnTo>
                <a:lnTo>
                  <a:pt x="1128" y="709"/>
                </a:lnTo>
                <a:lnTo>
                  <a:pt x="1127" y="712"/>
                </a:lnTo>
                <a:lnTo>
                  <a:pt x="1127" y="715"/>
                </a:lnTo>
                <a:lnTo>
                  <a:pt x="1131" y="720"/>
                </a:lnTo>
                <a:lnTo>
                  <a:pt x="1135" y="723"/>
                </a:lnTo>
                <a:lnTo>
                  <a:pt x="1135" y="729"/>
                </a:lnTo>
                <a:lnTo>
                  <a:pt x="1135" y="737"/>
                </a:lnTo>
                <a:lnTo>
                  <a:pt x="1119" y="740"/>
                </a:lnTo>
                <a:lnTo>
                  <a:pt x="1101" y="745"/>
                </a:lnTo>
                <a:lnTo>
                  <a:pt x="1082" y="750"/>
                </a:lnTo>
                <a:lnTo>
                  <a:pt x="1065" y="756"/>
                </a:lnTo>
                <a:lnTo>
                  <a:pt x="1049" y="764"/>
                </a:lnTo>
                <a:lnTo>
                  <a:pt x="1034" y="774"/>
                </a:lnTo>
                <a:lnTo>
                  <a:pt x="1025" y="787"/>
                </a:lnTo>
                <a:lnTo>
                  <a:pt x="1020" y="802"/>
                </a:lnTo>
                <a:lnTo>
                  <a:pt x="1038" y="802"/>
                </a:lnTo>
                <a:lnTo>
                  <a:pt x="1053" y="804"/>
                </a:lnTo>
                <a:lnTo>
                  <a:pt x="1069" y="804"/>
                </a:lnTo>
                <a:lnTo>
                  <a:pt x="1085" y="806"/>
                </a:lnTo>
                <a:lnTo>
                  <a:pt x="1101" y="809"/>
                </a:lnTo>
                <a:lnTo>
                  <a:pt x="1117" y="814"/>
                </a:lnTo>
                <a:lnTo>
                  <a:pt x="1133" y="820"/>
                </a:lnTo>
                <a:lnTo>
                  <a:pt x="1149" y="828"/>
                </a:lnTo>
                <a:lnTo>
                  <a:pt x="1149" y="833"/>
                </a:lnTo>
                <a:lnTo>
                  <a:pt x="1149" y="836"/>
                </a:lnTo>
                <a:lnTo>
                  <a:pt x="1149" y="841"/>
                </a:lnTo>
                <a:lnTo>
                  <a:pt x="1149" y="844"/>
                </a:lnTo>
                <a:lnTo>
                  <a:pt x="1135" y="850"/>
                </a:lnTo>
                <a:lnTo>
                  <a:pt x="1125" y="857"/>
                </a:lnTo>
                <a:lnTo>
                  <a:pt x="1119" y="865"/>
                </a:lnTo>
                <a:lnTo>
                  <a:pt x="1114" y="880"/>
                </a:lnTo>
                <a:lnTo>
                  <a:pt x="1124" y="887"/>
                </a:lnTo>
                <a:lnTo>
                  <a:pt x="1136" y="890"/>
                </a:lnTo>
                <a:lnTo>
                  <a:pt x="1151" y="893"/>
                </a:lnTo>
                <a:lnTo>
                  <a:pt x="1165" y="895"/>
                </a:lnTo>
                <a:lnTo>
                  <a:pt x="1181" y="900"/>
                </a:lnTo>
                <a:lnTo>
                  <a:pt x="1197" y="906"/>
                </a:lnTo>
                <a:lnTo>
                  <a:pt x="1213" y="917"/>
                </a:lnTo>
                <a:lnTo>
                  <a:pt x="1225" y="935"/>
                </a:lnTo>
                <a:lnTo>
                  <a:pt x="1216" y="939"/>
                </a:lnTo>
                <a:lnTo>
                  <a:pt x="1208" y="944"/>
                </a:lnTo>
                <a:lnTo>
                  <a:pt x="1200" y="952"/>
                </a:lnTo>
                <a:lnTo>
                  <a:pt x="1192" y="960"/>
                </a:lnTo>
                <a:lnTo>
                  <a:pt x="1186" y="970"/>
                </a:lnTo>
                <a:lnTo>
                  <a:pt x="1181" y="981"/>
                </a:lnTo>
                <a:lnTo>
                  <a:pt x="1178" y="990"/>
                </a:lnTo>
                <a:lnTo>
                  <a:pt x="1174" y="1000"/>
                </a:lnTo>
                <a:lnTo>
                  <a:pt x="1186" y="1006"/>
                </a:lnTo>
                <a:lnTo>
                  <a:pt x="1189" y="1016"/>
                </a:lnTo>
                <a:lnTo>
                  <a:pt x="1184" y="1027"/>
                </a:lnTo>
                <a:lnTo>
                  <a:pt x="1174" y="1038"/>
                </a:lnTo>
                <a:lnTo>
                  <a:pt x="1163" y="1049"/>
                </a:lnTo>
                <a:lnTo>
                  <a:pt x="1152" y="1060"/>
                </a:lnTo>
                <a:lnTo>
                  <a:pt x="1143" y="1071"/>
                </a:lnTo>
                <a:lnTo>
                  <a:pt x="1138" y="1079"/>
                </a:lnTo>
                <a:lnTo>
                  <a:pt x="1149" y="1078"/>
                </a:lnTo>
                <a:lnTo>
                  <a:pt x="1162" y="1078"/>
                </a:lnTo>
                <a:lnTo>
                  <a:pt x="1173" y="1078"/>
                </a:lnTo>
                <a:lnTo>
                  <a:pt x="1184" y="1078"/>
                </a:lnTo>
                <a:lnTo>
                  <a:pt x="1181" y="1092"/>
                </a:lnTo>
                <a:lnTo>
                  <a:pt x="1171" y="1105"/>
                </a:lnTo>
                <a:lnTo>
                  <a:pt x="1159" y="1116"/>
                </a:lnTo>
                <a:lnTo>
                  <a:pt x="1143" y="1127"/>
                </a:lnTo>
                <a:lnTo>
                  <a:pt x="1125" y="1137"/>
                </a:lnTo>
                <a:lnTo>
                  <a:pt x="1106" y="1146"/>
                </a:lnTo>
                <a:lnTo>
                  <a:pt x="1090" y="1156"/>
                </a:lnTo>
                <a:lnTo>
                  <a:pt x="1077" y="1164"/>
                </a:lnTo>
                <a:lnTo>
                  <a:pt x="1077" y="1167"/>
                </a:lnTo>
                <a:lnTo>
                  <a:pt x="1077" y="1170"/>
                </a:lnTo>
                <a:lnTo>
                  <a:pt x="1077" y="1173"/>
                </a:lnTo>
                <a:lnTo>
                  <a:pt x="1077" y="1176"/>
                </a:lnTo>
                <a:lnTo>
                  <a:pt x="1093" y="1180"/>
                </a:lnTo>
                <a:lnTo>
                  <a:pt x="1104" y="1184"/>
                </a:lnTo>
                <a:lnTo>
                  <a:pt x="1112" y="1189"/>
                </a:lnTo>
                <a:lnTo>
                  <a:pt x="1116" y="1196"/>
                </a:lnTo>
                <a:lnTo>
                  <a:pt x="1116" y="1205"/>
                </a:lnTo>
                <a:lnTo>
                  <a:pt x="1111" y="1215"/>
                </a:lnTo>
                <a:lnTo>
                  <a:pt x="1103" y="1226"/>
                </a:lnTo>
                <a:lnTo>
                  <a:pt x="1092" y="1240"/>
                </a:lnTo>
                <a:lnTo>
                  <a:pt x="1093" y="1251"/>
                </a:lnTo>
                <a:lnTo>
                  <a:pt x="1098" y="1261"/>
                </a:lnTo>
                <a:lnTo>
                  <a:pt x="1101" y="1273"/>
                </a:lnTo>
                <a:lnTo>
                  <a:pt x="1103" y="1288"/>
                </a:lnTo>
                <a:lnTo>
                  <a:pt x="1074" y="1308"/>
                </a:lnTo>
                <a:lnTo>
                  <a:pt x="1044" y="1318"/>
                </a:lnTo>
                <a:lnTo>
                  <a:pt x="1014" y="1320"/>
                </a:lnTo>
                <a:lnTo>
                  <a:pt x="983" y="1320"/>
                </a:lnTo>
                <a:lnTo>
                  <a:pt x="958" y="1323"/>
                </a:lnTo>
                <a:lnTo>
                  <a:pt x="941" y="1332"/>
                </a:lnTo>
                <a:lnTo>
                  <a:pt x="929" y="1355"/>
                </a:lnTo>
                <a:lnTo>
                  <a:pt x="929" y="1393"/>
                </a:lnTo>
                <a:lnTo>
                  <a:pt x="923" y="1401"/>
                </a:lnTo>
                <a:lnTo>
                  <a:pt x="918" y="1406"/>
                </a:lnTo>
                <a:lnTo>
                  <a:pt x="912" y="1410"/>
                </a:lnTo>
                <a:lnTo>
                  <a:pt x="902" y="1417"/>
                </a:lnTo>
                <a:lnTo>
                  <a:pt x="909" y="1434"/>
                </a:lnTo>
                <a:lnTo>
                  <a:pt x="910" y="1447"/>
                </a:lnTo>
                <a:lnTo>
                  <a:pt x="906" y="1456"/>
                </a:lnTo>
                <a:lnTo>
                  <a:pt x="898" y="1463"/>
                </a:lnTo>
                <a:lnTo>
                  <a:pt x="886" y="1466"/>
                </a:lnTo>
                <a:lnTo>
                  <a:pt x="874" y="1466"/>
                </a:lnTo>
                <a:lnTo>
                  <a:pt x="858" y="1463"/>
                </a:lnTo>
                <a:lnTo>
                  <a:pt x="840" y="1456"/>
                </a:lnTo>
                <a:lnTo>
                  <a:pt x="810" y="1456"/>
                </a:lnTo>
                <a:lnTo>
                  <a:pt x="781" y="1458"/>
                </a:lnTo>
                <a:lnTo>
                  <a:pt x="756" y="1461"/>
                </a:lnTo>
                <a:lnTo>
                  <a:pt x="732" y="1463"/>
                </a:lnTo>
                <a:lnTo>
                  <a:pt x="711" y="1464"/>
                </a:lnTo>
                <a:lnTo>
                  <a:pt x="695" y="1466"/>
                </a:lnTo>
                <a:lnTo>
                  <a:pt x="684" y="1468"/>
                </a:lnTo>
                <a:lnTo>
                  <a:pt x="680" y="1466"/>
                </a:lnTo>
                <a:lnTo>
                  <a:pt x="668" y="1495"/>
                </a:lnTo>
                <a:lnTo>
                  <a:pt x="670" y="1534"/>
                </a:lnTo>
                <a:lnTo>
                  <a:pt x="673" y="1587"/>
                </a:lnTo>
                <a:lnTo>
                  <a:pt x="673" y="1646"/>
                </a:lnTo>
                <a:lnTo>
                  <a:pt x="676" y="1703"/>
                </a:lnTo>
                <a:lnTo>
                  <a:pt x="681" y="1760"/>
                </a:lnTo>
                <a:lnTo>
                  <a:pt x="686" y="1818"/>
                </a:lnTo>
                <a:lnTo>
                  <a:pt x="691" y="1875"/>
                </a:lnTo>
                <a:lnTo>
                  <a:pt x="692" y="1877"/>
                </a:lnTo>
                <a:lnTo>
                  <a:pt x="694" y="1878"/>
                </a:lnTo>
                <a:lnTo>
                  <a:pt x="695" y="1880"/>
                </a:lnTo>
                <a:lnTo>
                  <a:pt x="697" y="1881"/>
                </a:lnTo>
                <a:lnTo>
                  <a:pt x="700" y="1883"/>
                </a:lnTo>
                <a:lnTo>
                  <a:pt x="707" y="1886"/>
                </a:lnTo>
                <a:lnTo>
                  <a:pt x="715" y="1891"/>
                </a:lnTo>
                <a:lnTo>
                  <a:pt x="724" y="1897"/>
                </a:lnTo>
                <a:lnTo>
                  <a:pt x="734" y="1905"/>
                </a:lnTo>
                <a:lnTo>
                  <a:pt x="743" y="1912"/>
                </a:lnTo>
                <a:lnTo>
                  <a:pt x="750" y="1916"/>
                </a:lnTo>
                <a:lnTo>
                  <a:pt x="754" y="1921"/>
                </a:lnTo>
                <a:lnTo>
                  <a:pt x="732" y="1918"/>
                </a:lnTo>
                <a:lnTo>
                  <a:pt x="711" y="1915"/>
                </a:lnTo>
                <a:lnTo>
                  <a:pt x="692" y="1913"/>
                </a:lnTo>
                <a:lnTo>
                  <a:pt x="675" y="1910"/>
                </a:lnTo>
                <a:lnTo>
                  <a:pt x="657" y="1908"/>
                </a:lnTo>
                <a:lnTo>
                  <a:pt x="638" y="1905"/>
                </a:lnTo>
                <a:lnTo>
                  <a:pt x="619" y="1900"/>
                </a:lnTo>
                <a:lnTo>
                  <a:pt x="597" y="1896"/>
                </a:lnTo>
                <a:lnTo>
                  <a:pt x="587" y="1896"/>
                </a:lnTo>
                <a:lnTo>
                  <a:pt x="578" y="1899"/>
                </a:lnTo>
                <a:lnTo>
                  <a:pt x="567" y="1902"/>
                </a:lnTo>
                <a:lnTo>
                  <a:pt x="555" y="1905"/>
                </a:lnTo>
                <a:lnTo>
                  <a:pt x="546" y="1910"/>
                </a:lnTo>
                <a:lnTo>
                  <a:pt x="536" y="1915"/>
                </a:lnTo>
                <a:lnTo>
                  <a:pt x="530" y="1920"/>
                </a:lnTo>
                <a:lnTo>
                  <a:pt x="525" y="1924"/>
                </a:lnTo>
                <a:lnTo>
                  <a:pt x="517" y="1923"/>
                </a:lnTo>
                <a:lnTo>
                  <a:pt x="511" y="1920"/>
                </a:lnTo>
                <a:lnTo>
                  <a:pt x="505" y="1915"/>
                </a:lnTo>
                <a:lnTo>
                  <a:pt x="498" y="1916"/>
                </a:lnTo>
                <a:lnTo>
                  <a:pt x="517" y="1894"/>
                </a:lnTo>
                <a:lnTo>
                  <a:pt x="535" y="1877"/>
                </a:lnTo>
                <a:lnTo>
                  <a:pt x="551" y="1862"/>
                </a:lnTo>
                <a:lnTo>
                  <a:pt x="562" y="1845"/>
                </a:lnTo>
                <a:lnTo>
                  <a:pt x="571" y="1822"/>
                </a:lnTo>
                <a:lnTo>
                  <a:pt x="578" y="1792"/>
                </a:lnTo>
                <a:lnTo>
                  <a:pt x="579" y="1749"/>
                </a:lnTo>
                <a:lnTo>
                  <a:pt x="578" y="1692"/>
                </a:lnTo>
                <a:lnTo>
                  <a:pt x="560" y="1493"/>
                </a:lnTo>
                <a:lnTo>
                  <a:pt x="540" y="1495"/>
                </a:lnTo>
                <a:lnTo>
                  <a:pt x="519" y="1498"/>
                </a:lnTo>
                <a:lnTo>
                  <a:pt x="500" y="1501"/>
                </a:lnTo>
                <a:lnTo>
                  <a:pt x="481" y="1504"/>
                </a:lnTo>
                <a:lnTo>
                  <a:pt x="462" y="1504"/>
                </a:lnTo>
                <a:lnTo>
                  <a:pt x="442" y="1504"/>
                </a:lnTo>
                <a:lnTo>
                  <a:pt x="425" y="1499"/>
                </a:lnTo>
                <a:lnTo>
                  <a:pt x="406" y="1493"/>
                </a:lnTo>
                <a:lnTo>
                  <a:pt x="406" y="1484"/>
                </a:lnTo>
                <a:lnTo>
                  <a:pt x="407" y="1477"/>
                </a:lnTo>
                <a:lnTo>
                  <a:pt x="409" y="1471"/>
                </a:lnTo>
                <a:lnTo>
                  <a:pt x="411" y="1463"/>
                </a:lnTo>
                <a:lnTo>
                  <a:pt x="379" y="1463"/>
                </a:lnTo>
                <a:lnTo>
                  <a:pt x="350" y="1464"/>
                </a:lnTo>
                <a:lnTo>
                  <a:pt x="326" y="1464"/>
                </a:lnTo>
                <a:lnTo>
                  <a:pt x="307" y="1463"/>
                </a:lnTo>
                <a:lnTo>
                  <a:pt x="291" y="1458"/>
                </a:lnTo>
                <a:lnTo>
                  <a:pt x="282" y="1447"/>
                </a:lnTo>
                <a:lnTo>
                  <a:pt x="274" y="1426"/>
                </a:lnTo>
                <a:lnTo>
                  <a:pt x="272" y="1398"/>
                </a:lnTo>
                <a:lnTo>
                  <a:pt x="220" y="1372"/>
                </a:lnTo>
                <a:lnTo>
                  <a:pt x="194" y="1351"/>
                </a:lnTo>
                <a:lnTo>
                  <a:pt x="189" y="1332"/>
                </a:lnTo>
                <a:lnTo>
                  <a:pt x="199" y="1313"/>
                </a:lnTo>
                <a:lnTo>
                  <a:pt x="218" y="1294"/>
                </a:lnTo>
                <a:lnTo>
                  <a:pt x="240" y="1272"/>
                </a:lnTo>
                <a:lnTo>
                  <a:pt x="256" y="1248"/>
                </a:lnTo>
                <a:lnTo>
                  <a:pt x="264" y="1218"/>
                </a:lnTo>
                <a:lnTo>
                  <a:pt x="428" y="1253"/>
                </a:lnTo>
                <a:lnTo>
                  <a:pt x="433" y="1264"/>
                </a:lnTo>
                <a:lnTo>
                  <a:pt x="442" y="1272"/>
                </a:lnTo>
                <a:lnTo>
                  <a:pt x="455" y="1280"/>
                </a:lnTo>
                <a:lnTo>
                  <a:pt x="471" y="1285"/>
                </a:lnTo>
                <a:lnTo>
                  <a:pt x="471" y="1277"/>
                </a:lnTo>
                <a:lnTo>
                  <a:pt x="471" y="1270"/>
                </a:lnTo>
                <a:lnTo>
                  <a:pt x="471" y="1262"/>
                </a:lnTo>
                <a:lnTo>
                  <a:pt x="473" y="1256"/>
                </a:lnTo>
                <a:lnTo>
                  <a:pt x="482" y="1256"/>
                </a:lnTo>
                <a:lnTo>
                  <a:pt x="492" y="1256"/>
                </a:lnTo>
                <a:lnTo>
                  <a:pt x="500" y="1256"/>
                </a:lnTo>
                <a:lnTo>
                  <a:pt x="509" y="1256"/>
                </a:lnTo>
                <a:lnTo>
                  <a:pt x="524" y="1277"/>
                </a:lnTo>
                <a:lnTo>
                  <a:pt x="525" y="1293"/>
                </a:lnTo>
                <a:lnTo>
                  <a:pt x="517" y="1305"/>
                </a:lnTo>
                <a:lnTo>
                  <a:pt x="505" y="1316"/>
                </a:lnTo>
                <a:lnTo>
                  <a:pt x="514" y="1318"/>
                </a:lnTo>
                <a:lnTo>
                  <a:pt x="524" y="1318"/>
                </a:lnTo>
                <a:lnTo>
                  <a:pt x="533" y="1320"/>
                </a:lnTo>
                <a:lnTo>
                  <a:pt x="541" y="1320"/>
                </a:lnTo>
                <a:lnTo>
                  <a:pt x="549" y="1312"/>
                </a:lnTo>
                <a:lnTo>
                  <a:pt x="557" y="1304"/>
                </a:lnTo>
                <a:lnTo>
                  <a:pt x="565" y="1297"/>
                </a:lnTo>
                <a:lnTo>
                  <a:pt x="573" y="1289"/>
                </a:lnTo>
                <a:lnTo>
                  <a:pt x="565" y="1289"/>
                </a:lnTo>
                <a:lnTo>
                  <a:pt x="555" y="1291"/>
                </a:lnTo>
                <a:lnTo>
                  <a:pt x="546" y="1291"/>
                </a:lnTo>
                <a:lnTo>
                  <a:pt x="536" y="1293"/>
                </a:lnTo>
                <a:lnTo>
                  <a:pt x="538" y="1280"/>
                </a:lnTo>
                <a:lnTo>
                  <a:pt x="538" y="1269"/>
                </a:lnTo>
                <a:lnTo>
                  <a:pt x="538" y="1256"/>
                </a:lnTo>
                <a:lnTo>
                  <a:pt x="538" y="1243"/>
                </a:lnTo>
                <a:lnTo>
                  <a:pt x="528" y="1242"/>
                </a:lnTo>
                <a:lnTo>
                  <a:pt x="520" y="1240"/>
                </a:lnTo>
                <a:lnTo>
                  <a:pt x="512" y="1238"/>
                </a:lnTo>
                <a:lnTo>
                  <a:pt x="505" y="1235"/>
                </a:lnTo>
                <a:lnTo>
                  <a:pt x="498" y="1231"/>
                </a:lnTo>
                <a:lnTo>
                  <a:pt x="492" y="1226"/>
                </a:lnTo>
                <a:lnTo>
                  <a:pt x="487" y="1219"/>
                </a:lnTo>
                <a:lnTo>
                  <a:pt x="484" y="1213"/>
                </a:lnTo>
                <a:lnTo>
                  <a:pt x="481" y="1219"/>
                </a:lnTo>
                <a:lnTo>
                  <a:pt x="476" y="1224"/>
                </a:lnTo>
                <a:lnTo>
                  <a:pt x="473" y="1229"/>
                </a:lnTo>
                <a:lnTo>
                  <a:pt x="468" y="1235"/>
                </a:lnTo>
                <a:lnTo>
                  <a:pt x="458" y="1240"/>
                </a:lnTo>
                <a:lnTo>
                  <a:pt x="449" y="1245"/>
                </a:lnTo>
                <a:lnTo>
                  <a:pt x="438" y="1250"/>
                </a:lnTo>
                <a:lnTo>
                  <a:pt x="428" y="1253"/>
                </a:lnTo>
                <a:lnTo>
                  <a:pt x="264" y="1218"/>
                </a:lnTo>
                <a:close/>
              </a:path>
            </a:pathLst>
          </a:custGeom>
          <a:solidFill>
            <a:srgbClr val="00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405"/>
          <p:cNvSpPr/>
          <p:nvPr/>
        </p:nvSpPr>
        <p:spPr>
          <a:xfrm>
            <a:off x="4648320" y="4114800"/>
            <a:ext cx="1563480" cy="2139840"/>
          </a:xfrm>
          <a:custGeom>
            <a:avLst/>
            <a:gdLst>
              <a:gd name="textAreaLeft" fmla="*/ 0 w 1563480"/>
              <a:gd name="textAreaRight" fmla="*/ 1563840 w 1563480"/>
              <a:gd name="textAreaTop" fmla="*/ 0 h 2139840"/>
              <a:gd name="textAreaBottom" fmla="*/ 2140200 h 2139840"/>
            </a:gdLst>
            <a:ahLst/>
            <a:rect l="textAreaLeft" t="textAreaTop" r="textAreaRight" b="textAreaBottom"/>
            <a:pathLst>
              <a:path w="1225" h="1924">
                <a:moveTo>
                  <a:pt x="264" y="1218"/>
                </a:moveTo>
                <a:lnTo>
                  <a:pt x="239" y="1200"/>
                </a:lnTo>
                <a:lnTo>
                  <a:pt x="212" y="1194"/>
                </a:lnTo>
                <a:lnTo>
                  <a:pt x="185" y="1196"/>
                </a:lnTo>
                <a:lnTo>
                  <a:pt x="162" y="1199"/>
                </a:lnTo>
                <a:lnTo>
                  <a:pt x="142" y="1200"/>
                </a:lnTo>
                <a:lnTo>
                  <a:pt x="127" y="1196"/>
                </a:lnTo>
                <a:lnTo>
                  <a:pt x="119" y="1181"/>
                </a:lnTo>
                <a:lnTo>
                  <a:pt x="121" y="1151"/>
                </a:lnTo>
                <a:lnTo>
                  <a:pt x="115" y="1146"/>
                </a:lnTo>
                <a:lnTo>
                  <a:pt x="108" y="1141"/>
                </a:lnTo>
                <a:lnTo>
                  <a:pt x="100" y="1137"/>
                </a:lnTo>
                <a:lnTo>
                  <a:pt x="94" y="1132"/>
                </a:lnTo>
                <a:lnTo>
                  <a:pt x="88" y="1129"/>
                </a:lnTo>
                <a:lnTo>
                  <a:pt x="81" y="1124"/>
                </a:lnTo>
                <a:lnTo>
                  <a:pt x="77" y="1119"/>
                </a:lnTo>
                <a:lnTo>
                  <a:pt x="70" y="1114"/>
                </a:lnTo>
                <a:lnTo>
                  <a:pt x="83" y="1102"/>
                </a:lnTo>
                <a:lnTo>
                  <a:pt x="94" y="1090"/>
                </a:lnTo>
                <a:lnTo>
                  <a:pt x="102" y="1079"/>
                </a:lnTo>
                <a:lnTo>
                  <a:pt x="107" y="1062"/>
                </a:lnTo>
                <a:lnTo>
                  <a:pt x="97" y="1055"/>
                </a:lnTo>
                <a:lnTo>
                  <a:pt x="80" y="1049"/>
                </a:lnTo>
                <a:lnTo>
                  <a:pt x="57" y="1041"/>
                </a:lnTo>
                <a:lnTo>
                  <a:pt x="35" y="1035"/>
                </a:lnTo>
                <a:lnTo>
                  <a:pt x="14" y="1025"/>
                </a:lnTo>
                <a:lnTo>
                  <a:pt x="2" y="1013"/>
                </a:lnTo>
                <a:lnTo>
                  <a:pt x="0" y="997"/>
                </a:lnTo>
                <a:lnTo>
                  <a:pt x="11" y="976"/>
                </a:lnTo>
                <a:lnTo>
                  <a:pt x="22" y="971"/>
                </a:lnTo>
                <a:lnTo>
                  <a:pt x="34" y="966"/>
                </a:lnTo>
                <a:lnTo>
                  <a:pt x="45" y="960"/>
                </a:lnTo>
                <a:lnTo>
                  <a:pt x="54" y="952"/>
                </a:lnTo>
                <a:lnTo>
                  <a:pt x="51" y="946"/>
                </a:lnTo>
                <a:lnTo>
                  <a:pt x="49" y="939"/>
                </a:lnTo>
                <a:lnTo>
                  <a:pt x="49" y="933"/>
                </a:lnTo>
                <a:lnTo>
                  <a:pt x="49" y="920"/>
                </a:lnTo>
                <a:lnTo>
                  <a:pt x="64" y="914"/>
                </a:lnTo>
                <a:lnTo>
                  <a:pt x="78" y="907"/>
                </a:lnTo>
                <a:lnTo>
                  <a:pt x="91" y="901"/>
                </a:lnTo>
                <a:lnTo>
                  <a:pt x="105" y="892"/>
                </a:lnTo>
                <a:lnTo>
                  <a:pt x="116" y="882"/>
                </a:lnTo>
                <a:lnTo>
                  <a:pt x="126" y="871"/>
                </a:lnTo>
                <a:lnTo>
                  <a:pt x="132" y="857"/>
                </a:lnTo>
                <a:lnTo>
                  <a:pt x="137" y="842"/>
                </a:lnTo>
                <a:lnTo>
                  <a:pt x="124" y="831"/>
                </a:lnTo>
                <a:lnTo>
                  <a:pt x="119" y="823"/>
                </a:lnTo>
                <a:lnTo>
                  <a:pt x="118" y="817"/>
                </a:lnTo>
                <a:lnTo>
                  <a:pt x="123" y="812"/>
                </a:lnTo>
                <a:lnTo>
                  <a:pt x="129" y="807"/>
                </a:lnTo>
                <a:lnTo>
                  <a:pt x="139" y="801"/>
                </a:lnTo>
                <a:lnTo>
                  <a:pt x="150" y="793"/>
                </a:lnTo>
                <a:lnTo>
                  <a:pt x="159" y="783"/>
                </a:lnTo>
                <a:lnTo>
                  <a:pt x="143" y="771"/>
                </a:lnTo>
                <a:lnTo>
                  <a:pt x="127" y="760"/>
                </a:lnTo>
                <a:lnTo>
                  <a:pt x="115" y="750"/>
                </a:lnTo>
                <a:lnTo>
                  <a:pt x="102" y="739"/>
                </a:lnTo>
                <a:lnTo>
                  <a:pt x="91" y="729"/>
                </a:lnTo>
                <a:lnTo>
                  <a:pt x="81" y="717"/>
                </a:lnTo>
                <a:lnTo>
                  <a:pt x="73" y="701"/>
                </a:lnTo>
                <a:lnTo>
                  <a:pt x="67" y="682"/>
                </a:lnTo>
                <a:lnTo>
                  <a:pt x="86" y="670"/>
                </a:lnTo>
                <a:lnTo>
                  <a:pt x="108" y="661"/>
                </a:lnTo>
                <a:lnTo>
                  <a:pt x="131" y="650"/>
                </a:lnTo>
                <a:lnTo>
                  <a:pt x="154" y="639"/>
                </a:lnTo>
                <a:lnTo>
                  <a:pt x="175" y="624"/>
                </a:lnTo>
                <a:lnTo>
                  <a:pt x="193" y="608"/>
                </a:lnTo>
                <a:lnTo>
                  <a:pt x="204" y="591"/>
                </a:lnTo>
                <a:lnTo>
                  <a:pt x="209" y="569"/>
                </a:lnTo>
                <a:lnTo>
                  <a:pt x="201" y="562"/>
                </a:lnTo>
                <a:lnTo>
                  <a:pt x="193" y="559"/>
                </a:lnTo>
                <a:lnTo>
                  <a:pt x="182" y="554"/>
                </a:lnTo>
                <a:lnTo>
                  <a:pt x="164" y="546"/>
                </a:lnTo>
                <a:lnTo>
                  <a:pt x="162" y="545"/>
                </a:lnTo>
                <a:lnTo>
                  <a:pt x="162" y="541"/>
                </a:lnTo>
                <a:lnTo>
                  <a:pt x="162" y="540"/>
                </a:lnTo>
                <a:lnTo>
                  <a:pt x="162" y="538"/>
                </a:lnTo>
                <a:lnTo>
                  <a:pt x="172" y="530"/>
                </a:lnTo>
                <a:lnTo>
                  <a:pt x="178" y="522"/>
                </a:lnTo>
                <a:lnTo>
                  <a:pt x="183" y="514"/>
                </a:lnTo>
                <a:lnTo>
                  <a:pt x="186" y="503"/>
                </a:lnTo>
                <a:lnTo>
                  <a:pt x="178" y="502"/>
                </a:lnTo>
                <a:lnTo>
                  <a:pt x="169" y="500"/>
                </a:lnTo>
                <a:lnTo>
                  <a:pt x="158" y="499"/>
                </a:lnTo>
                <a:lnTo>
                  <a:pt x="147" y="495"/>
                </a:lnTo>
                <a:lnTo>
                  <a:pt x="135" y="494"/>
                </a:lnTo>
                <a:lnTo>
                  <a:pt x="124" y="492"/>
                </a:lnTo>
                <a:lnTo>
                  <a:pt x="118" y="491"/>
                </a:lnTo>
                <a:lnTo>
                  <a:pt x="113" y="489"/>
                </a:lnTo>
                <a:lnTo>
                  <a:pt x="113" y="486"/>
                </a:lnTo>
                <a:lnTo>
                  <a:pt x="113" y="484"/>
                </a:lnTo>
                <a:lnTo>
                  <a:pt x="113" y="481"/>
                </a:lnTo>
                <a:lnTo>
                  <a:pt x="113" y="479"/>
                </a:lnTo>
                <a:lnTo>
                  <a:pt x="140" y="460"/>
                </a:lnTo>
                <a:lnTo>
                  <a:pt x="172" y="448"/>
                </a:lnTo>
                <a:lnTo>
                  <a:pt x="207" y="438"/>
                </a:lnTo>
                <a:lnTo>
                  <a:pt x="242" y="430"/>
                </a:lnTo>
                <a:lnTo>
                  <a:pt x="274" y="419"/>
                </a:lnTo>
                <a:lnTo>
                  <a:pt x="301" y="405"/>
                </a:lnTo>
                <a:lnTo>
                  <a:pt x="320" y="382"/>
                </a:lnTo>
                <a:lnTo>
                  <a:pt x="328" y="349"/>
                </a:lnTo>
                <a:lnTo>
                  <a:pt x="602" y="577"/>
                </a:lnTo>
                <a:lnTo>
                  <a:pt x="602" y="583"/>
                </a:lnTo>
                <a:lnTo>
                  <a:pt x="602" y="588"/>
                </a:lnTo>
                <a:lnTo>
                  <a:pt x="602" y="594"/>
                </a:lnTo>
                <a:lnTo>
                  <a:pt x="602" y="600"/>
                </a:lnTo>
                <a:lnTo>
                  <a:pt x="608" y="605"/>
                </a:lnTo>
                <a:lnTo>
                  <a:pt x="614" y="608"/>
                </a:lnTo>
                <a:lnTo>
                  <a:pt x="621" y="613"/>
                </a:lnTo>
                <a:lnTo>
                  <a:pt x="627" y="618"/>
                </a:lnTo>
                <a:lnTo>
                  <a:pt x="625" y="612"/>
                </a:lnTo>
                <a:lnTo>
                  <a:pt x="624" y="605"/>
                </a:lnTo>
                <a:lnTo>
                  <a:pt x="622" y="600"/>
                </a:lnTo>
                <a:lnTo>
                  <a:pt x="621" y="594"/>
                </a:lnTo>
                <a:lnTo>
                  <a:pt x="629" y="592"/>
                </a:lnTo>
                <a:lnTo>
                  <a:pt x="637" y="591"/>
                </a:lnTo>
                <a:lnTo>
                  <a:pt x="645" y="591"/>
                </a:lnTo>
                <a:lnTo>
                  <a:pt x="653" y="589"/>
                </a:lnTo>
                <a:lnTo>
                  <a:pt x="653" y="578"/>
                </a:lnTo>
                <a:lnTo>
                  <a:pt x="654" y="567"/>
                </a:lnTo>
                <a:lnTo>
                  <a:pt x="657" y="557"/>
                </a:lnTo>
                <a:lnTo>
                  <a:pt x="665" y="551"/>
                </a:lnTo>
                <a:lnTo>
                  <a:pt x="662" y="549"/>
                </a:lnTo>
                <a:lnTo>
                  <a:pt x="657" y="546"/>
                </a:lnTo>
                <a:lnTo>
                  <a:pt x="653" y="545"/>
                </a:lnTo>
                <a:lnTo>
                  <a:pt x="649" y="543"/>
                </a:lnTo>
                <a:lnTo>
                  <a:pt x="646" y="537"/>
                </a:lnTo>
                <a:lnTo>
                  <a:pt x="641" y="530"/>
                </a:lnTo>
                <a:lnTo>
                  <a:pt x="637" y="526"/>
                </a:lnTo>
                <a:lnTo>
                  <a:pt x="632" y="519"/>
                </a:lnTo>
                <a:lnTo>
                  <a:pt x="627" y="524"/>
                </a:lnTo>
                <a:lnTo>
                  <a:pt x="622" y="532"/>
                </a:lnTo>
                <a:lnTo>
                  <a:pt x="619" y="540"/>
                </a:lnTo>
                <a:lnTo>
                  <a:pt x="618" y="551"/>
                </a:lnTo>
                <a:lnTo>
                  <a:pt x="622" y="549"/>
                </a:lnTo>
                <a:lnTo>
                  <a:pt x="627" y="549"/>
                </a:lnTo>
                <a:lnTo>
                  <a:pt x="632" y="549"/>
                </a:lnTo>
                <a:lnTo>
                  <a:pt x="637" y="549"/>
                </a:lnTo>
                <a:lnTo>
                  <a:pt x="638" y="554"/>
                </a:lnTo>
                <a:lnTo>
                  <a:pt x="638" y="561"/>
                </a:lnTo>
                <a:lnTo>
                  <a:pt x="640" y="565"/>
                </a:lnTo>
                <a:lnTo>
                  <a:pt x="640" y="572"/>
                </a:lnTo>
                <a:lnTo>
                  <a:pt x="629" y="584"/>
                </a:lnTo>
                <a:lnTo>
                  <a:pt x="619" y="588"/>
                </a:lnTo>
                <a:lnTo>
                  <a:pt x="610" y="584"/>
                </a:lnTo>
                <a:lnTo>
                  <a:pt x="602" y="577"/>
                </a:lnTo>
                <a:lnTo>
                  <a:pt x="328" y="349"/>
                </a:lnTo>
                <a:lnTo>
                  <a:pt x="344" y="346"/>
                </a:lnTo>
                <a:lnTo>
                  <a:pt x="353" y="343"/>
                </a:lnTo>
                <a:lnTo>
                  <a:pt x="361" y="335"/>
                </a:lnTo>
                <a:lnTo>
                  <a:pt x="374" y="322"/>
                </a:lnTo>
                <a:lnTo>
                  <a:pt x="366" y="312"/>
                </a:lnTo>
                <a:lnTo>
                  <a:pt x="357" y="304"/>
                </a:lnTo>
                <a:lnTo>
                  <a:pt x="350" y="296"/>
                </a:lnTo>
                <a:lnTo>
                  <a:pt x="347" y="288"/>
                </a:lnTo>
                <a:lnTo>
                  <a:pt x="360" y="281"/>
                </a:lnTo>
                <a:lnTo>
                  <a:pt x="377" y="274"/>
                </a:lnTo>
                <a:lnTo>
                  <a:pt x="398" y="269"/>
                </a:lnTo>
                <a:lnTo>
                  <a:pt x="422" y="265"/>
                </a:lnTo>
                <a:lnTo>
                  <a:pt x="446" y="261"/>
                </a:lnTo>
                <a:lnTo>
                  <a:pt x="470" y="257"/>
                </a:lnTo>
                <a:lnTo>
                  <a:pt x="492" y="250"/>
                </a:lnTo>
                <a:lnTo>
                  <a:pt x="511" y="242"/>
                </a:lnTo>
                <a:lnTo>
                  <a:pt x="503" y="226"/>
                </a:lnTo>
                <a:lnTo>
                  <a:pt x="512" y="212"/>
                </a:lnTo>
                <a:lnTo>
                  <a:pt x="532" y="199"/>
                </a:lnTo>
                <a:lnTo>
                  <a:pt x="555" y="187"/>
                </a:lnTo>
                <a:lnTo>
                  <a:pt x="578" y="172"/>
                </a:lnTo>
                <a:lnTo>
                  <a:pt x="594" y="158"/>
                </a:lnTo>
                <a:lnTo>
                  <a:pt x="598" y="140"/>
                </a:lnTo>
                <a:lnTo>
                  <a:pt x="586" y="118"/>
                </a:lnTo>
                <a:lnTo>
                  <a:pt x="586" y="115"/>
                </a:lnTo>
                <a:lnTo>
                  <a:pt x="586" y="112"/>
                </a:lnTo>
                <a:lnTo>
                  <a:pt x="586" y="110"/>
                </a:lnTo>
                <a:lnTo>
                  <a:pt x="586" y="107"/>
                </a:lnTo>
                <a:lnTo>
                  <a:pt x="592" y="102"/>
                </a:lnTo>
                <a:lnTo>
                  <a:pt x="598" y="98"/>
                </a:lnTo>
                <a:lnTo>
                  <a:pt x="605" y="93"/>
                </a:lnTo>
                <a:lnTo>
                  <a:pt x="611" y="88"/>
                </a:lnTo>
                <a:lnTo>
                  <a:pt x="616" y="83"/>
                </a:lnTo>
                <a:lnTo>
                  <a:pt x="622" y="78"/>
                </a:lnTo>
                <a:lnTo>
                  <a:pt x="629" y="75"/>
                </a:lnTo>
                <a:lnTo>
                  <a:pt x="635" y="70"/>
                </a:lnTo>
                <a:lnTo>
                  <a:pt x="635" y="66"/>
                </a:lnTo>
                <a:lnTo>
                  <a:pt x="635" y="61"/>
                </a:lnTo>
                <a:lnTo>
                  <a:pt x="635" y="56"/>
                </a:lnTo>
                <a:lnTo>
                  <a:pt x="635" y="51"/>
                </a:lnTo>
                <a:lnTo>
                  <a:pt x="624" y="45"/>
                </a:lnTo>
                <a:lnTo>
                  <a:pt x="614" y="39"/>
                </a:lnTo>
                <a:lnTo>
                  <a:pt x="608" y="32"/>
                </a:lnTo>
                <a:lnTo>
                  <a:pt x="602" y="24"/>
                </a:lnTo>
                <a:lnTo>
                  <a:pt x="624" y="15"/>
                </a:lnTo>
                <a:lnTo>
                  <a:pt x="648" y="7"/>
                </a:lnTo>
                <a:lnTo>
                  <a:pt x="672" y="2"/>
                </a:lnTo>
                <a:lnTo>
                  <a:pt x="697" y="0"/>
                </a:lnTo>
                <a:lnTo>
                  <a:pt x="723" y="0"/>
                </a:lnTo>
                <a:lnTo>
                  <a:pt x="746" y="5"/>
                </a:lnTo>
                <a:lnTo>
                  <a:pt x="770" y="13"/>
                </a:lnTo>
                <a:lnTo>
                  <a:pt x="793" y="24"/>
                </a:lnTo>
                <a:lnTo>
                  <a:pt x="791" y="42"/>
                </a:lnTo>
                <a:lnTo>
                  <a:pt x="786" y="58"/>
                </a:lnTo>
                <a:lnTo>
                  <a:pt x="783" y="74"/>
                </a:lnTo>
                <a:lnTo>
                  <a:pt x="783" y="94"/>
                </a:lnTo>
                <a:lnTo>
                  <a:pt x="802" y="101"/>
                </a:lnTo>
                <a:lnTo>
                  <a:pt x="820" y="104"/>
                </a:lnTo>
                <a:lnTo>
                  <a:pt x="839" y="102"/>
                </a:lnTo>
                <a:lnTo>
                  <a:pt x="858" y="102"/>
                </a:lnTo>
                <a:lnTo>
                  <a:pt x="875" y="102"/>
                </a:lnTo>
                <a:lnTo>
                  <a:pt x="893" y="104"/>
                </a:lnTo>
                <a:lnTo>
                  <a:pt x="910" y="112"/>
                </a:lnTo>
                <a:lnTo>
                  <a:pt x="926" y="126"/>
                </a:lnTo>
                <a:lnTo>
                  <a:pt x="907" y="163"/>
                </a:lnTo>
                <a:lnTo>
                  <a:pt x="901" y="187"/>
                </a:lnTo>
                <a:lnTo>
                  <a:pt x="906" y="203"/>
                </a:lnTo>
                <a:lnTo>
                  <a:pt x="917" y="214"/>
                </a:lnTo>
                <a:lnTo>
                  <a:pt x="931" y="225"/>
                </a:lnTo>
                <a:lnTo>
                  <a:pt x="947" y="239"/>
                </a:lnTo>
                <a:lnTo>
                  <a:pt x="960" y="261"/>
                </a:lnTo>
                <a:lnTo>
                  <a:pt x="966" y="293"/>
                </a:lnTo>
                <a:lnTo>
                  <a:pt x="980" y="301"/>
                </a:lnTo>
                <a:lnTo>
                  <a:pt x="991" y="304"/>
                </a:lnTo>
                <a:lnTo>
                  <a:pt x="999" y="306"/>
                </a:lnTo>
                <a:lnTo>
                  <a:pt x="1006" y="308"/>
                </a:lnTo>
                <a:lnTo>
                  <a:pt x="1011" y="311"/>
                </a:lnTo>
                <a:lnTo>
                  <a:pt x="1014" y="319"/>
                </a:lnTo>
                <a:lnTo>
                  <a:pt x="1017" y="333"/>
                </a:lnTo>
                <a:lnTo>
                  <a:pt x="1020" y="355"/>
                </a:lnTo>
                <a:lnTo>
                  <a:pt x="1069" y="365"/>
                </a:lnTo>
                <a:lnTo>
                  <a:pt x="1095" y="374"/>
                </a:lnTo>
                <a:lnTo>
                  <a:pt x="1104" y="384"/>
                </a:lnTo>
                <a:lnTo>
                  <a:pt x="1101" y="394"/>
                </a:lnTo>
                <a:lnTo>
                  <a:pt x="1088" y="408"/>
                </a:lnTo>
                <a:lnTo>
                  <a:pt x="1074" y="424"/>
                </a:lnTo>
                <a:lnTo>
                  <a:pt x="1061" y="444"/>
                </a:lnTo>
                <a:lnTo>
                  <a:pt x="1057" y="470"/>
                </a:lnTo>
                <a:lnTo>
                  <a:pt x="1063" y="475"/>
                </a:lnTo>
                <a:lnTo>
                  <a:pt x="1069" y="479"/>
                </a:lnTo>
                <a:lnTo>
                  <a:pt x="1074" y="484"/>
                </a:lnTo>
                <a:lnTo>
                  <a:pt x="1081" y="489"/>
                </a:lnTo>
                <a:lnTo>
                  <a:pt x="1077" y="500"/>
                </a:lnTo>
                <a:lnTo>
                  <a:pt x="1069" y="508"/>
                </a:lnTo>
                <a:lnTo>
                  <a:pt x="1061" y="519"/>
                </a:lnTo>
                <a:lnTo>
                  <a:pt x="1060" y="537"/>
                </a:lnTo>
                <a:lnTo>
                  <a:pt x="1090" y="551"/>
                </a:lnTo>
                <a:lnTo>
                  <a:pt x="1112" y="557"/>
                </a:lnTo>
                <a:lnTo>
                  <a:pt x="1128" y="561"/>
                </a:lnTo>
                <a:lnTo>
                  <a:pt x="1138" y="562"/>
                </a:lnTo>
                <a:lnTo>
                  <a:pt x="1143" y="569"/>
                </a:lnTo>
                <a:lnTo>
                  <a:pt x="1143" y="580"/>
                </a:lnTo>
                <a:lnTo>
                  <a:pt x="1139" y="602"/>
                </a:lnTo>
                <a:lnTo>
                  <a:pt x="1131" y="635"/>
                </a:lnTo>
                <a:lnTo>
                  <a:pt x="1139" y="637"/>
                </a:lnTo>
                <a:lnTo>
                  <a:pt x="1146" y="639"/>
                </a:lnTo>
                <a:lnTo>
                  <a:pt x="1154" y="640"/>
                </a:lnTo>
                <a:lnTo>
                  <a:pt x="1160" y="642"/>
                </a:lnTo>
                <a:lnTo>
                  <a:pt x="1168" y="645"/>
                </a:lnTo>
                <a:lnTo>
                  <a:pt x="1174" y="647"/>
                </a:lnTo>
                <a:lnTo>
                  <a:pt x="1182" y="651"/>
                </a:lnTo>
                <a:lnTo>
                  <a:pt x="1190" y="654"/>
                </a:lnTo>
                <a:lnTo>
                  <a:pt x="1189" y="667"/>
                </a:lnTo>
                <a:lnTo>
                  <a:pt x="1186" y="677"/>
                </a:lnTo>
                <a:lnTo>
                  <a:pt x="1179" y="685"/>
                </a:lnTo>
                <a:lnTo>
                  <a:pt x="1171" y="689"/>
                </a:lnTo>
                <a:lnTo>
                  <a:pt x="1162" y="693"/>
                </a:lnTo>
                <a:lnTo>
                  <a:pt x="1152" y="696"/>
                </a:lnTo>
                <a:lnTo>
                  <a:pt x="1141" y="699"/>
                </a:lnTo>
                <a:lnTo>
                  <a:pt x="1130" y="702"/>
                </a:lnTo>
                <a:lnTo>
                  <a:pt x="1128" y="705"/>
                </a:lnTo>
                <a:lnTo>
                  <a:pt x="1128" y="709"/>
                </a:lnTo>
                <a:lnTo>
                  <a:pt x="1127" y="712"/>
                </a:lnTo>
                <a:lnTo>
                  <a:pt x="1127" y="715"/>
                </a:lnTo>
                <a:lnTo>
                  <a:pt x="1131" y="720"/>
                </a:lnTo>
                <a:lnTo>
                  <a:pt x="1135" y="723"/>
                </a:lnTo>
                <a:lnTo>
                  <a:pt x="1135" y="729"/>
                </a:lnTo>
                <a:lnTo>
                  <a:pt x="1135" y="737"/>
                </a:lnTo>
                <a:lnTo>
                  <a:pt x="1119" y="740"/>
                </a:lnTo>
                <a:lnTo>
                  <a:pt x="1101" y="745"/>
                </a:lnTo>
                <a:lnTo>
                  <a:pt x="1082" y="750"/>
                </a:lnTo>
                <a:lnTo>
                  <a:pt x="1065" y="756"/>
                </a:lnTo>
                <a:lnTo>
                  <a:pt x="1049" y="764"/>
                </a:lnTo>
                <a:lnTo>
                  <a:pt x="1034" y="774"/>
                </a:lnTo>
                <a:lnTo>
                  <a:pt x="1025" y="787"/>
                </a:lnTo>
                <a:lnTo>
                  <a:pt x="1020" y="802"/>
                </a:lnTo>
                <a:lnTo>
                  <a:pt x="1038" y="802"/>
                </a:lnTo>
                <a:lnTo>
                  <a:pt x="1053" y="804"/>
                </a:lnTo>
                <a:lnTo>
                  <a:pt x="1069" y="804"/>
                </a:lnTo>
                <a:lnTo>
                  <a:pt x="1085" y="806"/>
                </a:lnTo>
                <a:lnTo>
                  <a:pt x="1101" y="809"/>
                </a:lnTo>
                <a:lnTo>
                  <a:pt x="1117" y="814"/>
                </a:lnTo>
                <a:lnTo>
                  <a:pt x="1133" y="820"/>
                </a:lnTo>
                <a:lnTo>
                  <a:pt x="1149" y="828"/>
                </a:lnTo>
                <a:lnTo>
                  <a:pt x="1149" y="833"/>
                </a:lnTo>
                <a:lnTo>
                  <a:pt x="1149" y="836"/>
                </a:lnTo>
                <a:lnTo>
                  <a:pt x="1149" y="841"/>
                </a:lnTo>
                <a:lnTo>
                  <a:pt x="1149" y="844"/>
                </a:lnTo>
                <a:lnTo>
                  <a:pt x="1135" y="850"/>
                </a:lnTo>
                <a:lnTo>
                  <a:pt x="1125" y="857"/>
                </a:lnTo>
                <a:lnTo>
                  <a:pt x="1119" y="865"/>
                </a:lnTo>
                <a:lnTo>
                  <a:pt x="1114" y="880"/>
                </a:lnTo>
                <a:lnTo>
                  <a:pt x="1124" y="887"/>
                </a:lnTo>
                <a:lnTo>
                  <a:pt x="1136" y="890"/>
                </a:lnTo>
                <a:lnTo>
                  <a:pt x="1151" y="893"/>
                </a:lnTo>
                <a:lnTo>
                  <a:pt x="1165" y="895"/>
                </a:lnTo>
                <a:lnTo>
                  <a:pt x="1181" y="900"/>
                </a:lnTo>
                <a:lnTo>
                  <a:pt x="1197" y="906"/>
                </a:lnTo>
                <a:lnTo>
                  <a:pt x="1213" y="917"/>
                </a:lnTo>
                <a:lnTo>
                  <a:pt x="1225" y="935"/>
                </a:lnTo>
                <a:lnTo>
                  <a:pt x="1216" y="939"/>
                </a:lnTo>
                <a:lnTo>
                  <a:pt x="1208" y="944"/>
                </a:lnTo>
                <a:lnTo>
                  <a:pt x="1200" y="952"/>
                </a:lnTo>
                <a:lnTo>
                  <a:pt x="1192" y="960"/>
                </a:lnTo>
                <a:lnTo>
                  <a:pt x="1186" y="970"/>
                </a:lnTo>
                <a:lnTo>
                  <a:pt x="1181" y="981"/>
                </a:lnTo>
                <a:lnTo>
                  <a:pt x="1178" y="990"/>
                </a:lnTo>
                <a:lnTo>
                  <a:pt x="1174" y="1000"/>
                </a:lnTo>
                <a:lnTo>
                  <a:pt x="1186" y="1006"/>
                </a:lnTo>
                <a:lnTo>
                  <a:pt x="1189" y="1016"/>
                </a:lnTo>
                <a:lnTo>
                  <a:pt x="1184" y="1027"/>
                </a:lnTo>
                <a:lnTo>
                  <a:pt x="1174" y="1038"/>
                </a:lnTo>
                <a:lnTo>
                  <a:pt x="1163" y="1049"/>
                </a:lnTo>
                <a:lnTo>
                  <a:pt x="1152" y="1060"/>
                </a:lnTo>
                <a:lnTo>
                  <a:pt x="1143" y="1071"/>
                </a:lnTo>
                <a:lnTo>
                  <a:pt x="1138" y="1079"/>
                </a:lnTo>
                <a:lnTo>
                  <a:pt x="1149" y="1078"/>
                </a:lnTo>
                <a:lnTo>
                  <a:pt x="1162" y="1078"/>
                </a:lnTo>
                <a:lnTo>
                  <a:pt x="1173" y="1078"/>
                </a:lnTo>
                <a:lnTo>
                  <a:pt x="1184" y="1078"/>
                </a:lnTo>
                <a:lnTo>
                  <a:pt x="1181" y="1092"/>
                </a:lnTo>
                <a:lnTo>
                  <a:pt x="1171" y="1105"/>
                </a:lnTo>
                <a:lnTo>
                  <a:pt x="1159" y="1116"/>
                </a:lnTo>
                <a:lnTo>
                  <a:pt x="1143" y="1127"/>
                </a:lnTo>
                <a:lnTo>
                  <a:pt x="1125" y="1137"/>
                </a:lnTo>
                <a:lnTo>
                  <a:pt x="1106" y="1146"/>
                </a:lnTo>
                <a:lnTo>
                  <a:pt x="1090" y="1156"/>
                </a:lnTo>
                <a:lnTo>
                  <a:pt x="1077" y="1164"/>
                </a:lnTo>
                <a:lnTo>
                  <a:pt x="1077" y="1167"/>
                </a:lnTo>
                <a:lnTo>
                  <a:pt x="1077" y="1170"/>
                </a:lnTo>
                <a:lnTo>
                  <a:pt x="1077" y="1173"/>
                </a:lnTo>
                <a:lnTo>
                  <a:pt x="1077" y="1176"/>
                </a:lnTo>
                <a:lnTo>
                  <a:pt x="1093" y="1180"/>
                </a:lnTo>
                <a:lnTo>
                  <a:pt x="1104" y="1184"/>
                </a:lnTo>
                <a:lnTo>
                  <a:pt x="1112" y="1189"/>
                </a:lnTo>
                <a:lnTo>
                  <a:pt x="1116" y="1196"/>
                </a:lnTo>
                <a:lnTo>
                  <a:pt x="1116" y="1205"/>
                </a:lnTo>
                <a:lnTo>
                  <a:pt x="1111" y="1215"/>
                </a:lnTo>
                <a:lnTo>
                  <a:pt x="1103" y="1226"/>
                </a:lnTo>
                <a:lnTo>
                  <a:pt x="1092" y="1240"/>
                </a:lnTo>
                <a:lnTo>
                  <a:pt x="1093" y="1251"/>
                </a:lnTo>
                <a:lnTo>
                  <a:pt x="1098" y="1261"/>
                </a:lnTo>
                <a:lnTo>
                  <a:pt x="1101" y="1273"/>
                </a:lnTo>
                <a:lnTo>
                  <a:pt x="1103" y="1288"/>
                </a:lnTo>
                <a:lnTo>
                  <a:pt x="1074" y="1308"/>
                </a:lnTo>
                <a:lnTo>
                  <a:pt x="1044" y="1318"/>
                </a:lnTo>
                <a:lnTo>
                  <a:pt x="1014" y="1320"/>
                </a:lnTo>
                <a:lnTo>
                  <a:pt x="983" y="1320"/>
                </a:lnTo>
                <a:lnTo>
                  <a:pt x="958" y="1323"/>
                </a:lnTo>
                <a:lnTo>
                  <a:pt x="941" y="1332"/>
                </a:lnTo>
                <a:lnTo>
                  <a:pt x="929" y="1355"/>
                </a:lnTo>
                <a:lnTo>
                  <a:pt x="929" y="1393"/>
                </a:lnTo>
                <a:lnTo>
                  <a:pt x="923" y="1401"/>
                </a:lnTo>
                <a:lnTo>
                  <a:pt x="918" y="1406"/>
                </a:lnTo>
                <a:lnTo>
                  <a:pt x="912" y="1410"/>
                </a:lnTo>
                <a:lnTo>
                  <a:pt x="902" y="1417"/>
                </a:lnTo>
                <a:lnTo>
                  <a:pt x="909" y="1434"/>
                </a:lnTo>
                <a:lnTo>
                  <a:pt x="910" y="1447"/>
                </a:lnTo>
                <a:lnTo>
                  <a:pt x="906" y="1456"/>
                </a:lnTo>
                <a:lnTo>
                  <a:pt x="898" y="1463"/>
                </a:lnTo>
                <a:lnTo>
                  <a:pt x="886" y="1466"/>
                </a:lnTo>
                <a:lnTo>
                  <a:pt x="874" y="1466"/>
                </a:lnTo>
                <a:lnTo>
                  <a:pt x="858" y="1463"/>
                </a:lnTo>
                <a:lnTo>
                  <a:pt x="840" y="1456"/>
                </a:lnTo>
                <a:lnTo>
                  <a:pt x="810" y="1456"/>
                </a:lnTo>
                <a:lnTo>
                  <a:pt x="781" y="1458"/>
                </a:lnTo>
                <a:lnTo>
                  <a:pt x="756" y="1461"/>
                </a:lnTo>
                <a:lnTo>
                  <a:pt x="732" y="1463"/>
                </a:lnTo>
                <a:lnTo>
                  <a:pt x="711" y="1464"/>
                </a:lnTo>
                <a:lnTo>
                  <a:pt x="695" y="1466"/>
                </a:lnTo>
                <a:lnTo>
                  <a:pt x="684" y="1468"/>
                </a:lnTo>
                <a:lnTo>
                  <a:pt x="680" y="1466"/>
                </a:lnTo>
                <a:lnTo>
                  <a:pt x="668" y="1495"/>
                </a:lnTo>
                <a:lnTo>
                  <a:pt x="670" y="1534"/>
                </a:lnTo>
                <a:lnTo>
                  <a:pt x="673" y="1587"/>
                </a:lnTo>
                <a:lnTo>
                  <a:pt x="673" y="1646"/>
                </a:lnTo>
                <a:lnTo>
                  <a:pt x="676" y="1703"/>
                </a:lnTo>
                <a:lnTo>
                  <a:pt x="681" y="1760"/>
                </a:lnTo>
                <a:lnTo>
                  <a:pt x="686" y="1818"/>
                </a:lnTo>
                <a:lnTo>
                  <a:pt x="691" y="1875"/>
                </a:lnTo>
                <a:lnTo>
                  <a:pt x="692" y="1877"/>
                </a:lnTo>
                <a:lnTo>
                  <a:pt x="694" y="1878"/>
                </a:lnTo>
                <a:lnTo>
                  <a:pt x="695" y="1880"/>
                </a:lnTo>
                <a:lnTo>
                  <a:pt x="697" y="1881"/>
                </a:lnTo>
                <a:lnTo>
                  <a:pt x="700" y="1883"/>
                </a:lnTo>
                <a:lnTo>
                  <a:pt x="707" y="1886"/>
                </a:lnTo>
                <a:lnTo>
                  <a:pt x="715" y="1891"/>
                </a:lnTo>
                <a:lnTo>
                  <a:pt x="724" y="1897"/>
                </a:lnTo>
                <a:lnTo>
                  <a:pt x="734" y="1905"/>
                </a:lnTo>
                <a:lnTo>
                  <a:pt x="743" y="1912"/>
                </a:lnTo>
                <a:lnTo>
                  <a:pt x="750" y="1916"/>
                </a:lnTo>
                <a:lnTo>
                  <a:pt x="754" y="1921"/>
                </a:lnTo>
                <a:lnTo>
                  <a:pt x="732" y="1918"/>
                </a:lnTo>
                <a:lnTo>
                  <a:pt x="711" y="1915"/>
                </a:lnTo>
                <a:lnTo>
                  <a:pt x="692" y="1913"/>
                </a:lnTo>
                <a:lnTo>
                  <a:pt x="675" y="1910"/>
                </a:lnTo>
                <a:lnTo>
                  <a:pt x="657" y="1908"/>
                </a:lnTo>
                <a:lnTo>
                  <a:pt x="638" y="1905"/>
                </a:lnTo>
                <a:lnTo>
                  <a:pt x="619" y="1900"/>
                </a:lnTo>
                <a:lnTo>
                  <a:pt x="597" y="1896"/>
                </a:lnTo>
                <a:lnTo>
                  <a:pt x="587" y="1896"/>
                </a:lnTo>
                <a:lnTo>
                  <a:pt x="578" y="1899"/>
                </a:lnTo>
                <a:lnTo>
                  <a:pt x="567" y="1902"/>
                </a:lnTo>
                <a:lnTo>
                  <a:pt x="555" y="1905"/>
                </a:lnTo>
                <a:lnTo>
                  <a:pt x="546" y="1910"/>
                </a:lnTo>
                <a:lnTo>
                  <a:pt x="536" y="1915"/>
                </a:lnTo>
                <a:lnTo>
                  <a:pt x="530" y="1920"/>
                </a:lnTo>
                <a:lnTo>
                  <a:pt x="525" y="1924"/>
                </a:lnTo>
                <a:lnTo>
                  <a:pt x="517" y="1923"/>
                </a:lnTo>
                <a:lnTo>
                  <a:pt x="511" y="1920"/>
                </a:lnTo>
                <a:lnTo>
                  <a:pt x="505" y="1915"/>
                </a:lnTo>
                <a:lnTo>
                  <a:pt x="498" y="1916"/>
                </a:lnTo>
                <a:lnTo>
                  <a:pt x="517" y="1894"/>
                </a:lnTo>
                <a:lnTo>
                  <a:pt x="535" y="1877"/>
                </a:lnTo>
                <a:lnTo>
                  <a:pt x="551" y="1862"/>
                </a:lnTo>
                <a:lnTo>
                  <a:pt x="562" y="1845"/>
                </a:lnTo>
                <a:lnTo>
                  <a:pt x="571" y="1822"/>
                </a:lnTo>
                <a:lnTo>
                  <a:pt x="578" y="1792"/>
                </a:lnTo>
                <a:lnTo>
                  <a:pt x="579" y="1749"/>
                </a:lnTo>
                <a:lnTo>
                  <a:pt x="578" y="1692"/>
                </a:lnTo>
                <a:lnTo>
                  <a:pt x="560" y="1493"/>
                </a:lnTo>
                <a:lnTo>
                  <a:pt x="540" y="1495"/>
                </a:lnTo>
                <a:lnTo>
                  <a:pt x="519" y="1498"/>
                </a:lnTo>
                <a:lnTo>
                  <a:pt x="500" y="1501"/>
                </a:lnTo>
                <a:lnTo>
                  <a:pt x="481" y="1504"/>
                </a:lnTo>
                <a:lnTo>
                  <a:pt x="462" y="1504"/>
                </a:lnTo>
                <a:lnTo>
                  <a:pt x="442" y="1504"/>
                </a:lnTo>
                <a:lnTo>
                  <a:pt x="425" y="1499"/>
                </a:lnTo>
                <a:lnTo>
                  <a:pt x="406" y="1493"/>
                </a:lnTo>
                <a:lnTo>
                  <a:pt x="406" y="1484"/>
                </a:lnTo>
                <a:lnTo>
                  <a:pt x="407" y="1477"/>
                </a:lnTo>
                <a:lnTo>
                  <a:pt x="409" y="1471"/>
                </a:lnTo>
                <a:lnTo>
                  <a:pt x="411" y="1463"/>
                </a:lnTo>
                <a:lnTo>
                  <a:pt x="379" y="1463"/>
                </a:lnTo>
                <a:lnTo>
                  <a:pt x="350" y="1464"/>
                </a:lnTo>
                <a:lnTo>
                  <a:pt x="326" y="1464"/>
                </a:lnTo>
                <a:lnTo>
                  <a:pt x="307" y="1463"/>
                </a:lnTo>
                <a:lnTo>
                  <a:pt x="291" y="1458"/>
                </a:lnTo>
                <a:lnTo>
                  <a:pt x="282" y="1447"/>
                </a:lnTo>
                <a:lnTo>
                  <a:pt x="274" y="1426"/>
                </a:lnTo>
                <a:lnTo>
                  <a:pt x="272" y="1398"/>
                </a:lnTo>
                <a:lnTo>
                  <a:pt x="220" y="1372"/>
                </a:lnTo>
                <a:lnTo>
                  <a:pt x="194" y="1351"/>
                </a:lnTo>
                <a:lnTo>
                  <a:pt x="189" y="1332"/>
                </a:lnTo>
                <a:lnTo>
                  <a:pt x="199" y="1313"/>
                </a:lnTo>
                <a:lnTo>
                  <a:pt x="218" y="1294"/>
                </a:lnTo>
                <a:lnTo>
                  <a:pt x="240" y="1272"/>
                </a:lnTo>
                <a:lnTo>
                  <a:pt x="256" y="1248"/>
                </a:lnTo>
                <a:lnTo>
                  <a:pt x="264" y="1218"/>
                </a:lnTo>
                <a:lnTo>
                  <a:pt x="428" y="1253"/>
                </a:lnTo>
                <a:lnTo>
                  <a:pt x="433" y="1264"/>
                </a:lnTo>
                <a:lnTo>
                  <a:pt x="442" y="1272"/>
                </a:lnTo>
                <a:lnTo>
                  <a:pt x="455" y="1280"/>
                </a:lnTo>
                <a:lnTo>
                  <a:pt x="471" y="1285"/>
                </a:lnTo>
                <a:lnTo>
                  <a:pt x="471" y="1277"/>
                </a:lnTo>
                <a:lnTo>
                  <a:pt x="471" y="1270"/>
                </a:lnTo>
                <a:lnTo>
                  <a:pt x="471" y="1262"/>
                </a:lnTo>
                <a:lnTo>
                  <a:pt x="473" y="1256"/>
                </a:lnTo>
                <a:lnTo>
                  <a:pt x="482" y="1256"/>
                </a:lnTo>
                <a:lnTo>
                  <a:pt x="492" y="1256"/>
                </a:lnTo>
                <a:lnTo>
                  <a:pt x="500" y="1256"/>
                </a:lnTo>
                <a:lnTo>
                  <a:pt x="509" y="1256"/>
                </a:lnTo>
                <a:lnTo>
                  <a:pt x="524" y="1277"/>
                </a:lnTo>
                <a:lnTo>
                  <a:pt x="525" y="1293"/>
                </a:lnTo>
                <a:lnTo>
                  <a:pt x="517" y="1305"/>
                </a:lnTo>
                <a:lnTo>
                  <a:pt x="505" y="1316"/>
                </a:lnTo>
                <a:lnTo>
                  <a:pt x="514" y="1318"/>
                </a:lnTo>
                <a:lnTo>
                  <a:pt x="524" y="1318"/>
                </a:lnTo>
                <a:lnTo>
                  <a:pt x="533" y="1320"/>
                </a:lnTo>
                <a:lnTo>
                  <a:pt x="541" y="1320"/>
                </a:lnTo>
                <a:lnTo>
                  <a:pt x="549" y="1312"/>
                </a:lnTo>
                <a:lnTo>
                  <a:pt x="557" y="1304"/>
                </a:lnTo>
                <a:lnTo>
                  <a:pt x="565" y="1297"/>
                </a:lnTo>
                <a:lnTo>
                  <a:pt x="573" y="1289"/>
                </a:lnTo>
                <a:lnTo>
                  <a:pt x="565" y="1289"/>
                </a:lnTo>
                <a:lnTo>
                  <a:pt x="555" y="1291"/>
                </a:lnTo>
                <a:lnTo>
                  <a:pt x="546" y="1291"/>
                </a:lnTo>
                <a:lnTo>
                  <a:pt x="536" y="1293"/>
                </a:lnTo>
                <a:lnTo>
                  <a:pt x="538" y="1280"/>
                </a:lnTo>
                <a:lnTo>
                  <a:pt x="538" y="1269"/>
                </a:lnTo>
                <a:lnTo>
                  <a:pt x="538" y="1256"/>
                </a:lnTo>
                <a:lnTo>
                  <a:pt x="538" y="1243"/>
                </a:lnTo>
                <a:lnTo>
                  <a:pt x="528" y="1242"/>
                </a:lnTo>
                <a:lnTo>
                  <a:pt x="520" y="1240"/>
                </a:lnTo>
                <a:lnTo>
                  <a:pt x="512" y="1238"/>
                </a:lnTo>
                <a:lnTo>
                  <a:pt x="505" y="1235"/>
                </a:lnTo>
                <a:lnTo>
                  <a:pt x="498" y="1231"/>
                </a:lnTo>
                <a:lnTo>
                  <a:pt x="492" y="1226"/>
                </a:lnTo>
                <a:lnTo>
                  <a:pt x="487" y="1219"/>
                </a:lnTo>
                <a:lnTo>
                  <a:pt x="484" y="1213"/>
                </a:lnTo>
                <a:lnTo>
                  <a:pt x="481" y="1219"/>
                </a:lnTo>
                <a:lnTo>
                  <a:pt x="476" y="1224"/>
                </a:lnTo>
                <a:lnTo>
                  <a:pt x="473" y="1229"/>
                </a:lnTo>
                <a:lnTo>
                  <a:pt x="468" y="1235"/>
                </a:lnTo>
                <a:lnTo>
                  <a:pt x="458" y="1240"/>
                </a:lnTo>
                <a:lnTo>
                  <a:pt x="449" y="1245"/>
                </a:lnTo>
                <a:lnTo>
                  <a:pt x="438" y="1250"/>
                </a:lnTo>
                <a:lnTo>
                  <a:pt x="428" y="1253"/>
                </a:lnTo>
                <a:lnTo>
                  <a:pt x="264" y="1218"/>
                </a:lnTo>
                <a:close/>
              </a:path>
            </a:pathLst>
          </a:custGeom>
          <a:solidFill>
            <a:srgbClr val="00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AutoShape 498"/>
          <p:cNvSpPr/>
          <p:nvPr/>
        </p:nvSpPr>
        <p:spPr>
          <a:xfrm rot="20009400">
            <a:off x="4405320" y="2439720"/>
            <a:ext cx="3305160" cy="241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510"/>
          <p:cNvSpPr/>
          <p:nvPr/>
        </p:nvSpPr>
        <p:spPr>
          <a:xfrm rot="20009400">
            <a:off x="6284880" y="2669760"/>
            <a:ext cx="1111320" cy="1263600"/>
          </a:xfrm>
          <a:custGeom>
            <a:avLst/>
            <a:gdLst>
              <a:gd name="textAreaLeft" fmla="*/ 0 w 1111320"/>
              <a:gd name="textAreaRight" fmla="*/ 1111320 w 1111320"/>
              <a:gd name="textAreaTop" fmla="*/ 0 h 1263600"/>
              <a:gd name="textAreaBottom" fmla="*/ 1263960 h 1263600"/>
            </a:gdLst>
            <a:ahLst/>
            <a:rect l="textAreaLeft" t="textAreaTop" r="textAreaRight" b="textAreaBottom"/>
            <a:pathLst>
              <a:path w="770" h="841">
                <a:moveTo>
                  <a:pt x="0" y="1"/>
                </a:moveTo>
                <a:lnTo>
                  <a:pt x="9" y="32"/>
                </a:lnTo>
                <a:lnTo>
                  <a:pt x="20" y="63"/>
                </a:lnTo>
                <a:lnTo>
                  <a:pt x="30" y="93"/>
                </a:lnTo>
                <a:lnTo>
                  <a:pt x="43" y="123"/>
                </a:lnTo>
                <a:lnTo>
                  <a:pt x="57" y="152"/>
                </a:lnTo>
                <a:lnTo>
                  <a:pt x="72" y="181"/>
                </a:lnTo>
                <a:lnTo>
                  <a:pt x="88" y="209"/>
                </a:lnTo>
                <a:lnTo>
                  <a:pt x="105" y="237"/>
                </a:lnTo>
                <a:lnTo>
                  <a:pt x="122" y="264"/>
                </a:lnTo>
                <a:lnTo>
                  <a:pt x="141" y="290"/>
                </a:lnTo>
                <a:lnTo>
                  <a:pt x="160" y="317"/>
                </a:lnTo>
                <a:lnTo>
                  <a:pt x="180" y="342"/>
                </a:lnTo>
                <a:lnTo>
                  <a:pt x="201" y="366"/>
                </a:lnTo>
                <a:lnTo>
                  <a:pt x="223" y="390"/>
                </a:lnTo>
                <a:lnTo>
                  <a:pt x="244" y="413"/>
                </a:lnTo>
                <a:lnTo>
                  <a:pt x="267" y="436"/>
                </a:lnTo>
                <a:lnTo>
                  <a:pt x="296" y="464"/>
                </a:lnTo>
                <a:lnTo>
                  <a:pt x="325" y="493"/>
                </a:lnTo>
                <a:lnTo>
                  <a:pt x="354" y="520"/>
                </a:lnTo>
                <a:lnTo>
                  <a:pt x="384" y="548"/>
                </a:lnTo>
                <a:lnTo>
                  <a:pt x="413" y="576"/>
                </a:lnTo>
                <a:lnTo>
                  <a:pt x="442" y="602"/>
                </a:lnTo>
                <a:lnTo>
                  <a:pt x="471" y="629"/>
                </a:lnTo>
                <a:lnTo>
                  <a:pt x="502" y="654"/>
                </a:lnTo>
                <a:lnTo>
                  <a:pt x="532" y="681"/>
                </a:lnTo>
                <a:lnTo>
                  <a:pt x="563" y="705"/>
                </a:lnTo>
                <a:lnTo>
                  <a:pt x="594" y="729"/>
                </a:lnTo>
                <a:lnTo>
                  <a:pt x="627" y="753"/>
                </a:lnTo>
                <a:lnTo>
                  <a:pt x="659" y="776"/>
                </a:lnTo>
                <a:lnTo>
                  <a:pt x="692" y="798"/>
                </a:lnTo>
                <a:lnTo>
                  <a:pt x="726" y="820"/>
                </a:lnTo>
                <a:lnTo>
                  <a:pt x="760" y="841"/>
                </a:lnTo>
                <a:lnTo>
                  <a:pt x="765" y="841"/>
                </a:lnTo>
                <a:lnTo>
                  <a:pt x="768" y="836"/>
                </a:lnTo>
                <a:lnTo>
                  <a:pt x="770" y="831"/>
                </a:lnTo>
                <a:lnTo>
                  <a:pt x="768" y="827"/>
                </a:lnTo>
                <a:lnTo>
                  <a:pt x="742" y="806"/>
                </a:lnTo>
                <a:lnTo>
                  <a:pt x="714" y="785"/>
                </a:lnTo>
                <a:lnTo>
                  <a:pt x="687" y="765"/>
                </a:lnTo>
                <a:lnTo>
                  <a:pt x="659" y="744"/>
                </a:lnTo>
                <a:lnTo>
                  <a:pt x="630" y="722"/>
                </a:lnTo>
                <a:lnTo>
                  <a:pt x="603" y="701"/>
                </a:lnTo>
                <a:lnTo>
                  <a:pt x="574" y="679"/>
                </a:lnTo>
                <a:lnTo>
                  <a:pt x="546" y="657"/>
                </a:lnTo>
                <a:lnTo>
                  <a:pt x="518" y="636"/>
                </a:lnTo>
                <a:lnTo>
                  <a:pt x="490" y="614"/>
                </a:lnTo>
                <a:lnTo>
                  <a:pt x="462" y="591"/>
                </a:lnTo>
                <a:lnTo>
                  <a:pt x="434" y="568"/>
                </a:lnTo>
                <a:lnTo>
                  <a:pt x="407" y="545"/>
                </a:lnTo>
                <a:lnTo>
                  <a:pt x="380" y="520"/>
                </a:lnTo>
                <a:lnTo>
                  <a:pt x="354" y="496"/>
                </a:lnTo>
                <a:lnTo>
                  <a:pt x="327" y="472"/>
                </a:lnTo>
                <a:lnTo>
                  <a:pt x="301" y="447"/>
                </a:lnTo>
                <a:lnTo>
                  <a:pt x="275" y="421"/>
                </a:lnTo>
                <a:lnTo>
                  <a:pt x="250" y="396"/>
                </a:lnTo>
                <a:lnTo>
                  <a:pt x="226" y="370"/>
                </a:lnTo>
                <a:lnTo>
                  <a:pt x="203" y="342"/>
                </a:lnTo>
                <a:lnTo>
                  <a:pt x="180" y="314"/>
                </a:lnTo>
                <a:lnTo>
                  <a:pt x="158" y="285"/>
                </a:lnTo>
                <a:lnTo>
                  <a:pt x="136" y="257"/>
                </a:lnTo>
                <a:lnTo>
                  <a:pt x="115" y="228"/>
                </a:lnTo>
                <a:lnTo>
                  <a:pt x="96" y="197"/>
                </a:lnTo>
                <a:lnTo>
                  <a:pt x="77" y="166"/>
                </a:lnTo>
                <a:lnTo>
                  <a:pt x="60" y="135"/>
                </a:lnTo>
                <a:lnTo>
                  <a:pt x="43" y="102"/>
                </a:lnTo>
                <a:lnTo>
                  <a:pt x="28" y="69"/>
                </a:lnTo>
                <a:lnTo>
                  <a:pt x="13" y="34"/>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Group 518"/>
          <p:cNvGrpSpPr/>
          <p:nvPr/>
        </p:nvGrpSpPr>
        <p:grpSpPr>
          <a:xfrm>
            <a:off x="5491080" y="2534040"/>
            <a:ext cx="2495160" cy="2503800"/>
            <a:chOff x="5491080" y="2534040"/>
            <a:chExt cx="2495160" cy="2503800"/>
          </a:xfrm>
        </p:grpSpPr>
        <p:sp>
          <p:nvSpPr>
            <p:cNvPr id="156" name="Freeform 500"/>
            <p:cNvSpPr/>
            <p:nvPr/>
          </p:nvSpPr>
          <p:spPr>
            <a:xfrm rot="20009400">
              <a:off x="5868360" y="2811240"/>
              <a:ext cx="1683720" cy="1871640"/>
            </a:xfrm>
            <a:custGeom>
              <a:avLst/>
              <a:gdLst>
                <a:gd name="textAreaLeft" fmla="*/ 0 w 1683720"/>
                <a:gd name="textAreaRight" fmla="*/ 1684080 w 1683720"/>
                <a:gd name="textAreaTop" fmla="*/ 0 h 1871640"/>
                <a:gd name="textAreaBottom" fmla="*/ 1872000 h 1871640"/>
              </a:gdLst>
              <a:ahLst/>
              <a:rect l="textAreaLeft" t="textAreaTop" r="textAreaRight" b="textAreaBottom"/>
              <a:pathLst>
                <a:path w="1164" h="1244">
                  <a:moveTo>
                    <a:pt x="235" y="53"/>
                  </a:moveTo>
                  <a:lnTo>
                    <a:pt x="265" y="108"/>
                  </a:lnTo>
                  <a:lnTo>
                    <a:pt x="263" y="108"/>
                  </a:lnTo>
                  <a:lnTo>
                    <a:pt x="256" y="111"/>
                  </a:lnTo>
                  <a:lnTo>
                    <a:pt x="246" y="114"/>
                  </a:lnTo>
                  <a:lnTo>
                    <a:pt x="235" y="120"/>
                  </a:lnTo>
                  <a:lnTo>
                    <a:pt x="224" y="129"/>
                  </a:lnTo>
                  <a:lnTo>
                    <a:pt x="213" y="143"/>
                  </a:lnTo>
                  <a:lnTo>
                    <a:pt x="207" y="161"/>
                  </a:lnTo>
                  <a:lnTo>
                    <a:pt x="204" y="185"/>
                  </a:lnTo>
                  <a:lnTo>
                    <a:pt x="205" y="189"/>
                  </a:lnTo>
                  <a:lnTo>
                    <a:pt x="211" y="197"/>
                  </a:lnTo>
                  <a:lnTo>
                    <a:pt x="218" y="209"/>
                  </a:lnTo>
                  <a:lnTo>
                    <a:pt x="230" y="220"/>
                  </a:lnTo>
                  <a:lnTo>
                    <a:pt x="243" y="229"/>
                  </a:lnTo>
                  <a:lnTo>
                    <a:pt x="260" y="234"/>
                  </a:lnTo>
                  <a:lnTo>
                    <a:pt x="278" y="233"/>
                  </a:lnTo>
                  <a:lnTo>
                    <a:pt x="299" y="221"/>
                  </a:lnTo>
                  <a:lnTo>
                    <a:pt x="303" y="219"/>
                  </a:lnTo>
                  <a:lnTo>
                    <a:pt x="316" y="211"/>
                  </a:lnTo>
                  <a:lnTo>
                    <a:pt x="330" y="198"/>
                  </a:lnTo>
                  <a:lnTo>
                    <a:pt x="341" y="182"/>
                  </a:lnTo>
                  <a:lnTo>
                    <a:pt x="347" y="164"/>
                  </a:lnTo>
                  <a:lnTo>
                    <a:pt x="340" y="142"/>
                  </a:lnTo>
                  <a:lnTo>
                    <a:pt x="318" y="118"/>
                  </a:lnTo>
                  <a:lnTo>
                    <a:pt x="276" y="92"/>
                  </a:lnTo>
                  <a:lnTo>
                    <a:pt x="256" y="40"/>
                  </a:lnTo>
                  <a:lnTo>
                    <a:pt x="260" y="38"/>
                  </a:lnTo>
                  <a:lnTo>
                    <a:pt x="271" y="35"/>
                  </a:lnTo>
                  <a:lnTo>
                    <a:pt x="289" y="28"/>
                  </a:lnTo>
                  <a:lnTo>
                    <a:pt x="311" y="20"/>
                  </a:lnTo>
                  <a:lnTo>
                    <a:pt x="339" y="13"/>
                  </a:lnTo>
                  <a:lnTo>
                    <a:pt x="368" y="6"/>
                  </a:lnTo>
                  <a:lnTo>
                    <a:pt x="400" y="2"/>
                  </a:lnTo>
                  <a:lnTo>
                    <a:pt x="432" y="0"/>
                  </a:lnTo>
                  <a:lnTo>
                    <a:pt x="433" y="5"/>
                  </a:lnTo>
                  <a:lnTo>
                    <a:pt x="436" y="17"/>
                  </a:lnTo>
                  <a:lnTo>
                    <a:pt x="443" y="37"/>
                  </a:lnTo>
                  <a:lnTo>
                    <a:pt x="452" y="66"/>
                  </a:lnTo>
                  <a:lnTo>
                    <a:pt x="467" y="99"/>
                  </a:lnTo>
                  <a:lnTo>
                    <a:pt x="486" y="141"/>
                  </a:lnTo>
                  <a:lnTo>
                    <a:pt x="513" y="187"/>
                  </a:lnTo>
                  <a:lnTo>
                    <a:pt x="546" y="238"/>
                  </a:lnTo>
                  <a:lnTo>
                    <a:pt x="587" y="295"/>
                  </a:lnTo>
                  <a:lnTo>
                    <a:pt x="636" y="355"/>
                  </a:lnTo>
                  <a:lnTo>
                    <a:pt x="696" y="419"/>
                  </a:lnTo>
                  <a:lnTo>
                    <a:pt x="765" y="487"/>
                  </a:lnTo>
                  <a:lnTo>
                    <a:pt x="847" y="556"/>
                  </a:lnTo>
                  <a:lnTo>
                    <a:pt x="939" y="629"/>
                  </a:lnTo>
                  <a:lnTo>
                    <a:pt x="1045" y="703"/>
                  </a:lnTo>
                  <a:lnTo>
                    <a:pt x="1164" y="778"/>
                  </a:lnTo>
                  <a:lnTo>
                    <a:pt x="1160" y="780"/>
                  </a:lnTo>
                  <a:lnTo>
                    <a:pt x="1150" y="786"/>
                  </a:lnTo>
                  <a:lnTo>
                    <a:pt x="1134" y="795"/>
                  </a:lnTo>
                  <a:lnTo>
                    <a:pt x="1113" y="809"/>
                  </a:lnTo>
                  <a:lnTo>
                    <a:pt x="1086" y="826"/>
                  </a:lnTo>
                  <a:lnTo>
                    <a:pt x="1056" y="847"/>
                  </a:lnTo>
                  <a:lnTo>
                    <a:pt x="1023" y="871"/>
                  </a:lnTo>
                  <a:lnTo>
                    <a:pt x="989" y="900"/>
                  </a:lnTo>
                  <a:lnTo>
                    <a:pt x="951" y="931"/>
                  </a:lnTo>
                  <a:lnTo>
                    <a:pt x="911" y="965"/>
                  </a:lnTo>
                  <a:lnTo>
                    <a:pt x="872" y="1004"/>
                  </a:lnTo>
                  <a:lnTo>
                    <a:pt x="833" y="1046"/>
                  </a:lnTo>
                  <a:lnTo>
                    <a:pt x="795" y="1091"/>
                  </a:lnTo>
                  <a:lnTo>
                    <a:pt x="758" y="1139"/>
                  </a:lnTo>
                  <a:lnTo>
                    <a:pt x="724" y="1190"/>
                  </a:lnTo>
                  <a:lnTo>
                    <a:pt x="691" y="1244"/>
                  </a:lnTo>
                  <a:lnTo>
                    <a:pt x="686" y="1239"/>
                  </a:lnTo>
                  <a:lnTo>
                    <a:pt x="670" y="1226"/>
                  </a:lnTo>
                  <a:lnTo>
                    <a:pt x="643" y="1204"/>
                  </a:lnTo>
                  <a:lnTo>
                    <a:pt x="610" y="1173"/>
                  </a:lnTo>
                  <a:lnTo>
                    <a:pt x="568" y="1133"/>
                  </a:lnTo>
                  <a:lnTo>
                    <a:pt x="521" y="1087"/>
                  </a:lnTo>
                  <a:lnTo>
                    <a:pt x="470" y="1033"/>
                  </a:lnTo>
                  <a:lnTo>
                    <a:pt x="415" y="972"/>
                  </a:lnTo>
                  <a:lnTo>
                    <a:pt x="357" y="904"/>
                  </a:lnTo>
                  <a:lnTo>
                    <a:pt x="300" y="831"/>
                  </a:lnTo>
                  <a:lnTo>
                    <a:pt x="242" y="750"/>
                  </a:lnTo>
                  <a:lnTo>
                    <a:pt x="186" y="665"/>
                  </a:lnTo>
                  <a:lnTo>
                    <a:pt x="133" y="574"/>
                  </a:lnTo>
                  <a:lnTo>
                    <a:pt x="83" y="478"/>
                  </a:lnTo>
                  <a:lnTo>
                    <a:pt x="38" y="378"/>
                  </a:lnTo>
                  <a:lnTo>
                    <a:pt x="0" y="273"/>
                  </a:lnTo>
                  <a:lnTo>
                    <a:pt x="2" y="271"/>
                  </a:lnTo>
                  <a:lnTo>
                    <a:pt x="6" y="265"/>
                  </a:lnTo>
                  <a:lnTo>
                    <a:pt x="12" y="256"/>
                  </a:lnTo>
                  <a:lnTo>
                    <a:pt x="21" y="244"/>
                  </a:lnTo>
                  <a:lnTo>
                    <a:pt x="32" y="230"/>
                  </a:lnTo>
                  <a:lnTo>
                    <a:pt x="44" y="214"/>
                  </a:lnTo>
                  <a:lnTo>
                    <a:pt x="58" y="196"/>
                  </a:lnTo>
                  <a:lnTo>
                    <a:pt x="74" y="177"/>
                  </a:lnTo>
                  <a:lnTo>
                    <a:pt x="91" y="159"/>
                  </a:lnTo>
                  <a:lnTo>
                    <a:pt x="110" y="139"/>
                  </a:lnTo>
                  <a:lnTo>
                    <a:pt x="128" y="121"/>
                  </a:lnTo>
                  <a:lnTo>
                    <a:pt x="149" y="104"/>
                  </a:lnTo>
                  <a:lnTo>
                    <a:pt x="170" y="88"/>
                  </a:lnTo>
                  <a:lnTo>
                    <a:pt x="192" y="74"/>
                  </a:lnTo>
                  <a:lnTo>
                    <a:pt x="213" y="62"/>
                  </a:lnTo>
                  <a:lnTo>
                    <a:pt x="235" y="5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01"/>
            <p:cNvSpPr/>
            <p:nvPr/>
          </p:nvSpPr>
          <p:spPr>
            <a:xfrm rot="20009400">
              <a:off x="5756040" y="3094560"/>
              <a:ext cx="228240" cy="303840"/>
            </a:xfrm>
            <a:custGeom>
              <a:avLst/>
              <a:gdLst>
                <a:gd name="textAreaLeft" fmla="*/ 0 w 228240"/>
                <a:gd name="textAreaRight" fmla="*/ 228600 w 228240"/>
                <a:gd name="textAreaTop" fmla="*/ 0 h 303840"/>
                <a:gd name="textAreaBottom" fmla="*/ 303840 h 303840"/>
              </a:gdLst>
              <a:ahLst/>
              <a:rect l="textAreaLeft" t="textAreaTop" r="textAreaRight" b="textAreaBottom"/>
              <a:pathLst>
                <a:path w="158" h="200">
                  <a:moveTo>
                    <a:pt x="89" y="200"/>
                  </a:moveTo>
                  <a:lnTo>
                    <a:pt x="104" y="197"/>
                  </a:lnTo>
                  <a:lnTo>
                    <a:pt x="119" y="192"/>
                  </a:lnTo>
                  <a:lnTo>
                    <a:pt x="132" y="186"/>
                  </a:lnTo>
                  <a:lnTo>
                    <a:pt x="142" y="177"/>
                  </a:lnTo>
                  <a:lnTo>
                    <a:pt x="150" y="168"/>
                  </a:lnTo>
                  <a:lnTo>
                    <a:pt x="156" y="155"/>
                  </a:lnTo>
                  <a:lnTo>
                    <a:pt x="158" y="140"/>
                  </a:lnTo>
                  <a:lnTo>
                    <a:pt x="157" y="123"/>
                  </a:lnTo>
                  <a:lnTo>
                    <a:pt x="151" y="99"/>
                  </a:lnTo>
                  <a:lnTo>
                    <a:pt x="140" y="77"/>
                  </a:lnTo>
                  <a:lnTo>
                    <a:pt x="124" y="57"/>
                  </a:lnTo>
                  <a:lnTo>
                    <a:pt x="104" y="41"/>
                  </a:lnTo>
                  <a:lnTo>
                    <a:pt x="82" y="27"/>
                  </a:lnTo>
                  <a:lnTo>
                    <a:pt x="59" y="16"/>
                  </a:lnTo>
                  <a:lnTo>
                    <a:pt x="36" y="7"/>
                  </a:lnTo>
                  <a:lnTo>
                    <a:pt x="14" y="0"/>
                  </a:lnTo>
                  <a:lnTo>
                    <a:pt x="9" y="1"/>
                  </a:lnTo>
                  <a:lnTo>
                    <a:pt x="4" y="5"/>
                  </a:lnTo>
                  <a:lnTo>
                    <a:pt x="0" y="12"/>
                  </a:lnTo>
                  <a:lnTo>
                    <a:pt x="3" y="17"/>
                  </a:lnTo>
                  <a:lnTo>
                    <a:pt x="14" y="25"/>
                  </a:lnTo>
                  <a:lnTo>
                    <a:pt x="26" y="34"/>
                  </a:lnTo>
                  <a:lnTo>
                    <a:pt x="37" y="43"/>
                  </a:lnTo>
                  <a:lnTo>
                    <a:pt x="48" y="54"/>
                  </a:lnTo>
                  <a:lnTo>
                    <a:pt x="57" y="64"/>
                  </a:lnTo>
                  <a:lnTo>
                    <a:pt x="67" y="75"/>
                  </a:lnTo>
                  <a:lnTo>
                    <a:pt x="76" y="86"/>
                  </a:lnTo>
                  <a:lnTo>
                    <a:pt x="86" y="98"/>
                  </a:lnTo>
                  <a:lnTo>
                    <a:pt x="94" y="108"/>
                  </a:lnTo>
                  <a:lnTo>
                    <a:pt x="101" y="119"/>
                  </a:lnTo>
                  <a:lnTo>
                    <a:pt x="108" y="131"/>
                  </a:lnTo>
                  <a:lnTo>
                    <a:pt x="113" y="143"/>
                  </a:lnTo>
                  <a:lnTo>
                    <a:pt x="118" y="153"/>
                  </a:lnTo>
                  <a:lnTo>
                    <a:pt x="119" y="162"/>
                  </a:lnTo>
                  <a:lnTo>
                    <a:pt x="118" y="169"/>
                  </a:lnTo>
                  <a:lnTo>
                    <a:pt x="116" y="176"/>
                  </a:lnTo>
                  <a:lnTo>
                    <a:pt x="111" y="183"/>
                  </a:lnTo>
                  <a:lnTo>
                    <a:pt x="105" y="189"/>
                  </a:lnTo>
                  <a:lnTo>
                    <a:pt x="97" y="193"/>
                  </a:lnTo>
                  <a:lnTo>
                    <a:pt x="89" y="199"/>
                  </a:lnTo>
                  <a:lnTo>
                    <a:pt x="88" y="199"/>
                  </a:lnTo>
                  <a:lnTo>
                    <a:pt x="88" y="200"/>
                  </a:lnTo>
                  <a:lnTo>
                    <a:pt x="89"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503"/>
            <p:cNvSpPr/>
            <p:nvPr/>
          </p:nvSpPr>
          <p:spPr>
            <a:xfrm rot="20009400">
              <a:off x="5619600" y="3160800"/>
              <a:ext cx="83880" cy="177480"/>
            </a:xfrm>
            <a:custGeom>
              <a:avLst/>
              <a:gdLst>
                <a:gd name="textAreaLeft" fmla="*/ 0 w 83880"/>
                <a:gd name="textAreaRight" fmla="*/ 84240 w 83880"/>
                <a:gd name="textAreaTop" fmla="*/ 0 h 177480"/>
                <a:gd name="textAreaBottom" fmla="*/ 177840 h 177480"/>
              </a:gdLst>
              <a:ahLst/>
              <a:rect l="textAreaLeft" t="textAreaTop" r="textAreaRight" b="textAreaBottom"/>
              <a:pathLst>
                <a:path w="58" h="118">
                  <a:moveTo>
                    <a:pt x="30" y="0"/>
                  </a:moveTo>
                  <a:lnTo>
                    <a:pt x="18" y="12"/>
                  </a:lnTo>
                  <a:lnTo>
                    <a:pt x="10" y="27"/>
                  </a:lnTo>
                  <a:lnTo>
                    <a:pt x="5" y="44"/>
                  </a:lnTo>
                  <a:lnTo>
                    <a:pt x="1" y="60"/>
                  </a:lnTo>
                  <a:lnTo>
                    <a:pt x="0" y="71"/>
                  </a:lnTo>
                  <a:lnTo>
                    <a:pt x="1" y="81"/>
                  </a:lnTo>
                  <a:lnTo>
                    <a:pt x="3" y="91"/>
                  </a:lnTo>
                  <a:lnTo>
                    <a:pt x="7" y="102"/>
                  </a:lnTo>
                  <a:lnTo>
                    <a:pt x="13" y="110"/>
                  </a:lnTo>
                  <a:lnTo>
                    <a:pt x="20" y="115"/>
                  </a:lnTo>
                  <a:lnTo>
                    <a:pt x="29" y="118"/>
                  </a:lnTo>
                  <a:lnTo>
                    <a:pt x="40" y="117"/>
                  </a:lnTo>
                  <a:lnTo>
                    <a:pt x="47" y="113"/>
                  </a:lnTo>
                  <a:lnTo>
                    <a:pt x="54" y="106"/>
                  </a:lnTo>
                  <a:lnTo>
                    <a:pt x="58" y="98"/>
                  </a:lnTo>
                  <a:lnTo>
                    <a:pt x="55" y="90"/>
                  </a:lnTo>
                  <a:lnTo>
                    <a:pt x="51" y="87"/>
                  </a:lnTo>
                  <a:lnTo>
                    <a:pt x="45" y="84"/>
                  </a:lnTo>
                  <a:lnTo>
                    <a:pt x="39" y="82"/>
                  </a:lnTo>
                  <a:lnTo>
                    <a:pt x="33" y="80"/>
                  </a:lnTo>
                  <a:lnTo>
                    <a:pt x="28" y="76"/>
                  </a:lnTo>
                  <a:lnTo>
                    <a:pt x="24" y="72"/>
                  </a:lnTo>
                  <a:lnTo>
                    <a:pt x="20" y="66"/>
                  </a:lnTo>
                  <a:lnTo>
                    <a:pt x="17" y="60"/>
                  </a:lnTo>
                  <a:lnTo>
                    <a:pt x="14" y="45"/>
                  </a:lnTo>
                  <a:lnTo>
                    <a:pt x="15" y="29"/>
                  </a:lnTo>
                  <a:lnTo>
                    <a:pt x="20" y="14"/>
                  </a:lnTo>
                  <a:lnTo>
                    <a:pt x="30" y="1"/>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504"/>
            <p:cNvSpPr/>
            <p:nvPr/>
          </p:nvSpPr>
          <p:spPr>
            <a:xfrm rot="20009400">
              <a:off x="5661720" y="3132720"/>
              <a:ext cx="74880" cy="132120"/>
            </a:xfrm>
            <a:custGeom>
              <a:avLst/>
              <a:gdLst>
                <a:gd name="textAreaLeft" fmla="*/ 0 w 74880"/>
                <a:gd name="textAreaRight" fmla="*/ 75240 w 74880"/>
                <a:gd name="textAreaTop" fmla="*/ 0 h 132120"/>
                <a:gd name="textAreaBottom" fmla="*/ 132480 h 132120"/>
              </a:gdLst>
              <a:ahLst/>
              <a:rect l="textAreaLeft" t="textAreaTop" r="textAreaRight" b="textAreaBottom"/>
              <a:pathLst>
                <a:path w="53" h="88">
                  <a:moveTo>
                    <a:pt x="43" y="0"/>
                  </a:moveTo>
                  <a:lnTo>
                    <a:pt x="36" y="2"/>
                  </a:lnTo>
                  <a:lnTo>
                    <a:pt x="29" y="4"/>
                  </a:lnTo>
                  <a:lnTo>
                    <a:pt x="23" y="8"/>
                  </a:lnTo>
                  <a:lnTo>
                    <a:pt x="19" y="12"/>
                  </a:lnTo>
                  <a:lnTo>
                    <a:pt x="14" y="17"/>
                  </a:lnTo>
                  <a:lnTo>
                    <a:pt x="10" y="23"/>
                  </a:lnTo>
                  <a:lnTo>
                    <a:pt x="6" y="28"/>
                  </a:lnTo>
                  <a:lnTo>
                    <a:pt x="4" y="35"/>
                  </a:lnTo>
                  <a:lnTo>
                    <a:pt x="0" y="45"/>
                  </a:lnTo>
                  <a:lnTo>
                    <a:pt x="0" y="54"/>
                  </a:lnTo>
                  <a:lnTo>
                    <a:pt x="2" y="63"/>
                  </a:lnTo>
                  <a:lnTo>
                    <a:pt x="4" y="72"/>
                  </a:lnTo>
                  <a:lnTo>
                    <a:pt x="9" y="83"/>
                  </a:lnTo>
                  <a:lnTo>
                    <a:pt x="17" y="87"/>
                  </a:lnTo>
                  <a:lnTo>
                    <a:pt x="26" y="88"/>
                  </a:lnTo>
                  <a:lnTo>
                    <a:pt x="36" y="87"/>
                  </a:lnTo>
                  <a:lnTo>
                    <a:pt x="42" y="84"/>
                  </a:lnTo>
                  <a:lnTo>
                    <a:pt x="49" y="78"/>
                  </a:lnTo>
                  <a:lnTo>
                    <a:pt x="53" y="71"/>
                  </a:lnTo>
                  <a:lnTo>
                    <a:pt x="51" y="65"/>
                  </a:lnTo>
                  <a:lnTo>
                    <a:pt x="45" y="61"/>
                  </a:lnTo>
                  <a:lnTo>
                    <a:pt x="37" y="53"/>
                  </a:lnTo>
                  <a:lnTo>
                    <a:pt x="29" y="45"/>
                  </a:lnTo>
                  <a:lnTo>
                    <a:pt x="25" y="39"/>
                  </a:lnTo>
                  <a:lnTo>
                    <a:pt x="20" y="27"/>
                  </a:lnTo>
                  <a:lnTo>
                    <a:pt x="25" y="16"/>
                  </a:lnTo>
                  <a:lnTo>
                    <a:pt x="34" y="7"/>
                  </a:lnTo>
                  <a:lnTo>
                    <a:pt x="43" y="1"/>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509"/>
            <p:cNvSpPr/>
            <p:nvPr/>
          </p:nvSpPr>
          <p:spPr>
            <a:xfrm rot="20009400">
              <a:off x="5962680" y="3236760"/>
              <a:ext cx="1108080" cy="1639800"/>
            </a:xfrm>
            <a:custGeom>
              <a:avLst/>
              <a:gdLst>
                <a:gd name="textAreaLeft" fmla="*/ 0 w 1108080"/>
                <a:gd name="textAreaRight" fmla="*/ 1108440 w 1108080"/>
                <a:gd name="textAreaTop" fmla="*/ 0 h 1639800"/>
                <a:gd name="textAreaBottom" fmla="*/ 1640160 h 1639800"/>
              </a:gdLst>
              <a:ahLst/>
              <a:rect l="textAreaLeft" t="textAreaTop" r="textAreaRight" b="textAreaBottom"/>
              <a:pathLst>
                <a:path w="767" h="1090">
                  <a:moveTo>
                    <a:pt x="0" y="1"/>
                  </a:moveTo>
                  <a:lnTo>
                    <a:pt x="24" y="82"/>
                  </a:lnTo>
                  <a:lnTo>
                    <a:pt x="51" y="161"/>
                  </a:lnTo>
                  <a:lnTo>
                    <a:pt x="82" y="239"/>
                  </a:lnTo>
                  <a:lnTo>
                    <a:pt x="115" y="317"/>
                  </a:lnTo>
                  <a:lnTo>
                    <a:pt x="152" y="393"/>
                  </a:lnTo>
                  <a:lnTo>
                    <a:pt x="191" y="468"/>
                  </a:lnTo>
                  <a:lnTo>
                    <a:pt x="235" y="541"/>
                  </a:lnTo>
                  <a:lnTo>
                    <a:pt x="280" y="612"/>
                  </a:lnTo>
                  <a:lnTo>
                    <a:pt x="330" y="681"/>
                  </a:lnTo>
                  <a:lnTo>
                    <a:pt x="380" y="747"/>
                  </a:lnTo>
                  <a:lnTo>
                    <a:pt x="435" y="812"/>
                  </a:lnTo>
                  <a:lnTo>
                    <a:pt x="492" y="873"/>
                  </a:lnTo>
                  <a:lnTo>
                    <a:pt x="552" y="932"/>
                  </a:lnTo>
                  <a:lnTo>
                    <a:pt x="614" y="988"/>
                  </a:lnTo>
                  <a:lnTo>
                    <a:pt x="678" y="1040"/>
                  </a:lnTo>
                  <a:lnTo>
                    <a:pt x="746" y="1090"/>
                  </a:lnTo>
                  <a:lnTo>
                    <a:pt x="754" y="1090"/>
                  </a:lnTo>
                  <a:lnTo>
                    <a:pt x="763" y="1085"/>
                  </a:lnTo>
                  <a:lnTo>
                    <a:pt x="767" y="1077"/>
                  </a:lnTo>
                  <a:lnTo>
                    <a:pt x="766" y="1070"/>
                  </a:lnTo>
                  <a:lnTo>
                    <a:pt x="744" y="1048"/>
                  </a:lnTo>
                  <a:lnTo>
                    <a:pt x="721" y="1026"/>
                  </a:lnTo>
                  <a:lnTo>
                    <a:pt x="699" y="1003"/>
                  </a:lnTo>
                  <a:lnTo>
                    <a:pt x="676" y="981"/>
                  </a:lnTo>
                  <a:lnTo>
                    <a:pt x="653" y="959"/>
                  </a:lnTo>
                  <a:lnTo>
                    <a:pt x="631" y="938"/>
                  </a:lnTo>
                  <a:lnTo>
                    <a:pt x="608" y="916"/>
                  </a:lnTo>
                  <a:lnTo>
                    <a:pt x="586" y="894"/>
                  </a:lnTo>
                  <a:lnTo>
                    <a:pt x="563" y="872"/>
                  </a:lnTo>
                  <a:lnTo>
                    <a:pt x="541" y="850"/>
                  </a:lnTo>
                  <a:lnTo>
                    <a:pt x="520" y="827"/>
                  </a:lnTo>
                  <a:lnTo>
                    <a:pt x="498" y="805"/>
                  </a:lnTo>
                  <a:lnTo>
                    <a:pt x="476" y="782"/>
                  </a:lnTo>
                  <a:lnTo>
                    <a:pt x="454" y="759"/>
                  </a:lnTo>
                  <a:lnTo>
                    <a:pt x="432" y="736"/>
                  </a:lnTo>
                  <a:lnTo>
                    <a:pt x="411" y="713"/>
                  </a:lnTo>
                  <a:lnTo>
                    <a:pt x="377" y="674"/>
                  </a:lnTo>
                  <a:lnTo>
                    <a:pt x="344" y="633"/>
                  </a:lnTo>
                  <a:lnTo>
                    <a:pt x="312" y="593"/>
                  </a:lnTo>
                  <a:lnTo>
                    <a:pt x="281" y="552"/>
                  </a:lnTo>
                  <a:lnTo>
                    <a:pt x="251" y="509"/>
                  </a:lnTo>
                  <a:lnTo>
                    <a:pt x="222" y="466"/>
                  </a:lnTo>
                  <a:lnTo>
                    <a:pt x="195" y="423"/>
                  </a:lnTo>
                  <a:lnTo>
                    <a:pt x="168" y="379"/>
                  </a:lnTo>
                  <a:lnTo>
                    <a:pt x="143" y="334"/>
                  </a:lnTo>
                  <a:lnTo>
                    <a:pt x="119" y="288"/>
                  </a:lnTo>
                  <a:lnTo>
                    <a:pt x="96" y="242"/>
                  </a:lnTo>
                  <a:lnTo>
                    <a:pt x="75" y="195"/>
                  </a:lnTo>
                  <a:lnTo>
                    <a:pt x="54" y="147"/>
                  </a:lnTo>
                  <a:lnTo>
                    <a:pt x="35" y="99"/>
                  </a:lnTo>
                  <a:lnTo>
                    <a:pt x="17" y="49"/>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511"/>
            <p:cNvSpPr/>
            <p:nvPr/>
          </p:nvSpPr>
          <p:spPr>
            <a:xfrm rot="20009400">
              <a:off x="5905800" y="3240000"/>
              <a:ext cx="225360" cy="210600"/>
            </a:xfrm>
            <a:custGeom>
              <a:avLst/>
              <a:gdLst>
                <a:gd name="textAreaLeft" fmla="*/ 0 w 225360"/>
                <a:gd name="textAreaRight" fmla="*/ 225720 w 225360"/>
                <a:gd name="textAreaTop" fmla="*/ 0 h 210600"/>
                <a:gd name="textAreaBottom" fmla="*/ 210960 h 210600"/>
              </a:gdLst>
              <a:ahLst/>
              <a:rect l="textAreaLeft" t="textAreaTop" r="textAreaRight" b="textAreaBottom"/>
              <a:pathLst>
                <a:path w="155" h="140">
                  <a:moveTo>
                    <a:pt x="65" y="0"/>
                  </a:moveTo>
                  <a:lnTo>
                    <a:pt x="54" y="1"/>
                  </a:lnTo>
                  <a:lnTo>
                    <a:pt x="43" y="4"/>
                  </a:lnTo>
                  <a:lnTo>
                    <a:pt x="33" y="8"/>
                  </a:lnTo>
                  <a:lnTo>
                    <a:pt x="25" y="14"/>
                  </a:lnTo>
                  <a:lnTo>
                    <a:pt x="18" y="21"/>
                  </a:lnTo>
                  <a:lnTo>
                    <a:pt x="11" y="30"/>
                  </a:lnTo>
                  <a:lnTo>
                    <a:pt x="7" y="39"/>
                  </a:lnTo>
                  <a:lnTo>
                    <a:pt x="2" y="51"/>
                  </a:lnTo>
                  <a:lnTo>
                    <a:pt x="0" y="66"/>
                  </a:lnTo>
                  <a:lnTo>
                    <a:pt x="1" y="80"/>
                  </a:lnTo>
                  <a:lnTo>
                    <a:pt x="4" y="94"/>
                  </a:lnTo>
                  <a:lnTo>
                    <a:pt x="11" y="106"/>
                  </a:lnTo>
                  <a:lnTo>
                    <a:pt x="20" y="117"/>
                  </a:lnTo>
                  <a:lnTo>
                    <a:pt x="32" y="126"/>
                  </a:lnTo>
                  <a:lnTo>
                    <a:pt x="45" y="133"/>
                  </a:lnTo>
                  <a:lnTo>
                    <a:pt x="57" y="137"/>
                  </a:lnTo>
                  <a:lnTo>
                    <a:pt x="72" y="140"/>
                  </a:lnTo>
                  <a:lnTo>
                    <a:pt x="86" y="140"/>
                  </a:lnTo>
                  <a:lnTo>
                    <a:pt x="100" y="137"/>
                  </a:lnTo>
                  <a:lnTo>
                    <a:pt x="114" y="133"/>
                  </a:lnTo>
                  <a:lnTo>
                    <a:pt x="126" y="127"/>
                  </a:lnTo>
                  <a:lnTo>
                    <a:pt x="138" y="118"/>
                  </a:lnTo>
                  <a:lnTo>
                    <a:pt x="147" y="106"/>
                  </a:lnTo>
                  <a:lnTo>
                    <a:pt x="154" y="94"/>
                  </a:lnTo>
                  <a:lnTo>
                    <a:pt x="155" y="81"/>
                  </a:lnTo>
                  <a:lnTo>
                    <a:pt x="155" y="66"/>
                  </a:lnTo>
                  <a:lnTo>
                    <a:pt x="152" y="52"/>
                  </a:lnTo>
                  <a:lnTo>
                    <a:pt x="149" y="39"/>
                  </a:lnTo>
                  <a:lnTo>
                    <a:pt x="147" y="33"/>
                  </a:lnTo>
                  <a:lnTo>
                    <a:pt x="142" y="27"/>
                  </a:lnTo>
                  <a:lnTo>
                    <a:pt x="138" y="22"/>
                  </a:lnTo>
                  <a:lnTo>
                    <a:pt x="132" y="18"/>
                  </a:lnTo>
                  <a:lnTo>
                    <a:pt x="125" y="13"/>
                  </a:lnTo>
                  <a:lnTo>
                    <a:pt x="118" y="10"/>
                  </a:lnTo>
                  <a:lnTo>
                    <a:pt x="111" y="7"/>
                  </a:lnTo>
                  <a:lnTo>
                    <a:pt x="106" y="4"/>
                  </a:lnTo>
                  <a:lnTo>
                    <a:pt x="102" y="4"/>
                  </a:lnTo>
                  <a:lnTo>
                    <a:pt x="100" y="6"/>
                  </a:lnTo>
                  <a:lnTo>
                    <a:pt x="98" y="11"/>
                  </a:lnTo>
                  <a:lnTo>
                    <a:pt x="99" y="13"/>
                  </a:lnTo>
                  <a:lnTo>
                    <a:pt x="104" y="19"/>
                  </a:lnTo>
                  <a:lnTo>
                    <a:pt x="111" y="23"/>
                  </a:lnTo>
                  <a:lnTo>
                    <a:pt x="117" y="29"/>
                  </a:lnTo>
                  <a:lnTo>
                    <a:pt x="123" y="35"/>
                  </a:lnTo>
                  <a:lnTo>
                    <a:pt x="133" y="51"/>
                  </a:lnTo>
                  <a:lnTo>
                    <a:pt x="136" y="66"/>
                  </a:lnTo>
                  <a:lnTo>
                    <a:pt x="131" y="79"/>
                  </a:lnTo>
                  <a:lnTo>
                    <a:pt x="123" y="89"/>
                  </a:lnTo>
                  <a:lnTo>
                    <a:pt x="111" y="98"/>
                  </a:lnTo>
                  <a:lnTo>
                    <a:pt x="100" y="104"/>
                  </a:lnTo>
                  <a:lnTo>
                    <a:pt x="89" y="109"/>
                  </a:lnTo>
                  <a:lnTo>
                    <a:pt x="84" y="110"/>
                  </a:lnTo>
                  <a:lnTo>
                    <a:pt x="76" y="110"/>
                  </a:lnTo>
                  <a:lnTo>
                    <a:pt x="66" y="110"/>
                  </a:lnTo>
                  <a:lnTo>
                    <a:pt x="58" y="109"/>
                  </a:lnTo>
                  <a:lnTo>
                    <a:pt x="50" y="106"/>
                  </a:lnTo>
                  <a:lnTo>
                    <a:pt x="42" y="104"/>
                  </a:lnTo>
                  <a:lnTo>
                    <a:pt x="35" y="99"/>
                  </a:lnTo>
                  <a:lnTo>
                    <a:pt x="28" y="95"/>
                  </a:lnTo>
                  <a:lnTo>
                    <a:pt x="22" y="89"/>
                  </a:lnTo>
                  <a:lnTo>
                    <a:pt x="11" y="75"/>
                  </a:lnTo>
                  <a:lnTo>
                    <a:pt x="8" y="61"/>
                  </a:lnTo>
                  <a:lnTo>
                    <a:pt x="9" y="48"/>
                  </a:lnTo>
                  <a:lnTo>
                    <a:pt x="16" y="34"/>
                  </a:lnTo>
                  <a:lnTo>
                    <a:pt x="25" y="21"/>
                  </a:lnTo>
                  <a:lnTo>
                    <a:pt x="37" y="12"/>
                  </a:lnTo>
                  <a:lnTo>
                    <a:pt x="50" y="5"/>
                  </a:lnTo>
                  <a:lnTo>
                    <a:pt x="64" y="1"/>
                  </a:lnTo>
                  <a:lnTo>
                    <a:pt x="65" y="1"/>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512"/>
            <p:cNvSpPr/>
            <p:nvPr/>
          </p:nvSpPr>
          <p:spPr>
            <a:xfrm rot="20009400">
              <a:off x="7056000" y="3673080"/>
              <a:ext cx="792720" cy="803160"/>
            </a:xfrm>
            <a:custGeom>
              <a:avLst/>
              <a:gdLst>
                <a:gd name="textAreaLeft" fmla="*/ 0 w 792720"/>
                <a:gd name="textAreaRight" fmla="*/ 792720 w 792720"/>
                <a:gd name="textAreaTop" fmla="*/ 0 h 803160"/>
                <a:gd name="textAreaBottom" fmla="*/ 803520 h 803160"/>
              </a:gdLst>
              <a:ahLst/>
              <a:rect l="textAreaLeft" t="textAreaTop" r="textAreaRight" b="textAreaBottom"/>
              <a:pathLst>
                <a:path w="548" h="535">
                  <a:moveTo>
                    <a:pt x="548" y="0"/>
                  </a:moveTo>
                  <a:lnTo>
                    <a:pt x="533" y="5"/>
                  </a:lnTo>
                  <a:lnTo>
                    <a:pt x="517" y="11"/>
                  </a:lnTo>
                  <a:lnTo>
                    <a:pt x="503" y="19"/>
                  </a:lnTo>
                  <a:lnTo>
                    <a:pt x="488" y="28"/>
                  </a:lnTo>
                  <a:lnTo>
                    <a:pt x="475" y="37"/>
                  </a:lnTo>
                  <a:lnTo>
                    <a:pt x="461" y="48"/>
                  </a:lnTo>
                  <a:lnTo>
                    <a:pt x="447" y="57"/>
                  </a:lnTo>
                  <a:lnTo>
                    <a:pt x="434" y="66"/>
                  </a:lnTo>
                  <a:lnTo>
                    <a:pt x="423" y="74"/>
                  </a:lnTo>
                  <a:lnTo>
                    <a:pt x="410" y="82"/>
                  </a:lnTo>
                  <a:lnTo>
                    <a:pt x="399" y="90"/>
                  </a:lnTo>
                  <a:lnTo>
                    <a:pt x="386" y="98"/>
                  </a:lnTo>
                  <a:lnTo>
                    <a:pt x="374" y="108"/>
                  </a:lnTo>
                  <a:lnTo>
                    <a:pt x="362" y="116"/>
                  </a:lnTo>
                  <a:lnTo>
                    <a:pt x="350" y="125"/>
                  </a:lnTo>
                  <a:lnTo>
                    <a:pt x="339" y="133"/>
                  </a:lnTo>
                  <a:lnTo>
                    <a:pt x="327" y="142"/>
                  </a:lnTo>
                  <a:lnTo>
                    <a:pt x="314" y="150"/>
                  </a:lnTo>
                  <a:lnTo>
                    <a:pt x="303" y="159"/>
                  </a:lnTo>
                  <a:lnTo>
                    <a:pt x="291" y="169"/>
                  </a:lnTo>
                  <a:lnTo>
                    <a:pt x="280" y="178"/>
                  </a:lnTo>
                  <a:lnTo>
                    <a:pt x="268" y="186"/>
                  </a:lnTo>
                  <a:lnTo>
                    <a:pt x="257" y="195"/>
                  </a:lnTo>
                  <a:lnTo>
                    <a:pt x="245" y="204"/>
                  </a:lnTo>
                  <a:lnTo>
                    <a:pt x="223" y="222"/>
                  </a:lnTo>
                  <a:lnTo>
                    <a:pt x="203" y="239"/>
                  </a:lnTo>
                  <a:lnTo>
                    <a:pt x="182" y="257"/>
                  </a:lnTo>
                  <a:lnTo>
                    <a:pt x="161" y="276"/>
                  </a:lnTo>
                  <a:lnTo>
                    <a:pt x="141" y="295"/>
                  </a:lnTo>
                  <a:lnTo>
                    <a:pt x="122" y="315"/>
                  </a:lnTo>
                  <a:lnTo>
                    <a:pt x="103" y="336"/>
                  </a:lnTo>
                  <a:lnTo>
                    <a:pt x="85" y="358"/>
                  </a:lnTo>
                  <a:lnTo>
                    <a:pt x="71" y="374"/>
                  </a:lnTo>
                  <a:lnTo>
                    <a:pt x="56" y="393"/>
                  </a:lnTo>
                  <a:lnTo>
                    <a:pt x="40" y="415"/>
                  </a:lnTo>
                  <a:lnTo>
                    <a:pt x="24" y="438"/>
                  </a:lnTo>
                  <a:lnTo>
                    <a:pt x="12" y="461"/>
                  </a:lnTo>
                  <a:lnTo>
                    <a:pt x="4" y="485"/>
                  </a:lnTo>
                  <a:lnTo>
                    <a:pt x="0" y="507"/>
                  </a:lnTo>
                  <a:lnTo>
                    <a:pt x="5" y="529"/>
                  </a:lnTo>
                  <a:lnTo>
                    <a:pt x="10" y="535"/>
                  </a:lnTo>
                  <a:lnTo>
                    <a:pt x="20" y="533"/>
                  </a:lnTo>
                  <a:lnTo>
                    <a:pt x="28" y="527"/>
                  </a:lnTo>
                  <a:lnTo>
                    <a:pt x="33" y="521"/>
                  </a:lnTo>
                  <a:lnTo>
                    <a:pt x="45" y="503"/>
                  </a:lnTo>
                  <a:lnTo>
                    <a:pt x="58" y="483"/>
                  </a:lnTo>
                  <a:lnTo>
                    <a:pt x="69" y="465"/>
                  </a:lnTo>
                  <a:lnTo>
                    <a:pt x="82" y="446"/>
                  </a:lnTo>
                  <a:lnTo>
                    <a:pt x="93" y="427"/>
                  </a:lnTo>
                  <a:lnTo>
                    <a:pt x="106" y="408"/>
                  </a:lnTo>
                  <a:lnTo>
                    <a:pt x="119" y="390"/>
                  </a:lnTo>
                  <a:lnTo>
                    <a:pt x="131" y="373"/>
                  </a:lnTo>
                  <a:lnTo>
                    <a:pt x="144" y="354"/>
                  </a:lnTo>
                  <a:lnTo>
                    <a:pt x="157" y="337"/>
                  </a:lnTo>
                  <a:lnTo>
                    <a:pt x="171" y="320"/>
                  </a:lnTo>
                  <a:lnTo>
                    <a:pt x="184" y="302"/>
                  </a:lnTo>
                  <a:lnTo>
                    <a:pt x="198" y="285"/>
                  </a:lnTo>
                  <a:lnTo>
                    <a:pt x="213" y="268"/>
                  </a:lnTo>
                  <a:lnTo>
                    <a:pt x="228" y="252"/>
                  </a:lnTo>
                  <a:lnTo>
                    <a:pt x="244" y="235"/>
                  </a:lnTo>
                  <a:lnTo>
                    <a:pt x="265" y="216"/>
                  </a:lnTo>
                  <a:lnTo>
                    <a:pt x="287" y="196"/>
                  </a:lnTo>
                  <a:lnTo>
                    <a:pt x="309" y="178"/>
                  </a:lnTo>
                  <a:lnTo>
                    <a:pt x="331" y="161"/>
                  </a:lnTo>
                  <a:lnTo>
                    <a:pt x="354" y="144"/>
                  </a:lnTo>
                  <a:lnTo>
                    <a:pt x="377" y="127"/>
                  </a:lnTo>
                  <a:lnTo>
                    <a:pt x="400" y="110"/>
                  </a:lnTo>
                  <a:lnTo>
                    <a:pt x="423" y="93"/>
                  </a:lnTo>
                  <a:lnTo>
                    <a:pt x="437" y="82"/>
                  </a:lnTo>
                  <a:lnTo>
                    <a:pt x="452" y="70"/>
                  </a:lnTo>
                  <a:lnTo>
                    <a:pt x="466" y="58"/>
                  </a:lnTo>
                  <a:lnTo>
                    <a:pt x="483" y="45"/>
                  </a:lnTo>
                  <a:lnTo>
                    <a:pt x="498" y="34"/>
                  </a:lnTo>
                  <a:lnTo>
                    <a:pt x="515" y="22"/>
                  </a:lnTo>
                  <a:lnTo>
                    <a:pt x="531" y="11"/>
                  </a:lnTo>
                  <a:lnTo>
                    <a:pt x="548" y="2"/>
                  </a:lnTo>
                  <a:lnTo>
                    <a:pt x="5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513"/>
            <p:cNvSpPr/>
            <p:nvPr/>
          </p:nvSpPr>
          <p:spPr>
            <a:xfrm rot="20009400">
              <a:off x="5814360" y="3332880"/>
              <a:ext cx="622080" cy="460080"/>
            </a:xfrm>
            <a:custGeom>
              <a:avLst/>
              <a:gdLst>
                <a:gd name="textAreaLeft" fmla="*/ 0 w 622080"/>
                <a:gd name="textAreaRight" fmla="*/ 622440 w 622080"/>
                <a:gd name="textAreaTop" fmla="*/ 0 h 460080"/>
                <a:gd name="textAreaBottom" fmla="*/ 460440 h 460080"/>
              </a:gdLst>
              <a:ahLst/>
              <a:rect l="textAreaLeft" t="textAreaTop" r="textAreaRight" b="textAreaBottom"/>
              <a:pathLst>
                <a:path w="428" h="307">
                  <a:moveTo>
                    <a:pt x="428" y="0"/>
                  </a:moveTo>
                  <a:lnTo>
                    <a:pt x="413" y="6"/>
                  </a:lnTo>
                  <a:lnTo>
                    <a:pt x="398" y="11"/>
                  </a:lnTo>
                  <a:lnTo>
                    <a:pt x="383" y="17"/>
                  </a:lnTo>
                  <a:lnTo>
                    <a:pt x="368" y="22"/>
                  </a:lnTo>
                  <a:lnTo>
                    <a:pt x="353" y="28"/>
                  </a:lnTo>
                  <a:lnTo>
                    <a:pt x="338" y="35"/>
                  </a:lnTo>
                  <a:lnTo>
                    <a:pt x="324" y="42"/>
                  </a:lnTo>
                  <a:lnTo>
                    <a:pt x="309" y="48"/>
                  </a:lnTo>
                  <a:lnTo>
                    <a:pt x="296" y="55"/>
                  </a:lnTo>
                  <a:lnTo>
                    <a:pt x="281" y="63"/>
                  </a:lnTo>
                  <a:lnTo>
                    <a:pt x="267" y="70"/>
                  </a:lnTo>
                  <a:lnTo>
                    <a:pt x="253" y="78"/>
                  </a:lnTo>
                  <a:lnTo>
                    <a:pt x="239" y="86"/>
                  </a:lnTo>
                  <a:lnTo>
                    <a:pt x="225" y="94"/>
                  </a:lnTo>
                  <a:lnTo>
                    <a:pt x="213" y="103"/>
                  </a:lnTo>
                  <a:lnTo>
                    <a:pt x="199" y="112"/>
                  </a:lnTo>
                  <a:lnTo>
                    <a:pt x="186" y="121"/>
                  </a:lnTo>
                  <a:lnTo>
                    <a:pt x="172" y="131"/>
                  </a:lnTo>
                  <a:lnTo>
                    <a:pt x="160" y="141"/>
                  </a:lnTo>
                  <a:lnTo>
                    <a:pt x="146" y="151"/>
                  </a:lnTo>
                  <a:lnTo>
                    <a:pt x="132" y="162"/>
                  </a:lnTo>
                  <a:lnTo>
                    <a:pt x="119" y="173"/>
                  </a:lnTo>
                  <a:lnTo>
                    <a:pt x="106" y="185"/>
                  </a:lnTo>
                  <a:lnTo>
                    <a:pt x="92" y="196"/>
                  </a:lnTo>
                  <a:lnTo>
                    <a:pt x="79" y="208"/>
                  </a:lnTo>
                  <a:lnTo>
                    <a:pt x="66" y="220"/>
                  </a:lnTo>
                  <a:lnTo>
                    <a:pt x="55" y="233"/>
                  </a:lnTo>
                  <a:lnTo>
                    <a:pt x="42" y="246"/>
                  </a:lnTo>
                  <a:lnTo>
                    <a:pt x="32" y="258"/>
                  </a:lnTo>
                  <a:lnTo>
                    <a:pt x="20" y="271"/>
                  </a:lnTo>
                  <a:lnTo>
                    <a:pt x="11" y="285"/>
                  </a:lnTo>
                  <a:lnTo>
                    <a:pt x="2" y="298"/>
                  </a:lnTo>
                  <a:lnTo>
                    <a:pt x="0" y="302"/>
                  </a:lnTo>
                  <a:lnTo>
                    <a:pt x="1" y="306"/>
                  </a:lnTo>
                  <a:lnTo>
                    <a:pt x="4" y="307"/>
                  </a:lnTo>
                  <a:lnTo>
                    <a:pt x="8" y="305"/>
                  </a:lnTo>
                  <a:lnTo>
                    <a:pt x="31" y="280"/>
                  </a:lnTo>
                  <a:lnTo>
                    <a:pt x="55" y="256"/>
                  </a:lnTo>
                  <a:lnTo>
                    <a:pt x="78" y="232"/>
                  </a:lnTo>
                  <a:lnTo>
                    <a:pt x="102" y="210"/>
                  </a:lnTo>
                  <a:lnTo>
                    <a:pt x="125" y="187"/>
                  </a:lnTo>
                  <a:lnTo>
                    <a:pt x="150" y="166"/>
                  </a:lnTo>
                  <a:lnTo>
                    <a:pt x="175" y="146"/>
                  </a:lnTo>
                  <a:lnTo>
                    <a:pt x="200" y="126"/>
                  </a:lnTo>
                  <a:lnTo>
                    <a:pt x="225" y="108"/>
                  </a:lnTo>
                  <a:lnTo>
                    <a:pt x="252" y="89"/>
                  </a:lnTo>
                  <a:lnTo>
                    <a:pt x="279" y="73"/>
                  </a:lnTo>
                  <a:lnTo>
                    <a:pt x="307" y="57"/>
                  </a:lnTo>
                  <a:lnTo>
                    <a:pt x="336" y="41"/>
                  </a:lnTo>
                  <a:lnTo>
                    <a:pt x="365" y="27"/>
                  </a:lnTo>
                  <a:lnTo>
                    <a:pt x="396" y="14"/>
                  </a:lnTo>
                  <a:lnTo>
                    <a:pt x="427" y="2"/>
                  </a:lnTo>
                  <a:lnTo>
                    <a:pt x="428" y="2"/>
                  </a:lnTo>
                  <a:lnTo>
                    <a:pt x="4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514"/>
            <p:cNvSpPr/>
            <p:nvPr/>
          </p:nvSpPr>
          <p:spPr>
            <a:xfrm rot="20009400">
              <a:off x="5565600" y="3084120"/>
              <a:ext cx="726120" cy="505440"/>
            </a:xfrm>
            <a:custGeom>
              <a:avLst/>
              <a:gdLst>
                <a:gd name="textAreaLeft" fmla="*/ 0 w 726120"/>
                <a:gd name="textAreaRight" fmla="*/ 726480 w 726120"/>
                <a:gd name="textAreaTop" fmla="*/ 0 h 505440"/>
                <a:gd name="textAreaBottom" fmla="*/ 505800 h 505440"/>
              </a:gdLst>
              <a:ahLst/>
              <a:rect l="textAreaLeft" t="textAreaTop" r="textAreaRight" b="textAreaBottom"/>
              <a:pathLst>
                <a:path w="502" h="335">
                  <a:moveTo>
                    <a:pt x="502" y="0"/>
                  </a:moveTo>
                  <a:lnTo>
                    <a:pt x="463" y="2"/>
                  </a:lnTo>
                  <a:lnTo>
                    <a:pt x="425" y="7"/>
                  </a:lnTo>
                  <a:lnTo>
                    <a:pt x="386" y="15"/>
                  </a:lnTo>
                  <a:lnTo>
                    <a:pt x="348" y="24"/>
                  </a:lnTo>
                  <a:lnTo>
                    <a:pt x="310" y="37"/>
                  </a:lnTo>
                  <a:lnTo>
                    <a:pt x="273" y="52"/>
                  </a:lnTo>
                  <a:lnTo>
                    <a:pt x="236" y="69"/>
                  </a:lnTo>
                  <a:lnTo>
                    <a:pt x="201" y="89"/>
                  </a:lnTo>
                  <a:lnTo>
                    <a:pt x="169" y="111"/>
                  </a:lnTo>
                  <a:lnTo>
                    <a:pt x="137" y="135"/>
                  </a:lnTo>
                  <a:lnTo>
                    <a:pt x="108" y="161"/>
                  </a:lnTo>
                  <a:lnTo>
                    <a:pt x="81" y="190"/>
                  </a:lnTo>
                  <a:lnTo>
                    <a:pt x="56" y="221"/>
                  </a:lnTo>
                  <a:lnTo>
                    <a:pt x="34" y="255"/>
                  </a:lnTo>
                  <a:lnTo>
                    <a:pt x="16" y="289"/>
                  </a:lnTo>
                  <a:lnTo>
                    <a:pt x="0" y="327"/>
                  </a:lnTo>
                  <a:lnTo>
                    <a:pt x="0" y="334"/>
                  </a:lnTo>
                  <a:lnTo>
                    <a:pt x="6" y="335"/>
                  </a:lnTo>
                  <a:lnTo>
                    <a:pt x="13" y="333"/>
                  </a:lnTo>
                  <a:lnTo>
                    <a:pt x="17" y="328"/>
                  </a:lnTo>
                  <a:lnTo>
                    <a:pt x="36" y="301"/>
                  </a:lnTo>
                  <a:lnTo>
                    <a:pt x="54" y="274"/>
                  </a:lnTo>
                  <a:lnTo>
                    <a:pt x="74" y="247"/>
                  </a:lnTo>
                  <a:lnTo>
                    <a:pt x="93" y="220"/>
                  </a:lnTo>
                  <a:lnTo>
                    <a:pt x="114" y="195"/>
                  </a:lnTo>
                  <a:lnTo>
                    <a:pt x="135" y="169"/>
                  </a:lnTo>
                  <a:lnTo>
                    <a:pt x="158" y="145"/>
                  </a:lnTo>
                  <a:lnTo>
                    <a:pt x="181" y="122"/>
                  </a:lnTo>
                  <a:lnTo>
                    <a:pt x="196" y="110"/>
                  </a:lnTo>
                  <a:lnTo>
                    <a:pt x="212" y="97"/>
                  </a:lnTo>
                  <a:lnTo>
                    <a:pt x="230" y="85"/>
                  </a:lnTo>
                  <a:lnTo>
                    <a:pt x="249" y="74"/>
                  </a:lnTo>
                  <a:lnTo>
                    <a:pt x="268" y="63"/>
                  </a:lnTo>
                  <a:lnTo>
                    <a:pt x="289" y="54"/>
                  </a:lnTo>
                  <a:lnTo>
                    <a:pt x="310" y="45"/>
                  </a:lnTo>
                  <a:lnTo>
                    <a:pt x="330" y="37"/>
                  </a:lnTo>
                  <a:lnTo>
                    <a:pt x="352" y="30"/>
                  </a:lnTo>
                  <a:lnTo>
                    <a:pt x="374" y="23"/>
                  </a:lnTo>
                  <a:lnTo>
                    <a:pt x="396" y="17"/>
                  </a:lnTo>
                  <a:lnTo>
                    <a:pt x="418" y="13"/>
                  </a:lnTo>
                  <a:lnTo>
                    <a:pt x="440" y="8"/>
                  </a:lnTo>
                  <a:lnTo>
                    <a:pt x="461" y="5"/>
                  </a:lnTo>
                  <a:lnTo>
                    <a:pt x="481" y="2"/>
                  </a:lnTo>
                  <a:lnTo>
                    <a:pt x="501" y="0"/>
                  </a:lnTo>
                  <a:lnTo>
                    <a:pt x="5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515"/>
            <p:cNvSpPr/>
            <p:nvPr/>
          </p:nvSpPr>
          <p:spPr>
            <a:xfrm rot="20009400">
              <a:off x="5862600" y="3308040"/>
              <a:ext cx="737640" cy="547560"/>
            </a:xfrm>
            <a:custGeom>
              <a:avLst/>
              <a:gdLst>
                <a:gd name="textAreaLeft" fmla="*/ 0 w 737640"/>
                <a:gd name="textAreaRight" fmla="*/ 738000 w 737640"/>
                <a:gd name="textAreaTop" fmla="*/ 0 h 547560"/>
                <a:gd name="textAreaBottom" fmla="*/ 547920 h 547560"/>
              </a:gdLst>
              <a:ahLst/>
              <a:rect l="textAreaLeft" t="textAreaTop" r="textAreaRight" b="textAreaBottom"/>
              <a:pathLst>
                <a:path w="509" h="364">
                  <a:moveTo>
                    <a:pt x="1" y="363"/>
                  </a:moveTo>
                  <a:lnTo>
                    <a:pt x="21" y="329"/>
                  </a:lnTo>
                  <a:lnTo>
                    <a:pt x="42" y="295"/>
                  </a:lnTo>
                  <a:lnTo>
                    <a:pt x="65" y="262"/>
                  </a:lnTo>
                  <a:lnTo>
                    <a:pt x="90" y="231"/>
                  </a:lnTo>
                  <a:lnTo>
                    <a:pt x="116" y="201"/>
                  </a:lnTo>
                  <a:lnTo>
                    <a:pt x="145" y="172"/>
                  </a:lnTo>
                  <a:lnTo>
                    <a:pt x="176" y="146"/>
                  </a:lnTo>
                  <a:lnTo>
                    <a:pt x="207" y="121"/>
                  </a:lnTo>
                  <a:lnTo>
                    <a:pt x="241" y="98"/>
                  </a:lnTo>
                  <a:lnTo>
                    <a:pt x="275" y="79"/>
                  </a:lnTo>
                  <a:lnTo>
                    <a:pt x="311" y="62"/>
                  </a:lnTo>
                  <a:lnTo>
                    <a:pt x="348" y="47"/>
                  </a:lnTo>
                  <a:lnTo>
                    <a:pt x="385" y="35"/>
                  </a:lnTo>
                  <a:lnTo>
                    <a:pt x="424" y="26"/>
                  </a:lnTo>
                  <a:lnTo>
                    <a:pt x="463" y="21"/>
                  </a:lnTo>
                  <a:lnTo>
                    <a:pt x="502" y="19"/>
                  </a:lnTo>
                  <a:lnTo>
                    <a:pt x="506" y="18"/>
                  </a:lnTo>
                  <a:lnTo>
                    <a:pt x="508" y="14"/>
                  </a:lnTo>
                  <a:lnTo>
                    <a:pt x="509" y="11"/>
                  </a:lnTo>
                  <a:lnTo>
                    <a:pt x="508" y="9"/>
                  </a:lnTo>
                  <a:lnTo>
                    <a:pt x="492" y="4"/>
                  </a:lnTo>
                  <a:lnTo>
                    <a:pt x="475" y="0"/>
                  </a:lnTo>
                  <a:lnTo>
                    <a:pt x="456" y="0"/>
                  </a:lnTo>
                  <a:lnTo>
                    <a:pt x="438" y="2"/>
                  </a:lnTo>
                  <a:lnTo>
                    <a:pt x="419" y="4"/>
                  </a:lnTo>
                  <a:lnTo>
                    <a:pt x="401" y="9"/>
                  </a:lnTo>
                  <a:lnTo>
                    <a:pt x="381" y="14"/>
                  </a:lnTo>
                  <a:lnTo>
                    <a:pt x="363" y="20"/>
                  </a:lnTo>
                  <a:lnTo>
                    <a:pt x="345" y="28"/>
                  </a:lnTo>
                  <a:lnTo>
                    <a:pt x="326" y="36"/>
                  </a:lnTo>
                  <a:lnTo>
                    <a:pt x="308" y="45"/>
                  </a:lnTo>
                  <a:lnTo>
                    <a:pt x="292" y="55"/>
                  </a:lnTo>
                  <a:lnTo>
                    <a:pt x="274" y="65"/>
                  </a:lnTo>
                  <a:lnTo>
                    <a:pt x="259" y="74"/>
                  </a:lnTo>
                  <a:lnTo>
                    <a:pt x="244" y="85"/>
                  </a:lnTo>
                  <a:lnTo>
                    <a:pt x="232" y="94"/>
                  </a:lnTo>
                  <a:lnTo>
                    <a:pt x="213" y="108"/>
                  </a:lnTo>
                  <a:lnTo>
                    <a:pt x="196" y="121"/>
                  </a:lnTo>
                  <a:lnTo>
                    <a:pt x="179" y="135"/>
                  </a:lnTo>
                  <a:lnTo>
                    <a:pt x="161" y="150"/>
                  </a:lnTo>
                  <a:lnTo>
                    <a:pt x="145" y="165"/>
                  </a:lnTo>
                  <a:lnTo>
                    <a:pt x="129" y="181"/>
                  </a:lnTo>
                  <a:lnTo>
                    <a:pt x="114" y="197"/>
                  </a:lnTo>
                  <a:lnTo>
                    <a:pt x="99" y="214"/>
                  </a:lnTo>
                  <a:lnTo>
                    <a:pt x="85" y="231"/>
                  </a:lnTo>
                  <a:lnTo>
                    <a:pt x="72" y="248"/>
                  </a:lnTo>
                  <a:lnTo>
                    <a:pt x="58" y="265"/>
                  </a:lnTo>
                  <a:lnTo>
                    <a:pt x="45" y="284"/>
                  </a:lnTo>
                  <a:lnTo>
                    <a:pt x="34" y="303"/>
                  </a:lnTo>
                  <a:lnTo>
                    <a:pt x="22" y="323"/>
                  </a:lnTo>
                  <a:lnTo>
                    <a:pt x="11" y="343"/>
                  </a:lnTo>
                  <a:lnTo>
                    <a:pt x="0" y="363"/>
                  </a:lnTo>
                  <a:lnTo>
                    <a:pt x="0" y="364"/>
                  </a:lnTo>
                  <a:lnTo>
                    <a:pt x="1" y="364"/>
                  </a:lnTo>
                  <a:lnTo>
                    <a:pt x="1"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 name="TextBox 517"/>
          <p:cNvSpPr/>
          <p:nvPr/>
        </p:nvSpPr>
        <p:spPr>
          <a:xfrm rot="1069800">
            <a:off x="6045480" y="360324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Lucida Handwriting"/>
              </a:rPr>
              <a:t>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Lucida Handwriting"/>
              </a:rPr>
              <a:t>MAPLE-2</a:t>
            </a:r>
            <a:endParaRPr b="0" lang="en-US" sz="1800" spc="-1" strike="noStrike">
              <a:solidFill>
                <a:srgbClr val="000000"/>
              </a:solidFill>
              <a:latin typeface="Arial"/>
            </a:endParaRPr>
          </a:p>
        </p:txBody>
      </p:sp>
      <p:sp>
        <p:nvSpPr>
          <p:cNvPr id="167" name="Freeform 405"/>
          <p:cNvSpPr/>
          <p:nvPr/>
        </p:nvSpPr>
        <p:spPr>
          <a:xfrm flipH="1">
            <a:off x="4190400" y="1143000"/>
            <a:ext cx="2020680" cy="2597040"/>
          </a:xfrm>
          <a:custGeom>
            <a:avLst/>
            <a:gdLst>
              <a:gd name="textAreaLeft" fmla="*/ -360 w 2020680"/>
              <a:gd name="textAreaRight" fmla="*/ 2020680 w 2020680"/>
              <a:gd name="textAreaTop" fmla="*/ 0 h 2597040"/>
              <a:gd name="textAreaBottom" fmla="*/ 2597400 h 2597040"/>
            </a:gdLst>
            <a:ahLst/>
            <a:rect l="textAreaLeft" t="textAreaTop" r="textAreaRight" b="textAreaBottom"/>
            <a:pathLst>
              <a:path w="1225" h="1924">
                <a:moveTo>
                  <a:pt x="264" y="1218"/>
                </a:moveTo>
                <a:lnTo>
                  <a:pt x="239" y="1200"/>
                </a:lnTo>
                <a:lnTo>
                  <a:pt x="212" y="1194"/>
                </a:lnTo>
                <a:lnTo>
                  <a:pt x="185" y="1196"/>
                </a:lnTo>
                <a:lnTo>
                  <a:pt x="162" y="1199"/>
                </a:lnTo>
                <a:lnTo>
                  <a:pt x="142" y="1200"/>
                </a:lnTo>
                <a:lnTo>
                  <a:pt x="127" y="1196"/>
                </a:lnTo>
                <a:lnTo>
                  <a:pt x="119" y="1181"/>
                </a:lnTo>
                <a:lnTo>
                  <a:pt x="121" y="1151"/>
                </a:lnTo>
                <a:lnTo>
                  <a:pt x="115" y="1146"/>
                </a:lnTo>
                <a:lnTo>
                  <a:pt x="108" y="1141"/>
                </a:lnTo>
                <a:lnTo>
                  <a:pt x="100" y="1137"/>
                </a:lnTo>
                <a:lnTo>
                  <a:pt x="94" y="1132"/>
                </a:lnTo>
                <a:lnTo>
                  <a:pt x="88" y="1129"/>
                </a:lnTo>
                <a:lnTo>
                  <a:pt x="81" y="1124"/>
                </a:lnTo>
                <a:lnTo>
                  <a:pt x="77" y="1119"/>
                </a:lnTo>
                <a:lnTo>
                  <a:pt x="70" y="1114"/>
                </a:lnTo>
                <a:lnTo>
                  <a:pt x="83" y="1102"/>
                </a:lnTo>
                <a:lnTo>
                  <a:pt x="94" y="1090"/>
                </a:lnTo>
                <a:lnTo>
                  <a:pt x="102" y="1079"/>
                </a:lnTo>
                <a:lnTo>
                  <a:pt x="107" y="1062"/>
                </a:lnTo>
                <a:lnTo>
                  <a:pt x="97" y="1055"/>
                </a:lnTo>
                <a:lnTo>
                  <a:pt x="80" y="1049"/>
                </a:lnTo>
                <a:lnTo>
                  <a:pt x="57" y="1041"/>
                </a:lnTo>
                <a:lnTo>
                  <a:pt x="35" y="1035"/>
                </a:lnTo>
                <a:lnTo>
                  <a:pt x="14" y="1025"/>
                </a:lnTo>
                <a:lnTo>
                  <a:pt x="2" y="1013"/>
                </a:lnTo>
                <a:lnTo>
                  <a:pt x="0" y="997"/>
                </a:lnTo>
                <a:lnTo>
                  <a:pt x="11" y="976"/>
                </a:lnTo>
                <a:lnTo>
                  <a:pt x="22" y="971"/>
                </a:lnTo>
                <a:lnTo>
                  <a:pt x="34" y="966"/>
                </a:lnTo>
                <a:lnTo>
                  <a:pt x="45" y="960"/>
                </a:lnTo>
                <a:lnTo>
                  <a:pt x="54" y="952"/>
                </a:lnTo>
                <a:lnTo>
                  <a:pt x="51" y="946"/>
                </a:lnTo>
                <a:lnTo>
                  <a:pt x="49" y="939"/>
                </a:lnTo>
                <a:lnTo>
                  <a:pt x="49" y="933"/>
                </a:lnTo>
                <a:lnTo>
                  <a:pt x="49" y="920"/>
                </a:lnTo>
                <a:lnTo>
                  <a:pt x="64" y="914"/>
                </a:lnTo>
                <a:lnTo>
                  <a:pt x="78" y="907"/>
                </a:lnTo>
                <a:lnTo>
                  <a:pt x="91" y="901"/>
                </a:lnTo>
                <a:lnTo>
                  <a:pt x="105" y="892"/>
                </a:lnTo>
                <a:lnTo>
                  <a:pt x="116" y="882"/>
                </a:lnTo>
                <a:lnTo>
                  <a:pt x="126" y="871"/>
                </a:lnTo>
                <a:lnTo>
                  <a:pt x="132" y="857"/>
                </a:lnTo>
                <a:lnTo>
                  <a:pt x="137" y="842"/>
                </a:lnTo>
                <a:lnTo>
                  <a:pt x="124" y="831"/>
                </a:lnTo>
                <a:lnTo>
                  <a:pt x="119" y="823"/>
                </a:lnTo>
                <a:lnTo>
                  <a:pt x="118" y="817"/>
                </a:lnTo>
                <a:lnTo>
                  <a:pt x="123" y="812"/>
                </a:lnTo>
                <a:lnTo>
                  <a:pt x="129" y="807"/>
                </a:lnTo>
                <a:lnTo>
                  <a:pt x="139" y="801"/>
                </a:lnTo>
                <a:lnTo>
                  <a:pt x="150" y="793"/>
                </a:lnTo>
                <a:lnTo>
                  <a:pt x="159" y="783"/>
                </a:lnTo>
                <a:lnTo>
                  <a:pt x="143" y="771"/>
                </a:lnTo>
                <a:lnTo>
                  <a:pt x="127" y="760"/>
                </a:lnTo>
                <a:lnTo>
                  <a:pt x="115" y="750"/>
                </a:lnTo>
                <a:lnTo>
                  <a:pt x="102" y="739"/>
                </a:lnTo>
                <a:lnTo>
                  <a:pt x="91" y="729"/>
                </a:lnTo>
                <a:lnTo>
                  <a:pt x="81" y="717"/>
                </a:lnTo>
                <a:lnTo>
                  <a:pt x="73" y="701"/>
                </a:lnTo>
                <a:lnTo>
                  <a:pt x="67" y="682"/>
                </a:lnTo>
                <a:lnTo>
                  <a:pt x="86" y="670"/>
                </a:lnTo>
                <a:lnTo>
                  <a:pt x="108" y="661"/>
                </a:lnTo>
                <a:lnTo>
                  <a:pt x="131" y="650"/>
                </a:lnTo>
                <a:lnTo>
                  <a:pt x="154" y="639"/>
                </a:lnTo>
                <a:lnTo>
                  <a:pt x="175" y="624"/>
                </a:lnTo>
                <a:lnTo>
                  <a:pt x="193" y="608"/>
                </a:lnTo>
                <a:lnTo>
                  <a:pt x="204" y="591"/>
                </a:lnTo>
                <a:lnTo>
                  <a:pt x="209" y="569"/>
                </a:lnTo>
                <a:lnTo>
                  <a:pt x="201" y="562"/>
                </a:lnTo>
                <a:lnTo>
                  <a:pt x="193" y="559"/>
                </a:lnTo>
                <a:lnTo>
                  <a:pt x="182" y="554"/>
                </a:lnTo>
                <a:lnTo>
                  <a:pt x="164" y="546"/>
                </a:lnTo>
                <a:lnTo>
                  <a:pt x="162" y="545"/>
                </a:lnTo>
                <a:lnTo>
                  <a:pt x="162" y="541"/>
                </a:lnTo>
                <a:lnTo>
                  <a:pt x="162" y="540"/>
                </a:lnTo>
                <a:lnTo>
                  <a:pt x="162" y="538"/>
                </a:lnTo>
                <a:lnTo>
                  <a:pt x="172" y="530"/>
                </a:lnTo>
                <a:lnTo>
                  <a:pt x="178" y="522"/>
                </a:lnTo>
                <a:lnTo>
                  <a:pt x="183" y="514"/>
                </a:lnTo>
                <a:lnTo>
                  <a:pt x="186" y="503"/>
                </a:lnTo>
                <a:lnTo>
                  <a:pt x="178" y="502"/>
                </a:lnTo>
                <a:lnTo>
                  <a:pt x="169" y="500"/>
                </a:lnTo>
                <a:lnTo>
                  <a:pt x="158" y="499"/>
                </a:lnTo>
                <a:lnTo>
                  <a:pt x="147" y="495"/>
                </a:lnTo>
                <a:lnTo>
                  <a:pt x="135" y="494"/>
                </a:lnTo>
                <a:lnTo>
                  <a:pt x="124" y="492"/>
                </a:lnTo>
                <a:lnTo>
                  <a:pt x="118" y="491"/>
                </a:lnTo>
                <a:lnTo>
                  <a:pt x="113" y="489"/>
                </a:lnTo>
                <a:lnTo>
                  <a:pt x="113" y="486"/>
                </a:lnTo>
                <a:lnTo>
                  <a:pt x="113" y="484"/>
                </a:lnTo>
                <a:lnTo>
                  <a:pt x="113" y="481"/>
                </a:lnTo>
                <a:lnTo>
                  <a:pt x="113" y="479"/>
                </a:lnTo>
                <a:lnTo>
                  <a:pt x="140" y="460"/>
                </a:lnTo>
                <a:lnTo>
                  <a:pt x="172" y="448"/>
                </a:lnTo>
                <a:lnTo>
                  <a:pt x="207" y="438"/>
                </a:lnTo>
                <a:lnTo>
                  <a:pt x="242" y="430"/>
                </a:lnTo>
                <a:lnTo>
                  <a:pt x="274" y="419"/>
                </a:lnTo>
                <a:lnTo>
                  <a:pt x="301" y="405"/>
                </a:lnTo>
                <a:lnTo>
                  <a:pt x="320" y="382"/>
                </a:lnTo>
                <a:lnTo>
                  <a:pt x="328" y="349"/>
                </a:lnTo>
                <a:lnTo>
                  <a:pt x="602" y="577"/>
                </a:lnTo>
                <a:lnTo>
                  <a:pt x="602" y="583"/>
                </a:lnTo>
                <a:lnTo>
                  <a:pt x="602" y="588"/>
                </a:lnTo>
                <a:lnTo>
                  <a:pt x="602" y="594"/>
                </a:lnTo>
                <a:lnTo>
                  <a:pt x="602" y="600"/>
                </a:lnTo>
                <a:lnTo>
                  <a:pt x="608" y="605"/>
                </a:lnTo>
                <a:lnTo>
                  <a:pt x="614" y="608"/>
                </a:lnTo>
                <a:lnTo>
                  <a:pt x="621" y="613"/>
                </a:lnTo>
                <a:lnTo>
                  <a:pt x="627" y="618"/>
                </a:lnTo>
                <a:lnTo>
                  <a:pt x="625" y="612"/>
                </a:lnTo>
                <a:lnTo>
                  <a:pt x="624" y="605"/>
                </a:lnTo>
                <a:lnTo>
                  <a:pt x="622" y="600"/>
                </a:lnTo>
                <a:lnTo>
                  <a:pt x="621" y="594"/>
                </a:lnTo>
                <a:lnTo>
                  <a:pt x="629" y="592"/>
                </a:lnTo>
                <a:lnTo>
                  <a:pt x="637" y="591"/>
                </a:lnTo>
                <a:lnTo>
                  <a:pt x="645" y="591"/>
                </a:lnTo>
                <a:lnTo>
                  <a:pt x="653" y="589"/>
                </a:lnTo>
                <a:lnTo>
                  <a:pt x="653" y="578"/>
                </a:lnTo>
                <a:lnTo>
                  <a:pt x="654" y="567"/>
                </a:lnTo>
                <a:lnTo>
                  <a:pt x="657" y="557"/>
                </a:lnTo>
                <a:lnTo>
                  <a:pt x="665" y="551"/>
                </a:lnTo>
                <a:lnTo>
                  <a:pt x="662" y="549"/>
                </a:lnTo>
                <a:lnTo>
                  <a:pt x="657" y="546"/>
                </a:lnTo>
                <a:lnTo>
                  <a:pt x="653" y="545"/>
                </a:lnTo>
                <a:lnTo>
                  <a:pt x="649" y="543"/>
                </a:lnTo>
                <a:lnTo>
                  <a:pt x="646" y="537"/>
                </a:lnTo>
                <a:lnTo>
                  <a:pt x="641" y="530"/>
                </a:lnTo>
                <a:lnTo>
                  <a:pt x="637" y="526"/>
                </a:lnTo>
                <a:lnTo>
                  <a:pt x="632" y="519"/>
                </a:lnTo>
                <a:lnTo>
                  <a:pt x="627" y="524"/>
                </a:lnTo>
                <a:lnTo>
                  <a:pt x="622" y="532"/>
                </a:lnTo>
                <a:lnTo>
                  <a:pt x="619" y="540"/>
                </a:lnTo>
                <a:lnTo>
                  <a:pt x="618" y="551"/>
                </a:lnTo>
                <a:lnTo>
                  <a:pt x="622" y="549"/>
                </a:lnTo>
                <a:lnTo>
                  <a:pt x="627" y="549"/>
                </a:lnTo>
                <a:lnTo>
                  <a:pt x="632" y="549"/>
                </a:lnTo>
                <a:lnTo>
                  <a:pt x="637" y="549"/>
                </a:lnTo>
                <a:lnTo>
                  <a:pt x="638" y="554"/>
                </a:lnTo>
                <a:lnTo>
                  <a:pt x="638" y="561"/>
                </a:lnTo>
                <a:lnTo>
                  <a:pt x="640" y="565"/>
                </a:lnTo>
                <a:lnTo>
                  <a:pt x="640" y="572"/>
                </a:lnTo>
                <a:lnTo>
                  <a:pt x="629" y="584"/>
                </a:lnTo>
                <a:lnTo>
                  <a:pt x="619" y="588"/>
                </a:lnTo>
                <a:lnTo>
                  <a:pt x="610" y="584"/>
                </a:lnTo>
                <a:lnTo>
                  <a:pt x="602" y="577"/>
                </a:lnTo>
                <a:lnTo>
                  <a:pt x="328" y="349"/>
                </a:lnTo>
                <a:lnTo>
                  <a:pt x="344" y="346"/>
                </a:lnTo>
                <a:lnTo>
                  <a:pt x="353" y="343"/>
                </a:lnTo>
                <a:lnTo>
                  <a:pt x="361" y="335"/>
                </a:lnTo>
                <a:lnTo>
                  <a:pt x="374" y="322"/>
                </a:lnTo>
                <a:lnTo>
                  <a:pt x="366" y="312"/>
                </a:lnTo>
                <a:lnTo>
                  <a:pt x="357" y="304"/>
                </a:lnTo>
                <a:lnTo>
                  <a:pt x="350" y="296"/>
                </a:lnTo>
                <a:lnTo>
                  <a:pt x="347" y="288"/>
                </a:lnTo>
                <a:lnTo>
                  <a:pt x="360" y="281"/>
                </a:lnTo>
                <a:lnTo>
                  <a:pt x="377" y="274"/>
                </a:lnTo>
                <a:lnTo>
                  <a:pt x="398" y="269"/>
                </a:lnTo>
                <a:lnTo>
                  <a:pt x="422" y="265"/>
                </a:lnTo>
                <a:lnTo>
                  <a:pt x="446" y="261"/>
                </a:lnTo>
                <a:lnTo>
                  <a:pt x="470" y="257"/>
                </a:lnTo>
                <a:lnTo>
                  <a:pt x="492" y="250"/>
                </a:lnTo>
                <a:lnTo>
                  <a:pt x="511" y="242"/>
                </a:lnTo>
                <a:lnTo>
                  <a:pt x="503" y="226"/>
                </a:lnTo>
                <a:lnTo>
                  <a:pt x="512" y="212"/>
                </a:lnTo>
                <a:lnTo>
                  <a:pt x="532" y="199"/>
                </a:lnTo>
                <a:lnTo>
                  <a:pt x="555" y="187"/>
                </a:lnTo>
                <a:lnTo>
                  <a:pt x="578" y="172"/>
                </a:lnTo>
                <a:lnTo>
                  <a:pt x="594" y="158"/>
                </a:lnTo>
                <a:lnTo>
                  <a:pt x="598" y="140"/>
                </a:lnTo>
                <a:lnTo>
                  <a:pt x="586" y="118"/>
                </a:lnTo>
                <a:lnTo>
                  <a:pt x="586" y="115"/>
                </a:lnTo>
                <a:lnTo>
                  <a:pt x="586" y="112"/>
                </a:lnTo>
                <a:lnTo>
                  <a:pt x="586" y="110"/>
                </a:lnTo>
                <a:lnTo>
                  <a:pt x="586" y="107"/>
                </a:lnTo>
                <a:lnTo>
                  <a:pt x="592" y="102"/>
                </a:lnTo>
                <a:lnTo>
                  <a:pt x="598" y="98"/>
                </a:lnTo>
                <a:lnTo>
                  <a:pt x="605" y="93"/>
                </a:lnTo>
                <a:lnTo>
                  <a:pt x="611" y="88"/>
                </a:lnTo>
                <a:lnTo>
                  <a:pt x="616" y="83"/>
                </a:lnTo>
                <a:lnTo>
                  <a:pt x="622" y="78"/>
                </a:lnTo>
                <a:lnTo>
                  <a:pt x="629" y="75"/>
                </a:lnTo>
                <a:lnTo>
                  <a:pt x="635" y="70"/>
                </a:lnTo>
                <a:lnTo>
                  <a:pt x="635" y="66"/>
                </a:lnTo>
                <a:lnTo>
                  <a:pt x="635" y="61"/>
                </a:lnTo>
                <a:lnTo>
                  <a:pt x="635" y="56"/>
                </a:lnTo>
                <a:lnTo>
                  <a:pt x="635" y="51"/>
                </a:lnTo>
                <a:lnTo>
                  <a:pt x="624" y="45"/>
                </a:lnTo>
                <a:lnTo>
                  <a:pt x="614" y="39"/>
                </a:lnTo>
                <a:lnTo>
                  <a:pt x="608" y="32"/>
                </a:lnTo>
                <a:lnTo>
                  <a:pt x="602" y="24"/>
                </a:lnTo>
                <a:lnTo>
                  <a:pt x="624" y="15"/>
                </a:lnTo>
                <a:lnTo>
                  <a:pt x="648" y="7"/>
                </a:lnTo>
                <a:lnTo>
                  <a:pt x="672" y="2"/>
                </a:lnTo>
                <a:lnTo>
                  <a:pt x="697" y="0"/>
                </a:lnTo>
                <a:lnTo>
                  <a:pt x="723" y="0"/>
                </a:lnTo>
                <a:lnTo>
                  <a:pt x="746" y="5"/>
                </a:lnTo>
                <a:lnTo>
                  <a:pt x="770" y="13"/>
                </a:lnTo>
                <a:lnTo>
                  <a:pt x="793" y="24"/>
                </a:lnTo>
                <a:lnTo>
                  <a:pt x="791" y="42"/>
                </a:lnTo>
                <a:lnTo>
                  <a:pt x="786" y="58"/>
                </a:lnTo>
                <a:lnTo>
                  <a:pt x="783" y="74"/>
                </a:lnTo>
                <a:lnTo>
                  <a:pt x="783" y="94"/>
                </a:lnTo>
                <a:lnTo>
                  <a:pt x="802" y="101"/>
                </a:lnTo>
                <a:lnTo>
                  <a:pt x="820" y="104"/>
                </a:lnTo>
                <a:lnTo>
                  <a:pt x="839" y="102"/>
                </a:lnTo>
                <a:lnTo>
                  <a:pt x="858" y="102"/>
                </a:lnTo>
                <a:lnTo>
                  <a:pt x="875" y="102"/>
                </a:lnTo>
                <a:lnTo>
                  <a:pt x="893" y="104"/>
                </a:lnTo>
                <a:lnTo>
                  <a:pt x="910" y="112"/>
                </a:lnTo>
                <a:lnTo>
                  <a:pt x="926" y="126"/>
                </a:lnTo>
                <a:lnTo>
                  <a:pt x="907" y="163"/>
                </a:lnTo>
                <a:lnTo>
                  <a:pt x="901" y="187"/>
                </a:lnTo>
                <a:lnTo>
                  <a:pt x="906" y="203"/>
                </a:lnTo>
                <a:lnTo>
                  <a:pt x="917" y="214"/>
                </a:lnTo>
                <a:lnTo>
                  <a:pt x="931" y="225"/>
                </a:lnTo>
                <a:lnTo>
                  <a:pt x="947" y="239"/>
                </a:lnTo>
                <a:lnTo>
                  <a:pt x="960" y="261"/>
                </a:lnTo>
                <a:lnTo>
                  <a:pt x="966" y="293"/>
                </a:lnTo>
                <a:lnTo>
                  <a:pt x="980" y="301"/>
                </a:lnTo>
                <a:lnTo>
                  <a:pt x="991" y="304"/>
                </a:lnTo>
                <a:lnTo>
                  <a:pt x="999" y="306"/>
                </a:lnTo>
                <a:lnTo>
                  <a:pt x="1006" y="308"/>
                </a:lnTo>
                <a:lnTo>
                  <a:pt x="1011" y="311"/>
                </a:lnTo>
                <a:lnTo>
                  <a:pt x="1014" y="319"/>
                </a:lnTo>
                <a:lnTo>
                  <a:pt x="1017" y="333"/>
                </a:lnTo>
                <a:lnTo>
                  <a:pt x="1020" y="355"/>
                </a:lnTo>
                <a:lnTo>
                  <a:pt x="1069" y="365"/>
                </a:lnTo>
                <a:lnTo>
                  <a:pt x="1095" y="374"/>
                </a:lnTo>
                <a:lnTo>
                  <a:pt x="1104" y="384"/>
                </a:lnTo>
                <a:lnTo>
                  <a:pt x="1101" y="394"/>
                </a:lnTo>
                <a:lnTo>
                  <a:pt x="1088" y="408"/>
                </a:lnTo>
                <a:lnTo>
                  <a:pt x="1074" y="424"/>
                </a:lnTo>
                <a:lnTo>
                  <a:pt x="1061" y="444"/>
                </a:lnTo>
                <a:lnTo>
                  <a:pt x="1057" y="470"/>
                </a:lnTo>
                <a:lnTo>
                  <a:pt x="1063" y="475"/>
                </a:lnTo>
                <a:lnTo>
                  <a:pt x="1069" y="479"/>
                </a:lnTo>
                <a:lnTo>
                  <a:pt x="1074" y="484"/>
                </a:lnTo>
                <a:lnTo>
                  <a:pt x="1081" y="489"/>
                </a:lnTo>
                <a:lnTo>
                  <a:pt x="1077" y="500"/>
                </a:lnTo>
                <a:lnTo>
                  <a:pt x="1069" y="508"/>
                </a:lnTo>
                <a:lnTo>
                  <a:pt x="1061" y="519"/>
                </a:lnTo>
                <a:lnTo>
                  <a:pt x="1060" y="537"/>
                </a:lnTo>
                <a:lnTo>
                  <a:pt x="1090" y="551"/>
                </a:lnTo>
                <a:lnTo>
                  <a:pt x="1112" y="557"/>
                </a:lnTo>
                <a:lnTo>
                  <a:pt x="1128" y="561"/>
                </a:lnTo>
                <a:lnTo>
                  <a:pt x="1138" y="562"/>
                </a:lnTo>
                <a:lnTo>
                  <a:pt x="1143" y="569"/>
                </a:lnTo>
                <a:lnTo>
                  <a:pt x="1143" y="580"/>
                </a:lnTo>
                <a:lnTo>
                  <a:pt x="1139" y="602"/>
                </a:lnTo>
                <a:lnTo>
                  <a:pt x="1131" y="635"/>
                </a:lnTo>
                <a:lnTo>
                  <a:pt x="1139" y="637"/>
                </a:lnTo>
                <a:lnTo>
                  <a:pt x="1146" y="639"/>
                </a:lnTo>
                <a:lnTo>
                  <a:pt x="1154" y="640"/>
                </a:lnTo>
                <a:lnTo>
                  <a:pt x="1160" y="642"/>
                </a:lnTo>
                <a:lnTo>
                  <a:pt x="1168" y="645"/>
                </a:lnTo>
                <a:lnTo>
                  <a:pt x="1174" y="647"/>
                </a:lnTo>
                <a:lnTo>
                  <a:pt x="1182" y="651"/>
                </a:lnTo>
                <a:lnTo>
                  <a:pt x="1190" y="654"/>
                </a:lnTo>
                <a:lnTo>
                  <a:pt x="1189" y="667"/>
                </a:lnTo>
                <a:lnTo>
                  <a:pt x="1186" y="677"/>
                </a:lnTo>
                <a:lnTo>
                  <a:pt x="1179" y="685"/>
                </a:lnTo>
                <a:lnTo>
                  <a:pt x="1171" y="689"/>
                </a:lnTo>
                <a:lnTo>
                  <a:pt x="1162" y="693"/>
                </a:lnTo>
                <a:lnTo>
                  <a:pt x="1152" y="696"/>
                </a:lnTo>
                <a:lnTo>
                  <a:pt x="1141" y="699"/>
                </a:lnTo>
                <a:lnTo>
                  <a:pt x="1130" y="702"/>
                </a:lnTo>
                <a:lnTo>
                  <a:pt x="1128" y="705"/>
                </a:lnTo>
                <a:lnTo>
                  <a:pt x="1128" y="709"/>
                </a:lnTo>
                <a:lnTo>
                  <a:pt x="1127" y="712"/>
                </a:lnTo>
                <a:lnTo>
                  <a:pt x="1127" y="715"/>
                </a:lnTo>
                <a:lnTo>
                  <a:pt x="1131" y="720"/>
                </a:lnTo>
                <a:lnTo>
                  <a:pt x="1135" y="723"/>
                </a:lnTo>
                <a:lnTo>
                  <a:pt x="1135" y="729"/>
                </a:lnTo>
                <a:lnTo>
                  <a:pt x="1135" y="737"/>
                </a:lnTo>
                <a:lnTo>
                  <a:pt x="1119" y="740"/>
                </a:lnTo>
                <a:lnTo>
                  <a:pt x="1101" y="745"/>
                </a:lnTo>
                <a:lnTo>
                  <a:pt x="1082" y="750"/>
                </a:lnTo>
                <a:lnTo>
                  <a:pt x="1065" y="756"/>
                </a:lnTo>
                <a:lnTo>
                  <a:pt x="1049" y="764"/>
                </a:lnTo>
                <a:lnTo>
                  <a:pt x="1034" y="774"/>
                </a:lnTo>
                <a:lnTo>
                  <a:pt x="1025" y="787"/>
                </a:lnTo>
                <a:lnTo>
                  <a:pt x="1020" y="802"/>
                </a:lnTo>
                <a:lnTo>
                  <a:pt x="1038" y="802"/>
                </a:lnTo>
                <a:lnTo>
                  <a:pt x="1053" y="804"/>
                </a:lnTo>
                <a:lnTo>
                  <a:pt x="1069" y="804"/>
                </a:lnTo>
                <a:lnTo>
                  <a:pt x="1085" y="806"/>
                </a:lnTo>
                <a:lnTo>
                  <a:pt x="1101" y="809"/>
                </a:lnTo>
                <a:lnTo>
                  <a:pt x="1117" y="814"/>
                </a:lnTo>
                <a:lnTo>
                  <a:pt x="1133" y="820"/>
                </a:lnTo>
                <a:lnTo>
                  <a:pt x="1149" y="828"/>
                </a:lnTo>
                <a:lnTo>
                  <a:pt x="1149" y="833"/>
                </a:lnTo>
                <a:lnTo>
                  <a:pt x="1149" y="836"/>
                </a:lnTo>
                <a:lnTo>
                  <a:pt x="1149" y="841"/>
                </a:lnTo>
                <a:lnTo>
                  <a:pt x="1149" y="844"/>
                </a:lnTo>
                <a:lnTo>
                  <a:pt x="1135" y="850"/>
                </a:lnTo>
                <a:lnTo>
                  <a:pt x="1125" y="857"/>
                </a:lnTo>
                <a:lnTo>
                  <a:pt x="1119" y="865"/>
                </a:lnTo>
                <a:lnTo>
                  <a:pt x="1114" y="880"/>
                </a:lnTo>
                <a:lnTo>
                  <a:pt x="1124" y="887"/>
                </a:lnTo>
                <a:lnTo>
                  <a:pt x="1136" y="890"/>
                </a:lnTo>
                <a:lnTo>
                  <a:pt x="1151" y="893"/>
                </a:lnTo>
                <a:lnTo>
                  <a:pt x="1165" y="895"/>
                </a:lnTo>
                <a:lnTo>
                  <a:pt x="1181" y="900"/>
                </a:lnTo>
                <a:lnTo>
                  <a:pt x="1197" y="906"/>
                </a:lnTo>
                <a:lnTo>
                  <a:pt x="1213" y="917"/>
                </a:lnTo>
                <a:lnTo>
                  <a:pt x="1225" y="935"/>
                </a:lnTo>
                <a:lnTo>
                  <a:pt x="1216" y="939"/>
                </a:lnTo>
                <a:lnTo>
                  <a:pt x="1208" y="944"/>
                </a:lnTo>
                <a:lnTo>
                  <a:pt x="1200" y="952"/>
                </a:lnTo>
                <a:lnTo>
                  <a:pt x="1192" y="960"/>
                </a:lnTo>
                <a:lnTo>
                  <a:pt x="1186" y="970"/>
                </a:lnTo>
                <a:lnTo>
                  <a:pt x="1181" y="981"/>
                </a:lnTo>
                <a:lnTo>
                  <a:pt x="1178" y="990"/>
                </a:lnTo>
                <a:lnTo>
                  <a:pt x="1174" y="1000"/>
                </a:lnTo>
                <a:lnTo>
                  <a:pt x="1186" y="1006"/>
                </a:lnTo>
                <a:lnTo>
                  <a:pt x="1189" y="1016"/>
                </a:lnTo>
                <a:lnTo>
                  <a:pt x="1184" y="1027"/>
                </a:lnTo>
                <a:lnTo>
                  <a:pt x="1174" y="1038"/>
                </a:lnTo>
                <a:lnTo>
                  <a:pt x="1163" y="1049"/>
                </a:lnTo>
                <a:lnTo>
                  <a:pt x="1152" y="1060"/>
                </a:lnTo>
                <a:lnTo>
                  <a:pt x="1143" y="1071"/>
                </a:lnTo>
                <a:lnTo>
                  <a:pt x="1138" y="1079"/>
                </a:lnTo>
                <a:lnTo>
                  <a:pt x="1149" y="1078"/>
                </a:lnTo>
                <a:lnTo>
                  <a:pt x="1162" y="1078"/>
                </a:lnTo>
                <a:lnTo>
                  <a:pt x="1173" y="1078"/>
                </a:lnTo>
                <a:lnTo>
                  <a:pt x="1184" y="1078"/>
                </a:lnTo>
                <a:lnTo>
                  <a:pt x="1181" y="1092"/>
                </a:lnTo>
                <a:lnTo>
                  <a:pt x="1171" y="1105"/>
                </a:lnTo>
                <a:lnTo>
                  <a:pt x="1159" y="1116"/>
                </a:lnTo>
                <a:lnTo>
                  <a:pt x="1143" y="1127"/>
                </a:lnTo>
                <a:lnTo>
                  <a:pt x="1125" y="1137"/>
                </a:lnTo>
                <a:lnTo>
                  <a:pt x="1106" y="1146"/>
                </a:lnTo>
                <a:lnTo>
                  <a:pt x="1090" y="1156"/>
                </a:lnTo>
                <a:lnTo>
                  <a:pt x="1077" y="1164"/>
                </a:lnTo>
                <a:lnTo>
                  <a:pt x="1077" y="1167"/>
                </a:lnTo>
                <a:lnTo>
                  <a:pt x="1077" y="1170"/>
                </a:lnTo>
                <a:lnTo>
                  <a:pt x="1077" y="1173"/>
                </a:lnTo>
                <a:lnTo>
                  <a:pt x="1077" y="1176"/>
                </a:lnTo>
                <a:lnTo>
                  <a:pt x="1093" y="1180"/>
                </a:lnTo>
                <a:lnTo>
                  <a:pt x="1104" y="1184"/>
                </a:lnTo>
                <a:lnTo>
                  <a:pt x="1112" y="1189"/>
                </a:lnTo>
                <a:lnTo>
                  <a:pt x="1116" y="1196"/>
                </a:lnTo>
                <a:lnTo>
                  <a:pt x="1116" y="1205"/>
                </a:lnTo>
                <a:lnTo>
                  <a:pt x="1111" y="1215"/>
                </a:lnTo>
                <a:lnTo>
                  <a:pt x="1103" y="1226"/>
                </a:lnTo>
                <a:lnTo>
                  <a:pt x="1092" y="1240"/>
                </a:lnTo>
                <a:lnTo>
                  <a:pt x="1093" y="1251"/>
                </a:lnTo>
                <a:lnTo>
                  <a:pt x="1098" y="1261"/>
                </a:lnTo>
                <a:lnTo>
                  <a:pt x="1101" y="1273"/>
                </a:lnTo>
                <a:lnTo>
                  <a:pt x="1103" y="1288"/>
                </a:lnTo>
                <a:lnTo>
                  <a:pt x="1074" y="1308"/>
                </a:lnTo>
                <a:lnTo>
                  <a:pt x="1044" y="1318"/>
                </a:lnTo>
                <a:lnTo>
                  <a:pt x="1014" y="1320"/>
                </a:lnTo>
                <a:lnTo>
                  <a:pt x="983" y="1320"/>
                </a:lnTo>
                <a:lnTo>
                  <a:pt x="958" y="1323"/>
                </a:lnTo>
                <a:lnTo>
                  <a:pt x="941" y="1332"/>
                </a:lnTo>
                <a:lnTo>
                  <a:pt x="929" y="1355"/>
                </a:lnTo>
                <a:lnTo>
                  <a:pt x="929" y="1393"/>
                </a:lnTo>
                <a:lnTo>
                  <a:pt x="923" y="1401"/>
                </a:lnTo>
                <a:lnTo>
                  <a:pt x="918" y="1406"/>
                </a:lnTo>
                <a:lnTo>
                  <a:pt x="912" y="1410"/>
                </a:lnTo>
                <a:lnTo>
                  <a:pt x="902" y="1417"/>
                </a:lnTo>
                <a:lnTo>
                  <a:pt x="909" y="1434"/>
                </a:lnTo>
                <a:lnTo>
                  <a:pt x="910" y="1447"/>
                </a:lnTo>
                <a:lnTo>
                  <a:pt x="906" y="1456"/>
                </a:lnTo>
                <a:lnTo>
                  <a:pt x="898" y="1463"/>
                </a:lnTo>
                <a:lnTo>
                  <a:pt x="886" y="1466"/>
                </a:lnTo>
                <a:lnTo>
                  <a:pt x="874" y="1466"/>
                </a:lnTo>
                <a:lnTo>
                  <a:pt x="858" y="1463"/>
                </a:lnTo>
                <a:lnTo>
                  <a:pt x="840" y="1456"/>
                </a:lnTo>
                <a:lnTo>
                  <a:pt x="810" y="1456"/>
                </a:lnTo>
                <a:lnTo>
                  <a:pt x="781" y="1458"/>
                </a:lnTo>
                <a:lnTo>
                  <a:pt x="756" y="1461"/>
                </a:lnTo>
                <a:lnTo>
                  <a:pt x="732" y="1463"/>
                </a:lnTo>
                <a:lnTo>
                  <a:pt x="711" y="1464"/>
                </a:lnTo>
                <a:lnTo>
                  <a:pt x="695" y="1466"/>
                </a:lnTo>
                <a:lnTo>
                  <a:pt x="684" y="1468"/>
                </a:lnTo>
                <a:lnTo>
                  <a:pt x="680" y="1466"/>
                </a:lnTo>
                <a:lnTo>
                  <a:pt x="668" y="1495"/>
                </a:lnTo>
                <a:lnTo>
                  <a:pt x="670" y="1534"/>
                </a:lnTo>
                <a:lnTo>
                  <a:pt x="673" y="1587"/>
                </a:lnTo>
                <a:lnTo>
                  <a:pt x="673" y="1646"/>
                </a:lnTo>
                <a:lnTo>
                  <a:pt x="676" y="1703"/>
                </a:lnTo>
                <a:lnTo>
                  <a:pt x="681" y="1760"/>
                </a:lnTo>
                <a:lnTo>
                  <a:pt x="686" y="1818"/>
                </a:lnTo>
                <a:lnTo>
                  <a:pt x="691" y="1875"/>
                </a:lnTo>
                <a:lnTo>
                  <a:pt x="692" y="1877"/>
                </a:lnTo>
                <a:lnTo>
                  <a:pt x="694" y="1878"/>
                </a:lnTo>
                <a:lnTo>
                  <a:pt x="695" y="1880"/>
                </a:lnTo>
                <a:lnTo>
                  <a:pt x="697" y="1881"/>
                </a:lnTo>
                <a:lnTo>
                  <a:pt x="700" y="1883"/>
                </a:lnTo>
                <a:lnTo>
                  <a:pt x="707" y="1886"/>
                </a:lnTo>
                <a:lnTo>
                  <a:pt x="715" y="1891"/>
                </a:lnTo>
                <a:lnTo>
                  <a:pt x="724" y="1897"/>
                </a:lnTo>
                <a:lnTo>
                  <a:pt x="734" y="1905"/>
                </a:lnTo>
                <a:lnTo>
                  <a:pt x="743" y="1912"/>
                </a:lnTo>
                <a:lnTo>
                  <a:pt x="750" y="1916"/>
                </a:lnTo>
                <a:lnTo>
                  <a:pt x="754" y="1921"/>
                </a:lnTo>
                <a:lnTo>
                  <a:pt x="732" y="1918"/>
                </a:lnTo>
                <a:lnTo>
                  <a:pt x="711" y="1915"/>
                </a:lnTo>
                <a:lnTo>
                  <a:pt x="692" y="1913"/>
                </a:lnTo>
                <a:lnTo>
                  <a:pt x="675" y="1910"/>
                </a:lnTo>
                <a:lnTo>
                  <a:pt x="657" y="1908"/>
                </a:lnTo>
                <a:lnTo>
                  <a:pt x="638" y="1905"/>
                </a:lnTo>
                <a:lnTo>
                  <a:pt x="619" y="1900"/>
                </a:lnTo>
                <a:lnTo>
                  <a:pt x="597" y="1896"/>
                </a:lnTo>
                <a:lnTo>
                  <a:pt x="587" y="1896"/>
                </a:lnTo>
                <a:lnTo>
                  <a:pt x="578" y="1899"/>
                </a:lnTo>
                <a:lnTo>
                  <a:pt x="567" y="1902"/>
                </a:lnTo>
                <a:lnTo>
                  <a:pt x="555" y="1905"/>
                </a:lnTo>
                <a:lnTo>
                  <a:pt x="546" y="1910"/>
                </a:lnTo>
                <a:lnTo>
                  <a:pt x="536" y="1915"/>
                </a:lnTo>
                <a:lnTo>
                  <a:pt x="530" y="1920"/>
                </a:lnTo>
                <a:lnTo>
                  <a:pt x="525" y="1924"/>
                </a:lnTo>
                <a:lnTo>
                  <a:pt x="517" y="1923"/>
                </a:lnTo>
                <a:lnTo>
                  <a:pt x="511" y="1920"/>
                </a:lnTo>
                <a:lnTo>
                  <a:pt x="505" y="1915"/>
                </a:lnTo>
                <a:lnTo>
                  <a:pt x="498" y="1916"/>
                </a:lnTo>
                <a:lnTo>
                  <a:pt x="517" y="1894"/>
                </a:lnTo>
                <a:lnTo>
                  <a:pt x="535" y="1877"/>
                </a:lnTo>
                <a:lnTo>
                  <a:pt x="551" y="1862"/>
                </a:lnTo>
                <a:lnTo>
                  <a:pt x="562" y="1845"/>
                </a:lnTo>
                <a:lnTo>
                  <a:pt x="571" y="1822"/>
                </a:lnTo>
                <a:lnTo>
                  <a:pt x="578" y="1792"/>
                </a:lnTo>
                <a:lnTo>
                  <a:pt x="579" y="1749"/>
                </a:lnTo>
                <a:lnTo>
                  <a:pt x="578" y="1692"/>
                </a:lnTo>
                <a:lnTo>
                  <a:pt x="560" y="1493"/>
                </a:lnTo>
                <a:lnTo>
                  <a:pt x="540" y="1495"/>
                </a:lnTo>
                <a:lnTo>
                  <a:pt x="519" y="1498"/>
                </a:lnTo>
                <a:lnTo>
                  <a:pt x="500" y="1501"/>
                </a:lnTo>
                <a:lnTo>
                  <a:pt x="481" y="1504"/>
                </a:lnTo>
                <a:lnTo>
                  <a:pt x="462" y="1504"/>
                </a:lnTo>
                <a:lnTo>
                  <a:pt x="442" y="1504"/>
                </a:lnTo>
                <a:lnTo>
                  <a:pt x="425" y="1499"/>
                </a:lnTo>
                <a:lnTo>
                  <a:pt x="406" y="1493"/>
                </a:lnTo>
                <a:lnTo>
                  <a:pt x="406" y="1484"/>
                </a:lnTo>
                <a:lnTo>
                  <a:pt x="407" y="1477"/>
                </a:lnTo>
                <a:lnTo>
                  <a:pt x="409" y="1471"/>
                </a:lnTo>
                <a:lnTo>
                  <a:pt x="411" y="1463"/>
                </a:lnTo>
                <a:lnTo>
                  <a:pt x="379" y="1463"/>
                </a:lnTo>
                <a:lnTo>
                  <a:pt x="350" y="1464"/>
                </a:lnTo>
                <a:lnTo>
                  <a:pt x="326" y="1464"/>
                </a:lnTo>
                <a:lnTo>
                  <a:pt x="307" y="1463"/>
                </a:lnTo>
                <a:lnTo>
                  <a:pt x="291" y="1458"/>
                </a:lnTo>
                <a:lnTo>
                  <a:pt x="282" y="1447"/>
                </a:lnTo>
                <a:lnTo>
                  <a:pt x="274" y="1426"/>
                </a:lnTo>
                <a:lnTo>
                  <a:pt x="272" y="1398"/>
                </a:lnTo>
                <a:lnTo>
                  <a:pt x="220" y="1372"/>
                </a:lnTo>
                <a:lnTo>
                  <a:pt x="194" y="1351"/>
                </a:lnTo>
                <a:lnTo>
                  <a:pt x="189" y="1332"/>
                </a:lnTo>
                <a:lnTo>
                  <a:pt x="199" y="1313"/>
                </a:lnTo>
                <a:lnTo>
                  <a:pt x="218" y="1294"/>
                </a:lnTo>
                <a:lnTo>
                  <a:pt x="240" y="1272"/>
                </a:lnTo>
                <a:lnTo>
                  <a:pt x="256" y="1248"/>
                </a:lnTo>
                <a:lnTo>
                  <a:pt x="264" y="1218"/>
                </a:lnTo>
                <a:lnTo>
                  <a:pt x="428" y="1253"/>
                </a:lnTo>
                <a:lnTo>
                  <a:pt x="433" y="1264"/>
                </a:lnTo>
                <a:lnTo>
                  <a:pt x="442" y="1272"/>
                </a:lnTo>
                <a:lnTo>
                  <a:pt x="455" y="1280"/>
                </a:lnTo>
                <a:lnTo>
                  <a:pt x="471" y="1285"/>
                </a:lnTo>
                <a:lnTo>
                  <a:pt x="471" y="1277"/>
                </a:lnTo>
                <a:lnTo>
                  <a:pt x="471" y="1270"/>
                </a:lnTo>
                <a:lnTo>
                  <a:pt x="471" y="1262"/>
                </a:lnTo>
                <a:lnTo>
                  <a:pt x="473" y="1256"/>
                </a:lnTo>
                <a:lnTo>
                  <a:pt x="482" y="1256"/>
                </a:lnTo>
                <a:lnTo>
                  <a:pt x="492" y="1256"/>
                </a:lnTo>
                <a:lnTo>
                  <a:pt x="500" y="1256"/>
                </a:lnTo>
                <a:lnTo>
                  <a:pt x="509" y="1256"/>
                </a:lnTo>
                <a:lnTo>
                  <a:pt x="524" y="1277"/>
                </a:lnTo>
                <a:lnTo>
                  <a:pt x="525" y="1293"/>
                </a:lnTo>
                <a:lnTo>
                  <a:pt x="517" y="1305"/>
                </a:lnTo>
                <a:lnTo>
                  <a:pt x="505" y="1316"/>
                </a:lnTo>
                <a:lnTo>
                  <a:pt x="514" y="1318"/>
                </a:lnTo>
                <a:lnTo>
                  <a:pt x="524" y="1318"/>
                </a:lnTo>
                <a:lnTo>
                  <a:pt x="533" y="1320"/>
                </a:lnTo>
                <a:lnTo>
                  <a:pt x="541" y="1320"/>
                </a:lnTo>
                <a:lnTo>
                  <a:pt x="549" y="1312"/>
                </a:lnTo>
                <a:lnTo>
                  <a:pt x="557" y="1304"/>
                </a:lnTo>
                <a:lnTo>
                  <a:pt x="565" y="1297"/>
                </a:lnTo>
                <a:lnTo>
                  <a:pt x="573" y="1289"/>
                </a:lnTo>
                <a:lnTo>
                  <a:pt x="565" y="1289"/>
                </a:lnTo>
                <a:lnTo>
                  <a:pt x="555" y="1291"/>
                </a:lnTo>
                <a:lnTo>
                  <a:pt x="546" y="1291"/>
                </a:lnTo>
                <a:lnTo>
                  <a:pt x="536" y="1293"/>
                </a:lnTo>
                <a:lnTo>
                  <a:pt x="538" y="1280"/>
                </a:lnTo>
                <a:lnTo>
                  <a:pt x="538" y="1269"/>
                </a:lnTo>
                <a:lnTo>
                  <a:pt x="538" y="1256"/>
                </a:lnTo>
                <a:lnTo>
                  <a:pt x="538" y="1243"/>
                </a:lnTo>
                <a:lnTo>
                  <a:pt x="528" y="1242"/>
                </a:lnTo>
                <a:lnTo>
                  <a:pt x="520" y="1240"/>
                </a:lnTo>
                <a:lnTo>
                  <a:pt x="512" y="1238"/>
                </a:lnTo>
                <a:lnTo>
                  <a:pt x="505" y="1235"/>
                </a:lnTo>
                <a:lnTo>
                  <a:pt x="498" y="1231"/>
                </a:lnTo>
                <a:lnTo>
                  <a:pt x="492" y="1226"/>
                </a:lnTo>
                <a:lnTo>
                  <a:pt x="487" y="1219"/>
                </a:lnTo>
                <a:lnTo>
                  <a:pt x="484" y="1213"/>
                </a:lnTo>
                <a:lnTo>
                  <a:pt x="481" y="1219"/>
                </a:lnTo>
                <a:lnTo>
                  <a:pt x="476" y="1224"/>
                </a:lnTo>
                <a:lnTo>
                  <a:pt x="473" y="1229"/>
                </a:lnTo>
                <a:lnTo>
                  <a:pt x="468" y="1235"/>
                </a:lnTo>
                <a:lnTo>
                  <a:pt x="458" y="1240"/>
                </a:lnTo>
                <a:lnTo>
                  <a:pt x="449" y="1245"/>
                </a:lnTo>
                <a:lnTo>
                  <a:pt x="438" y="1250"/>
                </a:lnTo>
                <a:lnTo>
                  <a:pt x="428" y="1253"/>
                </a:lnTo>
                <a:lnTo>
                  <a:pt x="264" y="1218"/>
                </a:lnTo>
                <a:close/>
              </a:path>
            </a:pathLst>
          </a:custGeom>
          <a:solidFill>
            <a:srgbClr val="00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510"/>
          <p:cNvSpPr/>
          <p:nvPr/>
        </p:nvSpPr>
        <p:spPr>
          <a:xfrm rot="20009400">
            <a:off x="2730600" y="4382640"/>
            <a:ext cx="1111320" cy="1263600"/>
          </a:xfrm>
          <a:custGeom>
            <a:avLst/>
            <a:gdLst>
              <a:gd name="textAreaLeft" fmla="*/ 0 w 1111320"/>
              <a:gd name="textAreaRight" fmla="*/ 1111320 w 1111320"/>
              <a:gd name="textAreaTop" fmla="*/ 0 h 1263600"/>
              <a:gd name="textAreaBottom" fmla="*/ 1263960 h 1263600"/>
            </a:gdLst>
            <a:ahLst/>
            <a:rect l="textAreaLeft" t="textAreaTop" r="textAreaRight" b="textAreaBottom"/>
            <a:pathLst>
              <a:path w="770" h="841">
                <a:moveTo>
                  <a:pt x="0" y="1"/>
                </a:moveTo>
                <a:lnTo>
                  <a:pt x="9" y="32"/>
                </a:lnTo>
                <a:lnTo>
                  <a:pt x="20" y="63"/>
                </a:lnTo>
                <a:lnTo>
                  <a:pt x="30" y="93"/>
                </a:lnTo>
                <a:lnTo>
                  <a:pt x="43" y="123"/>
                </a:lnTo>
                <a:lnTo>
                  <a:pt x="57" y="152"/>
                </a:lnTo>
                <a:lnTo>
                  <a:pt x="72" y="181"/>
                </a:lnTo>
                <a:lnTo>
                  <a:pt x="88" y="209"/>
                </a:lnTo>
                <a:lnTo>
                  <a:pt x="105" y="237"/>
                </a:lnTo>
                <a:lnTo>
                  <a:pt x="122" y="264"/>
                </a:lnTo>
                <a:lnTo>
                  <a:pt x="141" y="290"/>
                </a:lnTo>
                <a:lnTo>
                  <a:pt x="160" y="317"/>
                </a:lnTo>
                <a:lnTo>
                  <a:pt x="180" y="342"/>
                </a:lnTo>
                <a:lnTo>
                  <a:pt x="201" y="366"/>
                </a:lnTo>
                <a:lnTo>
                  <a:pt x="223" y="390"/>
                </a:lnTo>
                <a:lnTo>
                  <a:pt x="244" y="413"/>
                </a:lnTo>
                <a:lnTo>
                  <a:pt x="267" y="436"/>
                </a:lnTo>
                <a:lnTo>
                  <a:pt x="296" y="464"/>
                </a:lnTo>
                <a:lnTo>
                  <a:pt x="325" y="493"/>
                </a:lnTo>
                <a:lnTo>
                  <a:pt x="354" y="520"/>
                </a:lnTo>
                <a:lnTo>
                  <a:pt x="384" y="548"/>
                </a:lnTo>
                <a:lnTo>
                  <a:pt x="413" y="576"/>
                </a:lnTo>
                <a:lnTo>
                  <a:pt x="442" y="602"/>
                </a:lnTo>
                <a:lnTo>
                  <a:pt x="471" y="629"/>
                </a:lnTo>
                <a:lnTo>
                  <a:pt x="502" y="654"/>
                </a:lnTo>
                <a:lnTo>
                  <a:pt x="532" y="681"/>
                </a:lnTo>
                <a:lnTo>
                  <a:pt x="563" y="705"/>
                </a:lnTo>
                <a:lnTo>
                  <a:pt x="594" y="729"/>
                </a:lnTo>
                <a:lnTo>
                  <a:pt x="627" y="753"/>
                </a:lnTo>
                <a:lnTo>
                  <a:pt x="659" y="776"/>
                </a:lnTo>
                <a:lnTo>
                  <a:pt x="692" y="798"/>
                </a:lnTo>
                <a:lnTo>
                  <a:pt x="726" y="820"/>
                </a:lnTo>
                <a:lnTo>
                  <a:pt x="760" y="841"/>
                </a:lnTo>
                <a:lnTo>
                  <a:pt x="765" y="841"/>
                </a:lnTo>
                <a:lnTo>
                  <a:pt x="768" y="836"/>
                </a:lnTo>
                <a:lnTo>
                  <a:pt x="770" y="831"/>
                </a:lnTo>
                <a:lnTo>
                  <a:pt x="768" y="827"/>
                </a:lnTo>
                <a:lnTo>
                  <a:pt x="742" y="806"/>
                </a:lnTo>
                <a:lnTo>
                  <a:pt x="714" y="785"/>
                </a:lnTo>
                <a:lnTo>
                  <a:pt x="687" y="765"/>
                </a:lnTo>
                <a:lnTo>
                  <a:pt x="659" y="744"/>
                </a:lnTo>
                <a:lnTo>
                  <a:pt x="630" y="722"/>
                </a:lnTo>
                <a:lnTo>
                  <a:pt x="603" y="701"/>
                </a:lnTo>
                <a:lnTo>
                  <a:pt x="574" y="679"/>
                </a:lnTo>
                <a:lnTo>
                  <a:pt x="546" y="657"/>
                </a:lnTo>
                <a:lnTo>
                  <a:pt x="518" y="636"/>
                </a:lnTo>
                <a:lnTo>
                  <a:pt x="490" y="614"/>
                </a:lnTo>
                <a:lnTo>
                  <a:pt x="462" y="591"/>
                </a:lnTo>
                <a:lnTo>
                  <a:pt x="434" y="568"/>
                </a:lnTo>
                <a:lnTo>
                  <a:pt x="407" y="545"/>
                </a:lnTo>
                <a:lnTo>
                  <a:pt x="380" y="520"/>
                </a:lnTo>
                <a:lnTo>
                  <a:pt x="354" y="496"/>
                </a:lnTo>
                <a:lnTo>
                  <a:pt x="327" y="472"/>
                </a:lnTo>
                <a:lnTo>
                  <a:pt x="301" y="447"/>
                </a:lnTo>
                <a:lnTo>
                  <a:pt x="275" y="421"/>
                </a:lnTo>
                <a:lnTo>
                  <a:pt x="250" y="396"/>
                </a:lnTo>
                <a:lnTo>
                  <a:pt x="226" y="370"/>
                </a:lnTo>
                <a:lnTo>
                  <a:pt x="203" y="342"/>
                </a:lnTo>
                <a:lnTo>
                  <a:pt x="180" y="314"/>
                </a:lnTo>
                <a:lnTo>
                  <a:pt x="158" y="285"/>
                </a:lnTo>
                <a:lnTo>
                  <a:pt x="136" y="257"/>
                </a:lnTo>
                <a:lnTo>
                  <a:pt x="115" y="228"/>
                </a:lnTo>
                <a:lnTo>
                  <a:pt x="96" y="197"/>
                </a:lnTo>
                <a:lnTo>
                  <a:pt x="77" y="166"/>
                </a:lnTo>
                <a:lnTo>
                  <a:pt x="60" y="135"/>
                </a:lnTo>
                <a:lnTo>
                  <a:pt x="43" y="102"/>
                </a:lnTo>
                <a:lnTo>
                  <a:pt x="28" y="69"/>
                </a:lnTo>
                <a:lnTo>
                  <a:pt x="13" y="34"/>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Group 520"/>
          <p:cNvGrpSpPr/>
          <p:nvPr/>
        </p:nvGrpSpPr>
        <p:grpSpPr>
          <a:xfrm>
            <a:off x="1936800" y="4247280"/>
            <a:ext cx="2494800" cy="2503440"/>
            <a:chOff x="1936800" y="4247280"/>
            <a:chExt cx="2494800" cy="2503440"/>
          </a:xfrm>
        </p:grpSpPr>
        <p:sp>
          <p:nvSpPr>
            <p:cNvPr id="170" name="Freeform 500"/>
            <p:cNvSpPr/>
            <p:nvPr/>
          </p:nvSpPr>
          <p:spPr>
            <a:xfrm rot="20009400">
              <a:off x="2314080" y="4524480"/>
              <a:ext cx="1683360" cy="1871640"/>
            </a:xfrm>
            <a:custGeom>
              <a:avLst/>
              <a:gdLst>
                <a:gd name="textAreaLeft" fmla="*/ 0 w 1683360"/>
                <a:gd name="textAreaRight" fmla="*/ 1683720 w 1683360"/>
                <a:gd name="textAreaTop" fmla="*/ 0 h 1871640"/>
                <a:gd name="textAreaBottom" fmla="*/ 1872000 h 1871640"/>
              </a:gdLst>
              <a:ahLst/>
              <a:rect l="textAreaLeft" t="textAreaTop" r="textAreaRight" b="textAreaBottom"/>
              <a:pathLst>
                <a:path w="1164" h="1244">
                  <a:moveTo>
                    <a:pt x="235" y="53"/>
                  </a:moveTo>
                  <a:lnTo>
                    <a:pt x="265" y="108"/>
                  </a:lnTo>
                  <a:lnTo>
                    <a:pt x="263" y="108"/>
                  </a:lnTo>
                  <a:lnTo>
                    <a:pt x="256" y="111"/>
                  </a:lnTo>
                  <a:lnTo>
                    <a:pt x="246" y="114"/>
                  </a:lnTo>
                  <a:lnTo>
                    <a:pt x="235" y="120"/>
                  </a:lnTo>
                  <a:lnTo>
                    <a:pt x="224" y="129"/>
                  </a:lnTo>
                  <a:lnTo>
                    <a:pt x="213" y="143"/>
                  </a:lnTo>
                  <a:lnTo>
                    <a:pt x="207" y="161"/>
                  </a:lnTo>
                  <a:lnTo>
                    <a:pt x="204" y="185"/>
                  </a:lnTo>
                  <a:lnTo>
                    <a:pt x="205" y="189"/>
                  </a:lnTo>
                  <a:lnTo>
                    <a:pt x="211" y="197"/>
                  </a:lnTo>
                  <a:lnTo>
                    <a:pt x="218" y="209"/>
                  </a:lnTo>
                  <a:lnTo>
                    <a:pt x="230" y="220"/>
                  </a:lnTo>
                  <a:lnTo>
                    <a:pt x="243" y="229"/>
                  </a:lnTo>
                  <a:lnTo>
                    <a:pt x="260" y="234"/>
                  </a:lnTo>
                  <a:lnTo>
                    <a:pt x="278" y="233"/>
                  </a:lnTo>
                  <a:lnTo>
                    <a:pt x="299" y="221"/>
                  </a:lnTo>
                  <a:lnTo>
                    <a:pt x="303" y="219"/>
                  </a:lnTo>
                  <a:lnTo>
                    <a:pt x="316" y="211"/>
                  </a:lnTo>
                  <a:lnTo>
                    <a:pt x="330" y="198"/>
                  </a:lnTo>
                  <a:lnTo>
                    <a:pt x="341" y="182"/>
                  </a:lnTo>
                  <a:lnTo>
                    <a:pt x="347" y="164"/>
                  </a:lnTo>
                  <a:lnTo>
                    <a:pt x="340" y="142"/>
                  </a:lnTo>
                  <a:lnTo>
                    <a:pt x="318" y="118"/>
                  </a:lnTo>
                  <a:lnTo>
                    <a:pt x="276" y="92"/>
                  </a:lnTo>
                  <a:lnTo>
                    <a:pt x="256" y="40"/>
                  </a:lnTo>
                  <a:lnTo>
                    <a:pt x="260" y="38"/>
                  </a:lnTo>
                  <a:lnTo>
                    <a:pt x="271" y="35"/>
                  </a:lnTo>
                  <a:lnTo>
                    <a:pt x="289" y="28"/>
                  </a:lnTo>
                  <a:lnTo>
                    <a:pt x="311" y="20"/>
                  </a:lnTo>
                  <a:lnTo>
                    <a:pt x="339" y="13"/>
                  </a:lnTo>
                  <a:lnTo>
                    <a:pt x="368" y="6"/>
                  </a:lnTo>
                  <a:lnTo>
                    <a:pt x="400" y="2"/>
                  </a:lnTo>
                  <a:lnTo>
                    <a:pt x="432" y="0"/>
                  </a:lnTo>
                  <a:lnTo>
                    <a:pt x="433" y="5"/>
                  </a:lnTo>
                  <a:lnTo>
                    <a:pt x="436" y="17"/>
                  </a:lnTo>
                  <a:lnTo>
                    <a:pt x="443" y="37"/>
                  </a:lnTo>
                  <a:lnTo>
                    <a:pt x="452" y="66"/>
                  </a:lnTo>
                  <a:lnTo>
                    <a:pt x="467" y="99"/>
                  </a:lnTo>
                  <a:lnTo>
                    <a:pt x="486" y="141"/>
                  </a:lnTo>
                  <a:lnTo>
                    <a:pt x="513" y="187"/>
                  </a:lnTo>
                  <a:lnTo>
                    <a:pt x="546" y="238"/>
                  </a:lnTo>
                  <a:lnTo>
                    <a:pt x="587" y="295"/>
                  </a:lnTo>
                  <a:lnTo>
                    <a:pt x="636" y="355"/>
                  </a:lnTo>
                  <a:lnTo>
                    <a:pt x="696" y="419"/>
                  </a:lnTo>
                  <a:lnTo>
                    <a:pt x="765" y="487"/>
                  </a:lnTo>
                  <a:lnTo>
                    <a:pt x="847" y="556"/>
                  </a:lnTo>
                  <a:lnTo>
                    <a:pt x="939" y="629"/>
                  </a:lnTo>
                  <a:lnTo>
                    <a:pt x="1045" y="703"/>
                  </a:lnTo>
                  <a:lnTo>
                    <a:pt x="1164" y="778"/>
                  </a:lnTo>
                  <a:lnTo>
                    <a:pt x="1160" y="780"/>
                  </a:lnTo>
                  <a:lnTo>
                    <a:pt x="1150" y="786"/>
                  </a:lnTo>
                  <a:lnTo>
                    <a:pt x="1134" y="795"/>
                  </a:lnTo>
                  <a:lnTo>
                    <a:pt x="1113" y="809"/>
                  </a:lnTo>
                  <a:lnTo>
                    <a:pt x="1086" y="826"/>
                  </a:lnTo>
                  <a:lnTo>
                    <a:pt x="1056" y="847"/>
                  </a:lnTo>
                  <a:lnTo>
                    <a:pt x="1023" y="871"/>
                  </a:lnTo>
                  <a:lnTo>
                    <a:pt x="989" y="900"/>
                  </a:lnTo>
                  <a:lnTo>
                    <a:pt x="951" y="931"/>
                  </a:lnTo>
                  <a:lnTo>
                    <a:pt x="911" y="965"/>
                  </a:lnTo>
                  <a:lnTo>
                    <a:pt x="872" y="1004"/>
                  </a:lnTo>
                  <a:lnTo>
                    <a:pt x="833" y="1046"/>
                  </a:lnTo>
                  <a:lnTo>
                    <a:pt x="795" y="1091"/>
                  </a:lnTo>
                  <a:lnTo>
                    <a:pt x="758" y="1139"/>
                  </a:lnTo>
                  <a:lnTo>
                    <a:pt x="724" y="1190"/>
                  </a:lnTo>
                  <a:lnTo>
                    <a:pt x="691" y="1244"/>
                  </a:lnTo>
                  <a:lnTo>
                    <a:pt x="686" y="1239"/>
                  </a:lnTo>
                  <a:lnTo>
                    <a:pt x="670" y="1226"/>
                  </a:lnTo>
                  <a:lnTo>
                    <a:pt x="643" y="1204"/>
                  </a:lnTo>
                  <a:lnTo>
                    <a:pt x="610" y="1173"/>
                  </a:lnTo>
                  <a:lnTo>
                    <a:pt x="568" y="1133"/>
                  </a:lnTo>
                  <a:lnTo>
                    <a:pt x="521" y="1087"/>
                  </a:lnTo>
                  <a:lnTo>
                    <a:pt x="470" y="1033"/>
                  </a:lnTo>
                  <a:lnTo>
                    <a:pt x="415" y="972"/>
                  </a:lnTo>
                  <a:lnTo>
                    <a:pt x="357" y="904"/>
                  </a:lnTo>
                  <a:lnTo>
                    <a:pt x="300" y="831"/>
                  </a:lnTo>
                  <a:lnTo>
                    <a:pt x="242" y="750"/>
                  </a:lnTo>
                  <a:lnTo>
                    <a:pt x="186" y="665"/>
                  </a:lnTo>
                  <a:lnTo>
                    <a:pt x="133" y="574"/>
                  </a:lnTo>
                  <a:lnTo>
                    <a:pt x="83" y="478"/>
                  </a:lnTo>
                  <a:lnTo>
                    <a:pt x="38" y="378"/>
                  </a:lnTo>
                  <a:lnTo>
                    <a:pt x="0" y="273"/>
                  </a:lnTo>
                  <a:lnTo>
                    <a:pt x="2" y="271"/>
                  </a:lnTo>
                  <a:lnTo>
                    <a:pt x="6" y="265"/>
                  </a:lnTo>
                  <a:lnTo>
                    <a:pt x="12" y="256"/>
                  </a:lnTo>
                  <a:lnTo>
                    <a:pt x="21" y="244"/>
                  </a:lnTo>
                  <a:lnTo>
                    <a:pt x="32" y="230"/>
                  </a:lnTo>
                  <a:lnTo>
                    <a:pt x="44" y="214"/>
                  </a:lnTo>
                  <a:lnTo>
                    <a:pt x="58" y="196"/>
                  </a:lnTo>
                  <a:lnTo>
                    <a:pt x="74" y="177"/>
                  </a:lnTo>
                  <a:lnTo>
                    <a:pt x="91" y="159"/>
                  </a:lnTo>
                  <a:lnTo>
                    <a:pt x="110" y="139"/>
                  </a:lnTo>
                  <a:lnTo>
                    <a:pt x="128" y="121"/>
                  </a:lnTo>
                  <a:lnTo>
                    <a:pt x="149" y="104"/>
                  </a:lnTo>
                  <a:lnTo>
                    <a:pt x="170" y="88"/>
                  </a:lnTo>
                  <a:lnTo>
                    <a:pt x="192" y="74"/>
                  </a:lnTo>
                  <a:lnTo>
                    <a:pt x="213" y="62"/>
                  </a:lnTo>
                  <a:lnTo>
                    <a:pt x="235" y="5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501"/>
            <p:cNvSpPr/>
            <p:nvPr/>
          </p:nvSpPr>
          <p:spPr>
            <a:xfrm rot="20009400">
              <a:off x="2201760" y="4807440"/>
              <a:ext cx="228240" cy="303840"/>
            </a:xfrm>
            <a:custGeom>
              <a:avLst/>
              <a:gdLst>
                <a:gd name="textAreaLeft" fmla="*/ 0 w 228240"/>
                <a:gd name="textAreaRight" fmla="*/ 228600 w 228240"/>
                <a:gd name="textAreaTop" fmla="*/ 0 h 303840"/>
                <a:gd name="textAreaBottom" fmla="*/ 303840 h 303840"/>
              </a:gdLst>
              <a:ahLst/>
              <a:rect l="textAreaLeft" t="textAreaTop" r="textAreaRight" b="textAreaBottom"/>
              <a:pathLst>
                <a:path w="158" h="200">
                  <a:moveTo>
                    <a:pt x="89" y="200"/>
                  </a:moveTo>
                  <a:lnTo>
                    <a:pt x="104" y="197"/>
                  </a:lnTo>
                  <a:lnTo>
                    <a:pt x="119" y="192"/>
                  </a:lnTo>
                  <a:lnTo>
                    <a:pt x="132" y="186"/>
                  </a:lnTo>
                  <a:lnTo>
                    <a:pt x="142" y="177"/>
                  </a:lnTo>
                  <a:lnTo>
                    <a:pt x="150" y="168"/>
                  </a:lnTo>
                  <a:lnTo>
                    <a:pt x="156" y="155"/>
                  </a:lnTo>
                  <a:lnTo>
                    <a:pt x="158" y="140"/>
                  </a:lnTo>
                  <a:lnTo>
                    <a:pt x="157" y="123"/>
                  </a:lnTo>
                  <a:lnTo>
                    <a:pt x="151" y="99"/>
                  </a:lnTo>
                  <a:lnTo>
                    <a:pt x="140" y="77"/>
                  </a:lnTo>
                  <a:lnTo>
                    <a:pt x="124" y="57"/>
                  </a:lnTo>
                  <a:lnTo>
                    <a:pt x="104" y="41"/>
                  </a:lnTo>
                  <a:lnTo>
                    <a:pt x="82" y="27"/>
                  </a:lnTo>
                  <a:lnTo>
                    <a:pt x="59" y="16"/>
                  </a:lnTo>
                  <a:lnTo>
                    <a:pt x="36" y="7"/>
                  </a:lnTo>
                  <a:lnTo>
                    <a:pt x="14" y="0"/>
                  </a:lnTo>
                  <a:lnTo>
                    <a:pt x="9" y="1"/>
                  </a:lnTo>
                  <a:lnTo>
                    <a:pt x="4" y="5"/>
                  </a:lnTo>
                  <a:lnTo>
                    <a:pt x="0" y="12"/>
                  </a:lnTo>
                  <a:lnTo>
                    <a:pt x="3" y="17"/>
                  </a:lnTo>
                  <a:lnTo>
                    <a:pt x="14" y="25"/>
                  </a:lnTo>
                  <a:lnTo>
                    <a:pt x="26" y="34"/>
                  </a:lnTo>
                  <a:lnTo>
                    <a:pt x="37" y="43"/>
                  </a:lnTo>
                  <a:lnTo>
                    <a:pt x="48" y="54"/>
                  </a:lnTo>
                  <a:lnTo>
                    <a:pt x="57" y="64"/>
                  </a:lnTo>
                  <a:lnTo>
                    <a:pt x="67" y="75"/>
                  </a:lnTo>
                  <a:lnTo>
                    <a:pt x="76" y="86"/>
                  </a:lnTo>
                  <a:lnTo>
                    <a:pt x="86" y="98"/>
                  </a:lnTo>
                  <a:lnTo>
                    <a:pt x="94" y="108"/>
                  </a:lnTo>
                  <a:lnTo>
                    <a:pt x="101" y="119"/>
                  </a:lnTo>
                  <a:lnTo>
                    <a:pt x="108" y="131"/>
                  </a:lnTo>
                  <a:lnTo>
                    <a:pt x="113" y="143"/>
                  </a:lnTo>
                  <a:lnTo>
                    <a:pt x="118" y="153"/>
                  </a:lnTo>
                  <a:lnTo>
                    <a:pt x="119" y="162"/>
                  </a:lnTo>
                  <a:lnTo>
                    <a:pt x="118" y="169"/>
                  </a:lnTo>
                  <a:lnTo>
                    <a:pt x="116" y="176"/>
                  </a:lnTo>
                  <a:lnTo>
                    <a:pt x="111" y="183"/>
                  </a:lnTo>
                  <a:lnTo>
                    <a:pt x="105" y="189"/>
                  </a:lnTo>
                  <a:lnTo>
                    <a:pt x="97" y="193"/>
                  </a:lnTo>
                  <a:lnTo>
                    <a:pt x="89" y="199"/>
                  </a:lnTo>
                  <a:lnTo>
                    <a:pt x="88" y="199"/>
                  </a:lnTo>
                  <a:lnTo>
                    <a:pt x="88" y="200"/>
                  </a:lnTo>
                  <a:lnTo>
                    <a:pt x="89"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503"/>
            <p:cNvSpPr/>
            <p:nvPr/>
          </p:nvSpPr>
          <p:spPr>
            <a:xfrm rot="20009400">
              <a:off x="2065320" y="4873680"/>
              <a:ext cx="83880" cy="177480"/>
            </a:xfrm>
            <a:custGeom>
              <a:avLst/>
              <a:gdLst>
                <a:gd name="textAreaLeft" fmla="*/ 0 w 83880"/>
                <a:gd name="textAreaRight" fmla="*/ 84240 w 83880"/>
                <a:gd name="textAreaTop" fmla="*/ 0 h 177480"/>
                <a:gd name="textAreaBottom" fmla="*/ 177840 h 177480"/>
              </a:gdLst>
              <a:ahLst/>
              <a:rect l="textAreaLeft" t="textAreaTop" r="textAreaRight" b="textAreaBottom"/>
              <a:pathLst>
                <a:path w="58" h="118">
                  <a:moveTo>
                    <a:pt x="30" y="0"/>
                  </a:moveTo>
                  <a:lnTo>
                    <a:pt x="18" y="12"/>
                  </a:lnTo>
                  <a:lnTo>
                    <a:pt x="10" y="27"/>
                  </a:lnTo>
                  <a:lnTo>
                    <a:pt x="5" y="44"/>
                  </a:lnTo>
                  <a:lnTo>
                    <a:pt x="1" y="60"/>
                  </a:lnTo>
                  <a:lnTo>
                    <a:pt x="0" y="71"/>
                  </a:lnTo>
                  <a:lnTo>
                    <a:pt x="1" y="81"/>
                  </a:lnTo>
                  <a:lnTo>
                    <a:pt x="3" y="91"/>
                  </a:lnTo>
                  <a:lnTo>
                    <a:pt x="7" y="102"/>
                  </a:lnTo>
                  <a:lnTo>
                    <a:pt x="13" y="110"/>
                  </a:lnTo>
                  <a:lnTo>
                    <a:pt x="20" y="115"/>
                  </a:lnTo>
                  <a:lnTo>
                    <a:pt x="29" y="118"/>
                  </a:lnTo>
                  <a:lnTo>
                    <a:pt x="40" y="117"/>
                  </a:lnTo>
                  <a:lnTo>
                    <a:pt x="47" y="113"/>
                  </a:lnTo>
                  <a:lnTo>
                    <a:pt x="54" y="106"/>
                  </a:lnTo>
                  <a:lnTo>
                    <a:pt x="58" y="98"/>
                  </a:lnTo>
                  <a:lnTo>
                    <a:pt x="55" y="90"/>
                  </a:lnTo>
                  <a:lnTo>
                    <a:pt x="51" y="87"/>
                  </a:lnTo>
                  <a:lnTo>
                    <a:pt x="45" y="84"/>
                  </a:lnTo>
                  <a:lnTo>
                    <a:pt x="39" y="82"/>
                  </a:lnTo>
                  <a:lnTo>
                    <a:pt x="33" y="80"/>
                  </a:lnTo>
                  <a:lnTo>
                    <a:pt x="28" y="76"/>
                  </a:lnTo>
                  <a:lnTo>
                    <a:pt x="24" y="72"/>
                  </a:lnTo>
                  <a:lnTo>
                    <a:pt x="20" y="66"/>
                  </a:lnTo>
                  <a:lnTo>
                    <a:pt x="17" y="60"/>
                  </a:lnTo>
                  <a:lnTo>
                    <a:pt x="14" y="45"/>
                  </a:lnTo>
                  <a:lnTo>
                    <a:pt x="15" y="29"/>
                  </a:lnTo>
                  <a:lnTo>
                    <a:pt x="20" y="14"/>
                  </a:lnTo>
                  <a:lnTo>
                    <a:pt x="30" y="1"/>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504"/>
            <p:cNvSpPr/>
            <p:nvPr/>
          </p:nvSpPr>
          <p:spPr>
            <a:xfrm rot="20009400">
              <a:off x="2107440" y="4845600"/>
              <a:ext cx="74880" cy="132120"/>
            </a:xfrm>
            <a:custGeom>
              <a:avLst/>
              <a:gdLst>
                <a:gd name="textAreaLeft" fmla="*/ 0 w 74880"/>
                <a:gd name="textAreaRight" fmla="*/ 75240 w 74880"/>
                <a:gd name="textAreaTop" fmla="*/ 0 h 132120"/>
                <a:gd name="textAreaBottom" fmla="*/ 132480 h 132120"/>
              </a:gdLst>
              <a:ahLst/>
              <a:rect l="textAreaLeft" t="textAreaTop" r="textAreaRight" b="textAreaBottom"/>
              <a:pathLst>
                <a:path w="53" h="88">
                  <a:moveTo>
                    <a:pt x="43" y="0"/>
                  </a:moveTo>
                  <a:lnTo>
                    <a:pt x="36" y="2"/>
                  </a:lnTo>
                  <a:lnTo>
                    <a:pt x="29" y="4"/>
                  </a:lnTo>
                  <a:lnTo>
                    <a:pt x="23" y="8"/>
                  </a:lnTo>
                  <a:lnTo>
                    <a:pt x="19" y="12"/>
                  </a:lnTo>
                  <a:lnTo>
                    <a:pt x="14" y="17"/>
                  </a:lnTo>
                  <a:lnTo>
                    <a:pt x="10" y="23"/>
                  </a:lnTo>
                  <a:lnTo>
                    <a:pt x="6" y="28"/>
                  </a:lnTo>
                  <a:lnTo>
                    <a:pt x="4" y="35"/>
                  </a:lnTo>
                  <a:lnTo>
                    <a:pt x="0" y="45"/>
                  </a:lnTo>
                  <a:lnTo>
                    <a:pt x="0" y="54"/>
                  </a:lnTo>
                  <a:lnTo>
                    <a:pt x="2" y="63"/>
                  </a:lnTo>
                  <a:lnTo>
                    <a:pt x="4" y="72"/>
                  </a:lnTo>
                  <a:lnTo>
                    <a:pt x="9" y="83"/>
                  </a:lnTo>
                  <a:lnTo>
                    <a:pt x="17" y="87"/>
                  </a:lnTo>
                  <a:lnTo>
                    <a:pt x="26" y="88"/>
                  </a:lnTo>
                  <a:lnTo>
                    <a:pt x="36" y="87"/>
                  </a:lnTo>
                  <a:lnTo>
                    <a:pt x="42" y="84"/>
                  </a:lnTo>
                  <a:lnTo>
                    <a:pt x="49" y="78"/>
                  </a:lnTo>
                  <a:lnTo>
                    <a:pt x="53" y="71"/>
                  </a:lnTo>
                  <a:lnTo>
                    <a:pt x="51" y="65"/>
                  </a:lnTo>
                  <a:lnTo>
                    <a:pt x="45" y="61"/>
                  </a:lnTo>
                  <a:lnTo>
                    <a:pt x="37" y="53"/>
                  </a:lnTo>
                  <a:lnTo>
                    <a:pt x="29" y="45"/>
                  </a:lnTo>
                  <a:lnTo>
                    <a:pt x="25" y="39"/>
                  </a:lnTo>
                  <a:lnTo>
                    <a:pt x="20" y="27"/>
                  </a:lnTo>
                  <a:lnTo>
                    <a:pt x="25" y="16"/>
                  </a:lnTo>
                  <a:lnTo>
                    <a:pt x="34" y="7"/>
                  </a:lnTo>
                  <a:lnTo>
                    <a:pt x="43" y="1"/>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509"/>
            <p:cNvSpPr/>
            <p:nvPr/>
          </p:nvSpPr>
          <p:spPr>
            <a:xfrm rot="20009400">
              <a:off x="2408400" y="4949640"/>
              <a:ext cx="1107720" cy="1639800"/>
            </a:xfrm>
            <a:custGeom>
              <a:avLst/>
              <a:gdLst>
                <a:gd name="textAreaLeft" fmla="*/ 0 w 1107720"/>
                <a:gd name="textAreaRight" fmla="*/ 1108080 w 1107720"/>
                <a:gd name="textAreaTop" fmla="*/ 0 h 1639800"/>
                <a:gd name="textAreaBottom" fmla="*/ 1640160 h 1639800"/>
              </a:gdLst>
              <a:ahLst/>
              <a:rect l="textAreaLeft" t="textAreaTop" r="textAreaRight" b="textAreaBottom"/>
              <a:pathLst>
                <a:path w="767" h="1090">
                  <a:moveTo>
                    <a:pt x="0" y="1"/>
                  </a:moveTo>
                  <a:lnTo>
                    <a:pt x="24" y="82"/>
                  </a:lnTo>
                  <a:lnTo>
                    <a:pt x="51" y="161"/>
                  </a:lnTo>
                  <a:lnTo>
                    <a:pt x="82" y="239"/>
                  </a:lnTo>
                  <a:lnTo>
                    <a:pt x="115" y="317"/>
                  </a:lnTo>
                  <a:lnTo>
                    <a:pt x="152" y="393"/>
                  </a:lnTo>
                  <a:lnTo>
                    <a:pt x="191" y="468"/>
                  </a:lnTo>
                  <a:lnTo>
                    <a:pt x="235" y="541"/>
                  </a:lnTo>
                  <a:lnTo>
                    <a:pt x="280" y="612"/>
                  </a:lnTo>
                  <a:lnTo>
                    <a:pt x="330" y="681"/>
                  </a:lnTo>
                  <a:lnTo>
                    <a:pt x="380" y="747"/>
                  </a:lnTo>
                  <a:lnTo>
                    <a:pt x="435" y="812"/>
                  </a:lnTo>
                  <a:lnTo>
                    <a:pt x="492" y="873"/>
                  </a:lnTo>
                  <a:lnTo>
                    <a:pt x="552" y="932"/>
                  </a:lnTo>
                  <a:lnTo>
                    <a:pt x="614" y="988"/>
                  </a:lnTo>
                  <a:lnTo>
                    <a:pt x="678" y="1040"/>
                  </a:lnTo>
                  <a:lnTo>
                    <a:pt x="746" y="1090"/>
                  </a:lnTo>
                  <a:lnTo>
                    <a:pt x="754" y="1090"/>
                  </a:lnTo>
                  <a:lnTo>
                    <a:pt x="763" y="1085"/>
                  </a:lnTo>
                  <a:lnTo>
                    <a:pt x="767" y="1077"/>
                  </a:lnTo>
                  <a:lnTo>
                    <a:pt x="766" y="1070"/>
                  </a:lnTo>
                  <a:lnTo>
                    <a:pt x="744" y="1048"/>
                  </a:lnTo>
                  <a:lnTo>
                    <a:pt x="721" y="1026"/>
                  </a:lnTo>
                  <a:lnTo>
                    <a:pt x="699" y="1003"/>
                  </a:lnTo>
                  <a:lnTo>
                    <a:pt x="676" y="981"/>
                  </a:lnTo>
                  <a:lnTo>
                    <a:pt x="653" y="959"/>
                  </a:lnTo>
                  <a:lnTo>
                    <a:pt x="631" y="938"/>
                  </a:lnTo>
                  <a:lnTo>
                    <a:pt x="608" y="916"/>
                  </a:lnTo>
                  <a:lnTo>
                    <a:pt x="586" y="894"/>
                  </a:lnTo>
                  <a:lnTo>
                    <a:pt x="563" y="872"/>
                  </a:lnTo>
                  <a:lnTo>
                    <a:pt x="541" y="850"/>
                  </a:lnTo>
                  <a:lnTo>
                    <a:pt x="520" y="827"/>
                  </a:lnTo>
                  <a:lnTo>
                    <a:pt x="498" y="805"/>
                  </a:lnTo>
                  <a:lnTo>
                    <a:pt x="476" y="782"/>
                  </a:lnTo>
                  <a:lnTo>
                    <a:pt x="454" y="759"/>
                  </a:lnTo>
                  <a:lnTo>
                    <a:pt x="432" y="736"/>
                  </a:lnTo>
                  <a:lnTo>
                    <a:pt x="411" y="713"/>
                  </a:lnTo>
                  <a:lnTo>
                    <a:pt x="377" y="674"/>
                  </a:lnTo>
                  <a:lnTo>
                    <a:pt x="344" y="633"/>
                  </a:lnTo>
                  <a:lnTo>
                    <a:pt x="312" y="593"/>
                  </a:lnTo>
                  <a:lnTo>
                    <a:pt x="281" y="552"/>
                  </a:lnTo>
                  <a:lnTo>
                    <a:pt x="251" y="509"/>
                  </a:lnTo>
                  <a:lnTo>
                    <a:pt x="222" y="466"/>
                  </a:lnTo>
                  <a:lnTo>
                    <a:pt x="195" y="423"/>
                  </a:lnTo>
                  <a:lnTo>
                    <a:pt x="168" y="379"/>
                  </a:lnTo>
                  <a:lnTo>
                    <a:pt x="143" y="334"/>
                  </a:lnTo>
                  <a:lnTo>
                    <a:pt x="119" y="288"/>
                  </a:lnTo>
                  <a:lnTo>
                    <a:pt x="96" y="242"/>
                  </a:lnTo>
                  <a:lnTo>
                    <a:pt x="75" y="195"/>
                  </a:lnTo>
                  <a:lnTo>
                    <a:pt x="54" y="147"/>
                  </a:lnTo>
                  <a:lnTo>
                    <a:pt x="35" y="99"/>
                  </a:lnTo>
                  <a:lnTo>
                    <a:pt x="17" y="49"/>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511"/>
            <p:cNvSpPr/>
            <p:nvPr/>
          </p:nvSpPr>
          <p:spPr>
            <a:xfrm rot="20009400">
              <a:off x="2351520" y="4952880"/>
              <a:ext cx="225360" cy="210600"/>
            </a:xfrm>
            <a:custGeom>
              <a:avLst/>
              <a:gdLst>
                <a:gd name="textAreaLeft" fmla="*/ 0 w 225360"/>
                <a:gd name="textAreaRight" fmla="*/ 225720 w 225360"/>
                <a:gd name="textAreaTop" fmla="*/ 0 h 210600"/>
                <a:gd name="textAreaBottom" fmla="*/ 210960 h 210600"/>
              </a:gdLst>
              <a:ahLst/>
              <a:rect l="textAreaLeft" t="textAreaTop" r="textAreaRight" b="textAreaBottom"/>
              <a:pathLst>
                <a:path w="155" h="140">
                  <a:moveTo>
                    <a:pt x="65" y="0"/>
                  </a:moveTo>
                  <a:lnTo>
                    <a:pt x="54" y="1"/>
                  </a:lnTo>
                  <a:lnTo>
                    <a:pt x="43" y="4"/>
                  </a:lnTo>
                  <a:lnTo>
                    <a:pt x="33" y="8"/>
                  </a:lnTo>
                  <a:lnTo>
                    <a:pt x="25" y="14"/>
                  </a:lnTo>
                  <a:lnTo>
                    <a:pt x="18" y="21"/>
                  </a:lnTo>
                  <a:lnTo>
                    <a:pt x="11" y="30"/>
                  </a:lnTo>
                  <a:lnTo>
                    <a:pt x="7" y="39"/>
                  </a:lnTo>
                  <a:lnTo>
                    <a:pt x="2" y="51"/>
                  </a:lnTo>
                  <a:lnTo>
                    <a:pt x="0" y="66"/>
                  </a:lnTo>
                  <a:lnTo>
                    <a:pt x="1" y="80"/>
                  </a:lnTo>
                  <a:lnTo>
                    <a:pt x="4" y="94"/>
                  </a:lnTo>
                  <a:lnTo>
                    <a:pt x="11" y="106"/>
                  </a:lnTo>
                  <a:lnTo>
                    <a:pt x="20" y="117"/>
                  </a:lnTo>
                  <a:lnTo>
                    <a:pt x="32" y="126"/>
                  </a:lnTo>
                  <a:lnTo>
                    <a:pt x="45" y="133"/>
                  </a:lnTo>
                  <a:lnTo>
                    <a:pt x="57" y="137"/>
                  </a:lnTo>
                  <a:lnTo>
                    <a:pt x="72" y="140"/>
                  </a:lnTo>
                  <a:lnTo>
                    <a:pt x="86" y="140"/>
                  </a:lnTo>
                  <a:lnTo>
                    <a:pt x="100" y="137"/>
                  </a:lnTo>
                  <a:lnTo>
                    <a:pt x="114" y="133"/>
                  </a:lnTo>
                  <a:lnTo>
                    <a:pt x="126" y="127"/>
                  </a:lnTo>
                  <a:lnTo>
                    <a:pt x="138" y="118"/>
                  </a:lnTo>
                  <a:lnTo>
                    <a:pt x="147" y="106"/>
                  </a:lnTo>
                  <a:lnTo>
                    <a:pt x="154" y="94"/>
                  </a:lnTo>
                  <a:lnTo>
                    <a:pt x="155" y="81"/>
                  </a:lnTo>
                  <a:lnTo>
                    <a:pt x="155" y="66"/>
                  </a:lnTo>
                  <a:lnTo>
                    <a:pt x="152" y="52"/>
                  </a:lnTo>
                  <a:lnTo>
                    <a:pt x="149" y="39"/>
                  </a:lnTo>
                  <a:lnTo>
                    <a:pt x="147" y="33"/>
                  </a:lnTo>
                  <a:lnTo>
                    <a:pt x="142" y="27"/>
                  </a:lnTo>
                  <a:lnTo>
                    <a:pt x="138" y="22"/>
                  </a:lnTo>
                  <a:lnTo>
                    <a:pt x="132" y="18"/>
                  </a:lnTo>
                  <a:lnTo>
                    <a:pt x="125" y="13"/>
                  </a:lnTo>
                  <a:lnTo>
                    <a:pt x="118" y="10"/>
                  </a:lnTo>
                  <a:lnTo>
                    <a:pt x="111" y="7"/>
                  </a:lnTo>
                  <a:lnTo>
                    <a:pt x="106" y="4"/>
                  </a:lnTo>
                  <a:lnTo>
                    <a:pt x="102" y="4"/>
                  </a:lnTo>
                  <a:lnTo>
                    <a:pt x="100" y="6"/>
                  </a:lnTo>
                  <a:lnTo>
                    <a:pt x="98" y="11"/>
                  </a:lnTo>
                  <a:lnTo>
                    <a:pt x="99" y="13"/>
                  </a:lnTo>
                  <a:lnTo>
                    <a:pt x="104" y="19"/>
                  </a:lnTo>
                  <a:lnTo>
                    <a:pt x="111" y="23"/>
                  </a:lnTo>
                  <a:lnTo>
                    <a:pt x="117" y="29"/>
                  </a:lnTo>
                  <a:lnTo>
                    <a:pt x="123" y="35"/>
                  </a:lnTo>
                  <a:lnTo>
                    <a:pt x="133" y="51"/>
                  </a:lnTo>
                  <a:lnTo>
                    <a:pt x="136" y="66"/>
                  </a:lnTo>
                  <a:lnTo>
                    <a:pt x="131" y="79"/>
                  </a:lnTo>
                  <a:lnTo>
                    <a:pt x="123" y="89"/>
                  </a:lnTo>
                  <a:lnTo>
                    <a:pt x="111" y="98"/>
                  </a:lnTo>
                  <a:lnTo>
                    <a:pt x="100" y="104"/>
                  </a:lnTo>
                  <a:lnTo>
                    <a:pt x="89" y="109"/>
                  </a:lnTo>
                  <a:lnTo>
                    <a:pt x="84" y="110"/>
                  </a:lnTo>
                  <a:lnTo>
                    <a:pt x="76" y="110"/>
                  </a:lnTo>
                  <a:lnTo>
                    <a:pt x="66" y="110"/>
                  </a:lnTo>
                  <a:lnTo>
                    <a:pt x="58" y="109"/>
                  </a:lnTo>
                  <a:lnTo>
                    <a:pt x="50" y="106"/>
                  </a:lnTo>
                  <a:lnTo>
                    <a:pt x="42" y="104"/>
                  </a:lnTo>
                  <a:lnTo>
                    <a:pt x="35" y="99"/>
                  </a:lnTo>
                  <a:lnTo>
                    <a:pt x="28" y="95"/>
                  </a:lnTo>
                  <a:lnTo>
                    <a:pt x="22" y="89"/>
                  </a:lnTo>
                  <a:lnTo>
                    <a:pt x="11" y="75"/>
                  </a:lnTo>
                  <a:lnTo>
                    <a:pt x="8" y="61"/>
                  </a:lnTo>
                  <a:lnTo>
                    <a:pt x="9" y="48"/>
                  </a:lnTo>
                  <a:lnTo>
                    <a:pt x="16" y="34"/>
                  </a:lnTo>
                  <a:lnTo>
                    <a:pt x="25" y="21"/>
                  </a:lnTo>
                  <a:lnTo>
                    <a:pt x="37" y="12"/>
                  </a:lnTo>
                  <a:lnTo>
                    <a:pt x="50" y="5"/>
                  </a:lnTo>
                  <a:lnTo>
                    <a:pt x="64" y="1"/>
                  </a:lnTo>
                  <a:lnTo>
                    <a:pt x="65" y="1"/>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512"/>
            <p:cNvSpPr/>
            <p:nvPr/>
          </p:nvSpPr>
          <p:spPr>
            <a:xfrm rot="20009400">
              <a:off x="3501720" y="5385600"/>
              <a:ext cx="792360" cy="803160"/>
            </a:xfrm>
            <a:custGeom>
              <a:avLst/>
              <a:gdLst>
                <a:gd name="textAreaLeft" fmla="*/ 0 w 792360"/>
                <a:gd name="textAreaRight" fmla="*/ 792720 w 792360"/>
                <a:gd name="textAreaTop" fmla="*/ 0 h 803160"/>
                <a:gd name="textAreaBottom" fmla="*/ 803520 h 803160"/>
              </a:gdLst>
              <a:ahLst/>
              <a:rect l="textAreaLeft" t="textAreaTop" r="textAreaRight" b="textAreaBottom"/>
              <a:pathLst>
                <a:path w="548" h="535">
                  <a:moveTo>
                    <a:pt x="548" y="0"/>
                  </a:moveTo>
                  <a:lnTo>
                    <a:pt x="533" y="5"/>
                  </a:lnTo>
                  <a:lnTo>
                    <a:pt x="517" y="11"/>
                  </a:lnTo>
                  <a:lnTo>
                    <a:pt x="503" y="19"/>
                  </a:lnTo>
                  <a:lnTo>
                    <a:pt x="488" y="28"/>
                  </a:lnTo>
                  <a:lnTo>
                    <a:pt x="475" y="37"/>
                  </a:lnTo>
                  <a:lnTo>
                    <a:pt x="461" y="48"/>
                  </a:lnTo>
                  <a:lnTo>
                    <a:pt x="447" y="57"/>
                  </a:lnTo>
                  <a:lnTo>
                    <a:pt x="434" y="66"/>
                  </a:lnTo>
                  <a:lnTo>
                    <a:pt x="423" y="74"/>
                  </a:lnTo>
                  <a:lnTo>
                    <a:pt x="410" y="82"/>
                  </a:lnTo>
                  <a:lnTo>
                    <a:pt x="399" y="90"/>
                  </a:lnTo>
                  <a:lnTo>
                    <a:pt x="386" y="98"/>
                  </a:lnTo>
                  <a:lnTo>
                    <a:pt x="374" y="108"/>
                  </a:lnTo>
                  <a:lnTo>
                    <a:pt x="362" y="116"/>
                  </a:lnTo>
                  <a:lnTo>
                    <a:pt x="350" y="125"/>
                  </a:lnTo>
                  <a:lnTo>
                    <a:pt x="339" y="133"/>
                  </a:lnTo>
                  <a:lnTo>
                    <a:pt x="327" y="142"/>
                  </a:lnTo>
                  <a:lnTo>
                    <a:pt x="314" y="150"/>
                  </a:lnTo>
                  <a:lnTo>
                    <a:pt x="303" y="159"/>
                  </a:lnTo>
                  <a:lnTo>
                    <a:pt x="291" y="169"/>
                  </a:lnTo>
                  <a:lnTo>
                    <a:pt x="280" y="178"/>
                  </a:lnTo>
                  <a:lnTo>
                    <a:pt x="268" y="186"/>
                  </a:lnTo>
                  <a:lnTo>
                    <a:pt x="257" y="195"/>
                  </a:lnTo>
                  <a:lnTo>
                    <a:pt x="245" y="204"/>
                  </a:lnTo>
                  <a:lnTo>
                    <a:pt x="223" y="222"/>
                  </a:lnTo>
                  <a:lnTo>
                    <a:pt x="203" y="239"/>
                  </a:lnTo>
                  <a:lnTo>
                    <a:pt x="182" y="257"/>
                  </a:lnTo>
                  <a:lnTo>
                    <a:pt x="161" y="276"/>
                  </a:lnTo>
                  <a:lnTo>
                    <a:pt x="141" y="295"/>
                  </a:lnTo>
                  <a:lnTo>
                    <a:pt x="122" y="315"/>
                  </a:lnTo>
                  <a:lnTo>
                    <a:pt x="103" y="336"/>
                  </a:lnTo>
                  <a:lnTo>
                    <a:pt x="85" y="358"/>
                  </a:lnTo>
                  <a:lnTo>
                    <a:pt x="71" y="374"/>
                  </a:lnTo>
                  <a:lnTo>
                    <a:pt x="56" y="393"/>
                  </a:lnTo>
                  <a:lnTo>
                    <a:pt x="40" y="415"/>
                  </a:lnTo>
                  <a:lnTo>
                    <a:pt x="24" y="438"/>
                  </a:lnTo>
                  <a:lnTo>
                    <a:pt x="12" y="461"/>
                  </a:lnTo>
                  <a:lnTo>
                    <a:pt x="4" y="485"/>
                  </a:lnTo>
                  <a:lnTo>
                    <a:pt x="0" y="507"/>
                  </a:lnTo>
                  <a:lnTo>
                    <a:pt x="5" y="529"/>
                  </a:lnTo>
                  <a:lnTo>
                    <a:pt x="10" y="535"/>
                  </a:lnTo>
                  <a:lnTo>
                    <a:pt x="20" y="533"/>
                  </a:lnTo>
                  <a:lnTo>
                    <a:pt x="28" y="527"/>
                  </a:lnTo>
                  <a:lnTo>
                    <a:pt x="33" y="521"/>
                  </a:lnTo>
                  <a:lnTo>
                    <a:pt x="45" y="503"/>
                  </a:lnTo>
                  <a:lnTo>
                    <a:pt x="58" y="483"/>
                  </a:lnTo>
                  <a:lnTo>
                    <a:pt x="69" y="465"/>
                  </a:lnTo>
                  <a:lnTo>
                    <a:pt x="82" y="446"/>
                  </a:lnTo>
                  <a:lnTo>
                    <a:pt x="93" y="427"/>
                  </a:lnTo>
                  <a:lnTo>
                    <a:pt x="106" y="408"/>
                  </a:lnTo>
                  <a:lnTo>
                    <a:pt x="119" y="390"/>
                  </a:lnTo>
                  <a:lnTo>
                    <a:pt x="131" y="373"/>
                  </a:lnTo>
                  <a:lnTo>
                    <a:pt x="144" y="354"/>
                  </a:lnTo>
                  <a:lnTo>
                    <a:pt x="157" y="337"/>
                  </a:lnTo>
                  <a:lnTo>
                    <a:pt x="171" y="320"/>
                  </a:lnTo>
                  <a:lnTo>
                    <a:pt x="184" y="302"/>
                  </a:lnTo>
                  <a:lnTo>
                    <a:pt x="198" y="285"/>
                  </a:lnTo>
                  <a:lnTo>
                    <a:pt x="213" y="268"/>
                  </a:lnTo>
                  <a:lnTo>
                    <a:pt x="228" y="252"/>
                  </a:lnTo>
                  <a:lnTo>
                    <a:pt x="244" y="235"/>
                  </a:lnTo>
                  <a:lnTo>
                    <a:pt x="265" y="216"/>
                  </a:lnTo>
                  <a:lnTo>
                    <a:pt x="287" y="196"/>
                  </a:lnTo>
                  <a:lnTo>
                    <a:pt x="309" y="178"/>
                  </a:lnTo>
                  <a:lnTo>
                    <a:pt x="331" y="161"/>
                  </a:lnTo>
                  <a:lnTo>
                    <a:pt x="354" y="144"/>
                  </a:lnTo>
                  <a:lnTo>
                    <a:pt x="377" y="127"/>
                  </a:lnTo>
                  <a:lnTo>
                    <a:pt x="400" y="110"/>
                  </a:lnTo>
                  <a:lnTo>
                    <a:pt x="423" y="93"/>
                  </a:lnTo>
                  <a:lnTo>
                    <a:pt x="437" y="82"/>
                  </a:lnTo>
                  <a:lnTo>
                    <a:pt x="452" y="70"/>
                  </a:lnTo>
                  <a:lnTo>
                    <a:pt x="466" y="58"/>
                  </a:lnTo>
                  <a:lnTo>
                    <a:pt x="483" y="45"/>
                  </a:lnTo>
                  <a:lnTo>
                    <a:pt x="498" y="34"/>
                  </a:lnTo>
                  <a:lnTo>
                    <a:pt x="515" y="22"/>
                  </a:lnTo>
                  <a:lnTo>
                    <a:pt x="531" y="11"/>
                  </a:lnTo>
                  <a:lnTo>
                    <a:pt x="548" y="2"/>
                  </a:lnTo>
                  <a:lnTo>
                    <a:pt x="5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513"/>
            <p:cNvSpPr/>
            <p:nvPr/>
          </p:nvSpPr>
          <p:spPr>
            <a:xfrm rot="20009400">
              <a:off x="2260080" y="5045400"/>
              <a:ext cx="621720" cy="460080"/>
            </a:xfrm>
            <a:custGeom>
              <a:avLst/>
              <a:gdLst>
                <a:gd name="textAreaLeft" fmla="*/ 0 w 621720"/>
                <a:gd name="textAreaRight" fmla="*/ 621720 w 621720"/>
                <a:gd name="textAreaTop" fmla="*/ 0 h 460080"/>
                <a:gd name="textAreaBottom" fmla="*/ 460440 h 460080"/>
              </a:gdLst>
              <a:ahLst/>
              <a:rect l="textAreaLeft" t="textAreaTop" r="textAreaRight" b="textAreaBottom"/>
              <a:pathLst>
                <a:path w="428" h="307">
                  <a:moveTo>
                    <a:pt x="428" y="0"/>
                  </a:moveTo>
                  <a:lnTo>
                    <a:pt x="413" y="6"/>
                  </a:lnTo>
                  <a:lnTo>
                    <a:pt x="398" y="11"/>
                  </a:lnTo>
                  <a:lnTo>
                    <a:pt x="383" y="17"/>
                  </a:lnTo>
                  <a:lnTo>
                    <a:pt x="368" y="22"/>
                  </a:lnTo>
                  <a:lnTo>
                    <a:pt x="353" y="28"/>
                  </a:lnTo>
                  <a:lnTo>
                    <a:pt x="338" y="35"/>
                  </a:lnTo>
                  <a:lnTo>
                    <a:pt x="324" y="42"/>
                  </a:lnTo>
                  <a:lnTo>
                    <a:pt x="309" y="48"/>
                  </a:lnTo>
                  <a:lnTo>
                    <a:pt x="296" y="55"/>
                  </a:lnTo>
                  <a:lnTo>
                    <a:pt x="281" y="63"/>
                  </a:lnTo>
                  <a:lnTo>
                    <a:pt x="267" y="70"/>
                  </a:lnTo>
                  <a:lnTo>
                    <a:pt x="253" y="78"/>
                  </a:lnTo>
                  <a:lnTo>
                    <a:pt x="239" y="86"/>
                  </a:lnTo>
                  <a:lnTo>
                    <a:pt x="225" y="94"/>
                  </a:lnTo>
                  <a:lnTo>
                    <a:pt x="213" y="103"/>
                  </a:lnTo>
                  <a:lnTo>
                    <a:pt x="199" y="112"/>
                  </a:lnTo>
                  <a:lnTo>
                    <a:pt x="186" y="121"/>
                  </a:lnTo>
                  <a:lnTo>
                    <a:pt x="172" y="131"/>
                  </a:lnTo>
                  <a:lnTo>
                    <a:pt x="160" y="141"/>
                  </a:lnTo>
                  <a:lnTo>
                    <a:pt x="146" y="151"/>
                  </a:lnTo>
                  <a:lnTo>
                    <a:pt x="132" y="162"/>
                  </a:lnTo>
                  <a:lnTo>
                    <a:pt x="119" y="173"/>
                  </a:lnTo>
                  <a:lnTo>
                    <a:pt x="106" y="185"/>
                  </a:lnTo>
                  <a:lnTo>
                    <a:pt x="92" y="196"/>
                  </a:lnTo>
                  <a:lnTo>
                    <a:pt x="79" y="208"/>
                  </a:lnTo>
                  <a:lnTo>
                    <a:pt x="66" y="220"/>
                  </a:lnTo>
                  <a:lnTo>
                    <a:pt x="55" y="233"/>
                  </a:lnTo>
                  <a:lnTo>
                    <a:pt x="42" y="246"/>
                  </a:lnTo>
                  <a:lnTo>
                    <a:pt x="32" y="258"/>
                  </a:lnTo>
                  <a:lnTo>
                    <a:pt x="20" y="271"/>
                  </a:lnTo>
                  <a:lnTo>
                    <a:pt x="11" y="285"/>
                  </a:lnTo>
                  <a:lnTo>
                    <a:pt x="2" y="298"/>
                  </a:lnTo>
                  <a:lnTo>
                    <a:pt x="0" y="302"/>
                  </a:lnTo>
                  <a:lnTo>
                    <a:pt x="1" y="306"/>
                  </a:lnTo>
                  <a:lnTo>
                    <a:pt x="4" y="307"/>
                  </a:lnTo>
                  <a:lnTo>
                    <a:pt x="8" y="305"/>
                  </a:lnTo>
                  <a:lnTo>
                    <a:pt x="31" y="280"/>
                  </a:lnTo>
                  <a:lnTo>
                    <a:pt x="55" y="256"/>
                  </a:lnTo>
                  <a:lnTo>
                    <a:pt x="78" y="232"/>
                  </a:lnTo>
                  <a:lnTo>
                    <a:pt x="102" y="210"/>
                  </a:lnTo>
                  <a:lnTo>
                    <a:pt x="125" y="187"/>
                  </a:lnTo>
                  <a:lnTo>
                    <a:pt x="150" y="166"/>
                  </a:lnTo>
                  <a:lnTo>
                    <a:pt x="175" y="146"/>
                  </a:lnTo>
                  <a:lnTo>
                    <a:pt x="200" y="126"/>
                  </a:lnTo>
                  <a:lnTo>
                    <a:pt x="225" y="108"/>
                  </a:lnTo>
                  <a:lnTo>
                    <a:pt x="252" y="89"/>
                  </a:lnTo>
                  <a:lnTo>
                    <a:pt x="279" y="73"/>
                  </a:lnTo>
                  <a:lnTo>
                    <a:pt x="307" y="57"/>
                  </a:lnTo>
                  <a:lnTo>
                    <a:pt x="336" y="41"/>
                  </a:lnTo>
                  <a:lnTo>
                    <a:pt x="365" y="27"/>
                  </a:lnTo>
                  <a:lnTo>
                    <a:pt x="396" y="14"/>
                  </a:lnTo>
                  <a:lnTo>
                    <a:pt x="427" y="2"/>
                  </a:lnTo>
                  <a:lnTo>
                    <a:pt x="428" y="2"/>
                  </a:lnTo>
                  <a:lnTo>
                    <a:pt x="4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514"/>
            <p:cNvSpPr/>
            <p:nvPr/>
          </p:nvSpPr>
          <p:spPr>
            <a:xfrm rot="20009400">
              <a:off x="2011320" y="4797000"/>
              <a:ext cx="726120" cy="505440"/>
            </a:xfrm>
            <a:custGeom>
              <a:avLst/>
              <a:gdLst>
                <a:gd name="textAreaLeft" fmla="*/ 0 w 726120"/>
                <a:gd name="textAreaRight" fmla="*/ 726480 w 726120"/>
                <a:gd name="textAreaTop" fmla="*/ 0 h 505440"/>
                <a:gd name="textAreaBottom" fmla="*/ 505800 h 505440"/>
              </a:gdLst>
              <a:ahLst/>
              <a:rect l="textAreaLeft" t="textAreaTop" r="textAreaRight" b="textAreaBottom"/>
              <a:pathLst>
                <a:path w="502" h="335">
                  <a:moveTo>
                    <a:pt x="502" y="0"/>
                  </a:moveTo>
                  <a:lnTo>
                    <a:pt x="463" y="2"/>
                  </a:lnTo>
                  <a:lnTo>
                    <a:pt x="425" y="7"/>
                  </a:lnTo>
                  <a:lnTo>
                    <a:pt x="386" y="15"/>
                  </a:lnTo>
                  <a:lnTo>
                    <a:pt x="348" y="24"/>
                  </a:lnTo>
                  <a:lnTo>
                    <a:pt x="310" y="37"/>
                  </a:lnTo>
                  <a:lnTo>
                    <a:pt x="273" y="52"/>
                  </a:lnTo>
                  <a:lnTo>
                    <a:pt x="236" y="69"/>
                  </a:lnTo>
                  <a:lnTo>
                    <a:pt x="201" y="89"/>
                  </a:lnTo>
                  <a:lnTo>
                    <a:pt x="169" y="111"/>
                  </a:lnTo>
                  <a:lnTo>
                    <a:pt x="137" y="135"/>
                  </a:lnTo>
                  <a:lnTo>
                    <a:pt x="108" y="161"/>
                  </a:lnTo>
                  <a:lnTo>
                    <a:pt x="81" y="190"/>
                  </a:lnTo>
                  <a:lnTo>
                    <a:pt x="56" y="221"/>
                  </a:lnTo>
                  <a:lnTo>
                    <a:pt x="34" y="255"/>
                  </a:lnTo>
                  <a:lnTo>
                    <a:pt x="16" y="289"/>
                  </a:lnTo>
                  <a:lnTo>
                    <a:pt x="0" y="327"/>
                  </a:lnTo>
                  <a:lnTo>
                    <a:pt x="0" y="334"/>
                  </a:lnTo>
                  <a:lnTo>
                    <a:pt x="6" y="335"/>
                  </a:lnTo>
                  <a:lnTo>
                    <a:pt x="13" y="333"/>
                  </a:lnTo>
                  <a:lnTo>
                    <a:pt x="17" y="328"/>
                  </a:lnTo>
                  <a:lnTo>
                    <a:pt x="36" y="301"/>
                  </a:lnTo>
                  <a:lnTo>
                    <a:pt x="54" y="274"/>
                  </a:lnTo>
                  <a:lnTo>
                    <a:pt x="74" y="247"/>
                  </a:lnTo>
                  <a:lnTo>
                    <a:pt x="93" y="220"/>
                  </a:lnTo>
                  <a:lnTo>
                    <a:pt x="114" y="195"/>
                  </a:lnTo>
                  <a:lnTo>
                    <a:pt x="135" y="169"/>
                  </a:lnTo>
                  <a:lnTo>
                    <a:pt x="158" y="145"/>
                  </a:lnTo>
                  <a:lnTo>
                    <a:pt x="181" y="122"/>
                  </a:lnTo>
                  <a:lnTo>
                    <a:pt x="196" y="110"/>
                  </a:lnTo>
                  <a:lnTo>
                    <a:pt x="212" y="97"/>
                  </a:lnTo>
                  <a:lnTo>
                    <a:pt x="230" y="85"/>
                  </a:lnTo>
                  <a:lnTo>
                    <a:pt x="249" y="74"/>
                  </a:lnTo>
                  <a:lnTo>
                    <a:pt x="268" y="63"/>
                  </a:lnTo>
                  <a:lnTo>
                    <a:pt x="289" y="54"/>
                  </a:lnTo>
                  <a:lnTo>
                    <a:pt x="310" y="45"/>
                  </a:lnTo>
                  <a:lnTo>
                    <a:pt x="330" y="37"/>
                  </a:lnTo>
                  <a:lnTo>
                    <a:pt x="352" y="30"/>
                  </a:lnTo>
                  <a:lnTo>
                    <a:pt x="374" y="23"/>
                  </a:lnTo>
                  <a:lnTo>
                    <a:pt x="396" y="17"/>
                  </a:lnTo>
                  <a:lnTo>
                    <a:pt x="418" y="13"/>
                  </a:lnTo>
                  <a:lnTo>
                    <a:pt x="440" y="8"/>
                  </a:lnTo>
                  <a:lnTo>
                    <a:pt x="461" y="5"/>
                  </a:lnTo>
                  <a:lnTo>
                    <a:pt x="481" y="2"/>
                  </a:lnTo>
                  <a:lnTo>
                    <a:pt x="501" y="0"/>
                  </a:lnTo>
                  <a:lnTo>
                    <a:pt x="5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515"/>
            <p:cNvSpPr/>
            <p:nvPr/>
          </p:nvSpPr>
          <p:spPr>
            <a:xfrm rot="20009400">
              <a:off x="2308320" y="5020920"/>
              <a:ext cx="737640" cy="547560"/>
            </a:xfrm>
            <a:custGeom>
              <a:avLst/>
              <a:gdLst>
                <a:gd name="textAreaLeft" fmla="*/ 0 w 737640"/>
                <a:gd name="textAreaRight" fmla="*/ 738000 w 737640"/>
                <a:gd name="textAreaTop" fmla="*/ 0 h 547560"/>
                <a:gd name="textAreaBottom" fmla="*/ 547920 h 547560"/>
              </a:gdLst>
              <a:ahLst/>
              <a:rect l="textAreaLeft" t="textAreaTop" r="textAreaRight" b="textAreaBottom"/>
              <a:pathLst>
                <a:path w="509" h="364">
                  <a:moveTo>
                    <a:pt x="1" y="363"/>
                  </a:moveTo>
                  <a:lnTo>
                    <a:pt x="21" y="329"/>
                  </a:lnTo>
                  <a:lnTo>
                    <a:pt x="42" y="295"/>
                  </a:lnTo>
                  <a:lnTo>
                    <a:pt x="65" y="262"/>
                  </a:lnTo>
                  <a:lnTo>
                    <a:pt x="90" y="231"/>
                  </a:lnTo>
                  <a:lnTo>
                    <a:pt x="116" y="201"/>
                  </a:lnTo>
                  <a:lnTo>
                    <a:pt x="145" y="172"/>
                  </a:lnTo>
                  <a:lnTo>
                    <a:pt x="176" y="146"/>
                  </a:lnTo>
                  <a:lnTo>
                    <a:pt x="207" y="121"/>
                  </a:lnTo>
                  <a:lnTo>
                    <a:pt x="241" y="98"/>
                  </a:lnTo>
                  <a:lnTo>
                    <a:pt x="275" y="79"/>
                  </a:lnTo>
                  <a:lnTo>
                    <a:pt x="311" y="62"/>
                  </a:lnTo>
                  <a:lnTo>
                    <a:pt x="348" y="47"/>
                  </a:lnTo>
                  <a:lnTo>
                    <a:pt x="385" y="35"/>
                  </a:lnTo>
                  <a:lnTo>
                    <a:pt x="424" y="26"/>
                  </a:lnTo>
                  <a:lnTo>
                    <a:pt x="463" y="21"/>
                  </a:lnTo>
                  <a:lnTo>
                    <a:pt x="502" y="19"/>
                  </a:lnTo>
                  <a:lnTo>
                    <a:pt x="506" y="18"/>
                  </a:lnTo>
                  <a:lnTo>
                    <a:pt x="508" y="14"/>
                  </a:lnTo>
                  <a:lnTo>
                    <a:pt x="509" y="11"/>
                  </a:lnTo>
                  <a:lnTo>
                    <a:pt x="508" y="9"/>
                  </a:lnTo>
                  <a:lnTo>
                    <a:pt x="492" y="4"/>
                  </a:lnTo>
                  <a:lnTo>
                    <a:pt x="475" y="0"/>
                  </a:lnTo>
                  <a:lnTo>
                    <a:pt x="456" y="0"/>
                  </a:lnTo>
                  <a:lnTo>
                    <a:pt x="438" y="2"/>
                  </a:lnTo>
                  <a:lnTo>
                    <a:pt x="419" y="4"/>
                  </a:lnTo>
                  <a:lnTo>
                    <a:pt x="401" y="9"/>
                  </a:lnTo>
                  <a:lnTo>
                    <a:pt x="381" y="14"/>
                  </a:lnTo>
                  <a:lnTo>
                    <a:pt x="363" y="20"/>
                  </a:lnTo>
                  <a:lnTo>
                    <a:pt x="345" y="28"/>
                  </a:lnTo>
                  <a:lnTo>
                    <a:pt x="326" y="36"/>
                  </a:lnTo>
                  <a:lnTo>
                    <a:pt x="308" y="45"/>
                  </a:lnTo>
                  <a:lnTo>
                    <a:pt x="292" y="55"/>
                  </a:lnTo>
                  <a:lnTo>
                    <a:pt x="274" y="65"/>
                  </a:lnTo>
                  <a:lnTo>
                    <a:pt x="259" y="74"/>
                  </a:lnTo>
                  <a:lnTo>
                    <a:pt x="244" y="85"/>
                  </a:lnTo>
                  <a:lnTo>
                    <a:pt x="232" y="94"/>
                  </a:lnTo>
                  <a:lnTo>
                    <a:pt x="213" y="108"/>
                  </a:lnTo>
                  <a:lnTo>
                    <a:pt x="196" y="121"/>
                  </a:lnTo>
                  <a:lnTo>
                    <a:pt x="179" y="135"/>
                  </a:lnTo>
                  <a:lnTo>
                    <a:pt x="161" y="150"/>
                  </a:lnTo>
                  <a:lnTo>
                    <a:pt x="145" y="165"/>
                  </a:lnTo>
                  <a:lnTo>
                    <a:pt x="129" y="181"/>
                  </a:lnTo>
                  <a:lnTo>
                    <a:pt x="114" y="197"/>
                  </a:lnTo>
                  <a:lnTo>
                    <a:pt x="99" y="214"/>
                  </a:lnTo>
                  <a:lnTo>
                    <a:pt x="85" y="231"/>
                  </a:lnTo>
                  <a:lnTo>
                    <a:pt x="72" y="248"/>
                  </a:lnTo>
                  <a:lnTo>
                    <a:pt x="58" y="265"/>
                  </a:lnTo>
                  <a:lnTo>
                    <a:pt x="45" y="284"/>
                  </a:lnTo>
                  <a:lnTo>
                    <a:pt x="34" y="303"/>
                  </a:lnTo>
                  <a:lnTo>
                    <a:pt x="22" y="323"/>
                  </a:lnTo>
                  <a:lnTo>
                    <a:pt x="11" y="343"/>
                  </a:lnTo>
                  <a:lnTo>
                    <a:pt x="0" y="363"/>
                  </a:lnTo>
                  <a:lnTo>
                    <a:pt x="0" y="364"/>
                  </a:lnTo>
                  <a:lnTo>
                    <a:pt x="1" y="364"/>
                  </a:lnTo>
                  <a:lnTo>
                    <a:pt x="1"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TextBox 531"/>
          <p:cNvSpPr/>
          <p:nvPr/>
        </p:nvSpPr>
        <p:spPr>
          <a:xfrm rot="1069800">
            <a:off x="2489400" y="531612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Lucida Handwriting"/>
              </a:rPr>
              <a:t>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Lucida Handwriting"/>
              </a:rPr>
              <a:t>MAPLE-1</a:t>
            </a:r>
            <a:endParaRPr b="0" lang="en-US" sz="1800" spc="-1" strike="noStrike">
              <a:solidFill>
                <a:srgbClr val="000000"/>
              </a:solidFill>
              <a:latin typeface="Arial"/>
            </a:endParaRPr>
          </a:p>
        </p:txBody>
      </p:sp>
      <p:sp>
        <p:nvSpPr>
          <p:cNvPr id="181" name="Freeform 510"/>
          <p:cNvSpPr/>
          <p:nvPr/>
        </p:nvSpPr>
        <p:spPr>
          <a:xfrm rot="20009400">
            <a:off x="6616800" y="4836600"/>
            <a:ext cx="1111320" cy="1263960"/>
          </a:xfrm>
          <a:custGeom>
            <a:avLst/>
            <a:gdLst>
              <a:gd name="textAreaLeft" fmla="*/ 0 w 1111320"/>
              <a:gd name="textAreaRight" fmla="*/ 1111320 w 1111320"/>
              <a:gd name="textAreaTop" fmla="*/ 0 h 1263960"/>
              <a:gd name="textAreaBottom" fmla="*/ 1264320 h 1263960"/>
            </a:gdLst>
            <a:ahLst/>
            <a:rect l="textAreaLeft" t="textAreaTop" r="textAreaRight" b="textAreaBottom"/>
            <a:pathLst>
              <a:path w="770" h="841">
                <a:moveTo>
                  <a:pt x="0" y="1"/>
                </a:moveTo>
                <a:lnTo>
                  <a:pt x="9" y="32"/>
                </a:lnTo>
                <a:lnTo>
                  <a:pt x="20" y="63"/>
                </a:lnTo>
                <a:lnTo>
                  <a:pt x="30" y="93"/>
                </a:lnTo>
                <a:lnTo>
                  <a:pt x="43" y="123"/>
                </a:lnTo>
                <a:lnTo>
                  <a:pt x="57" y="152"/>
                </a:lnTo>
                <a:lnTo>
                  <a:pt x="72" y="181"/>
                </a:lnTo>
                <a:lnTo>
                  <a:pt x="88" y="209"/>
                </a:lnTo>
                <a:lnTo>
                  <a:pt x="105" y="237"/>
                </a:lnTo>
                <a:lnTo>
                  <a:pt x="122" y="264"/>
                </a:lnTo>
                <a:lnTo>
                  <a:pt x="141" y="290"/>
                </a:lnTo>
                <a:lnTo>
                  <a:pt x="160" y="317"/>
                </a:lnTo>
                <a:lnTo>
                  <a:pt x="180" y="342"/>
                </a:lnTo>
                <a:lnTo>
                  <a:pt x="201" y="366"/>
                </a:lnTo>
                <a:lnTo>
                  <a:pt x="223" y="390"/>
                </a:lnTo>
                <a:lnTo>
                  <a:pt x="244" y="413"/>
                </a:lnTo>
                <a:lnTo>
                  <a:pt x="267" y="436"/>
                </a:lnTo>
                <a:lnTo>
                  <a:pt x="296" y="464"/>
                </a:lnTo>
                <a:lnTo>
                  <a:pt x="325" y="493"/>
                </a:lnTo>
                <a:lnTo>
                  <a:pt x="354" y="520"/>
                </a:lnTo>
                <a:lnTo>
                  <a:pt x="384" y="548"/>
                </a:lnTo>
                <a:lnTo>
                  <a:pt x="413" y="576"/>
                </a:lnTo>
                <a:lnTo>
                  <a:pt x="442" y="602"/>
                </a:lnTo>
                <a:lnTo>
                  <a:pt x="471" y="629"/>
                </a:lnTo>
                <a:lnTo>
                  <a:pt x="502" y="654"/>
                </a:lnTo>
                <a:lnTo>
                  <a:pt x="532" y="681"/>
                </a:lnTo>
                <a:lnTo>
                  <a:pt x="563" y="705"/>
                </a:lnTo>
                <a:lnTo>
                  <a:pt x="594" y="729"/>
                </a:lnTo>
                <a:lnTo>
                  <a:pt x="627" y="753"/>
                </a:lnTo>
                <a:lnTo>
                  <a:pt x="659" y="776"/>
                </a:lnTo>
                <a:lnTo>
                  <a:pt x="692" y="798"/>
                </a:lnTo>
                <a:lnTo>
                  <a:pt x="726" y="820"/>
                </a:lnTo>
                <a:lnTo>
                  <a:pt x="760" y="841"/>
                </a:lnTo>
                <a:lnTo>
                  <a:pt x="765" y="841"/>
                </a:lnTo>
                <a:lnTo>
                  <a:pt x="768" y="836"/>
                </a:lnTo>
                <a:lnTo>
                  <a:pt x="770" y="831"/>
                </a:lnTo>
                <a:lnTo>
                  <a:pt x="768" y="827"/>
                </a:lnTo>
                <a:lnTo>
                  <a:pt x="742" y="806"/>
                </a:lnTo>
                <a:lnTo>
                  <a:pt x="714" y="785"/>
                </a:lnTo>
                <a:lnTo>
                  <a:pt x="687" y="765"/>
                </a:lnTo>
                <a:lnTo>
                  <a:pt x="659" y="744"/>
                </a:lnTo>
                <a:lnTo>
                  <a:pt x="630" y="722"/>
                </a:lnTo>
                <a:lnTo>
                  <a:pt x="603" y="701"/>
                </a:lnTo>
                <a:lnTo>
                  <a:pt x="574" y="679"/>
                </a:lnTo>
                <a:lnTo>
                  <a:pt x="546" y="657"/>
                </a:lnTo>
                <a:lnTo>
                  <a:pt x="518" y="636"/>
                </a:lnTo>
                <a:lnTo>
                  <a:pt x="490" y="614"/>
                </a:lnTo>
                <a:lnTo>
                  <a:pt x="462" y="591"/>
                </a:lnTo>
                <a:lnTo>
                  <a:pt x="434" y="568"/>
                </a:lnTo>
                <a:lnTo>
                  <a:pt x="407" y="545"/>
                </a:lnTo>
                <a:lnTo>
                  <a:pt x="380" y="520"/>
                </a:lnTo>
                <a:lnTo>
                  <a:pt x="354" y="496"/>
                </a:lnTo>
                <a:lnTo>
                  <a:pt x="327" y="472"/>
                </a:lnTo>
                <a:lnTo>
                  <a:pt x="301" y="447"/>
                </a:lnTo>
                <a:lnTo>
                  <a:pt x="275" y="421"/>
                </a:lnTo>
                <a:lnTo>
                  <a:pt x="250" y="396"/>
                </a:lnTo>
                <a:lnTo>
                  <a:pt x="226" y="370"/>
                </a:lnTo>
                <a:lnTo>
                  <a:pt x="203" y="342"/>
                </a:lnTo>
                <a:lnTo>
                  <a:pt x="180" y="314"/>
                </a:lnTo>
                <a:lnTo>
                  <a:pt x="158" y="285"/>
                </a:lnTo>
                <a:lnTo>
                  <a:pt x="136" y="257"/>
                </a:lnTo>
                <a:lnTo>
                  <a:pt x="115" y="228"/>
                </a:lnTo>
                <a:lnTo>
                  <a:pt x="96" y="197"/>
                </a:lnTo>
                <a:lnTo>
                  <a:pt x="77" y="166"/>
                </a:lnTo>
                <a:lnTo>
                  <a:pt x="60" y="135"/>
                </a:lnTo>
                <a:lnTo>
                  <a:pt x="43" y="102"/>
                </a:lnTo>
                <a:lnTo>
                  <a:pt x="28" y="69"/>
                </a:lnTo>
                <a:lnTo>
                  <a:pt x="13" y="34"/>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 name="Group 533"/>
          <p:cNvGrpSpPr/>
          <p:nvPr/>
        </p:nvGrpSpPr>
        <p:grpSpPr>
          <a:xfrm>
            <a:off x="5869080" y="4744080"/>
            <a:ext cx="2494800" cy="2503440"/>
            <a:chOff x="5869080" y="4744080"/>
            <a:chExt cx="2494800" cy="2503440"/>
          </a:xfrm>
        </p:grpSpPr>
        <p:sp>
          <p:nvSpPr>
            <p:cNvPr id="183" name="Freeform 500"/>
            <p:cNvSpPr/>
            <p:nvPr/>
          </p:nvSpPr>
          <p:spPr>
            <a:xfrm rot="20009400">
              <a:off x="6246360" y="5021280"/>
              <a:ext cx="1683360" cy="1871640"/>
            </a:xfrm>
            <a:custGeom>
              <a:avLst/>
              <a:gdLst>
                <a:gd name="textAreaLeft" fmla="*/ 0 w 1683360"/>
                <a:gd name="textAreaRight" fmla="*/ 1683720 w 1683360"/>
                <a:gd name="textAreaTop" fmla="*/ 0 h 1871640"/>
                <a:gd name="textAreaBottom" fmla="*/ 1872000 h 1871640"/>
              </a:gdLst>
              <a:ahLst/>
              <a:rect l="textAreaLeft" t="textAreaTop" r="textAreaRight" b="textAreaBottom"/>
              <a:pathLst>
                <a:path w="1164" h="1244">
                  <a:moveTo>
                    <a:pt x="235" y="53"/>
                  </a:moveTo>
                  <a:lnTo>
                    <a:pt x="265" y="108"/>
                  </a:lnTo>
                  <a:lnTo>
                    <a:pt x="263" y="108"/>
                  </a:lnTo>
                  <a:lnTo>
                    <a:pt x="256" y="111"/>
                  </a:lnTo>
                  <a:lnTo>
                    <a:pt x="246" y="114"/>
                  </a:lnTo>
                  <a:lnTo>
                    <a:pt x="235" y="120"/>
                  </a:lnTo>
                  <a:lnTo>
                    <a:pt x="224" y="129"/>
                  </a:lnTo>
                  <a:lnTo>
                    <a:pt x="213" y="143"/>
                  </a:lnTo>
                  <a:lnTo>
                    <a:pt x="207" y="161"/>
                  </a:lnTo>
                  <a:lnTo>
                    <a:pt x="204" y="185"/>
                  </a:lnTo>
                  <a:lnTo>
                    <a:pt x="205" y="189"/>
                  </a:lnTo>
                  <a:lnTo>
                    <a:pt x="211" y="197"/>
                  </a:lnTo>
                  <a:lnTo>
                    <a:pt x="218" y="209"/>
                  </a:lnTo>
                  <a:lnTo>
                    <a:pt x="230" y="220"/>
                  </a:lnTo>
                  <a:lnTo>
                    <a:pt x="243" y="229"/>
                  </a:lnTo>
                  <a:lnTo>
                    <a:pt x="260" y="234"/>
                  </a:lnTo>
                  <a:lnTo>
                    <a:pt x="278" y="233"/>
                  </a:lnTo>
                  <a:lnTo>
                    <a:pt x="299" y="221"/>
                  </a:lnTo>
                  <a:lnTo>
                    <a:pt x="303" y="219"/>
                  </a:lnTo>
                  <a:lnTo>
                    <a:pt x="316" y="211"/>
                  </a:lnTo>
                  <a:lnTo>
                    <a:pt x="330" y="198"/>
                  </a:lnTo>
                  <a:lnTo>
                    <a:pt x="341" y="182"/>
                  </a:lnTo>
                  <a:lnTo>
                    <a:pt x="347" y="164"/>
                  </a:lnTo>
                  <a:lnTo>
                    <a:pt x="340" y="142"/>
                  </a:lnTo>
                  <a:lnTo>
                    <a:pt x="318" y="118"/>
                  </a:lnTo>
                  <a:lnTo>
                    <a:pt x="276" y="92"/>
                  </a:lnTo>
                  <a:lnTo>
                    <a:pt x="256" y="40"/>
                  </a:lnTo>
                  <a:lnTo>
                    <a:pt x="260" y="38"/>
                  </a:lnTo>
                  <a:lnTo>
                    <a:pt x="271" y="35"/>
                  </a:lnTo>
                  <a:lnTo>
                    <a:pt x="289" y="28"/>
                  </a:lnTo>
                  <a:lnTo>
                    <a:pt x="311" y="20"/>
                  </a:lnTo>
                  <a:lnTo>
                    <a:pt x="339" y="13"/>
                  </a:lnTo>
                  <a:lnTo>
                    <a:pt x="368" y="6"/>
                  </a:lnTo>
                  <a:lnTo>
                    <a:pt x="400" y="2"/>
                  </a:lnTo>
                  <a:lnTo>
                    <a:pt x="432" y="0"/>
                  </a:lnTo>
                  <a:lnTo>
                    <a:pt x="433" y="5"/>
                  </a:lnTo>
                  <a:lnTo>
                    <a:pt x="436" y="17"/>
                  </a:lnTo>
                  <a:lnTo>
                    <a:pt x="443" y="37"/>
                  </a:lnTo>
                  <a:lnTo>
                    <a:pt x="452" y="66"/>
                  </a:lnTo>
                  <a:lnTo>
                    <a:pt x="467" y="99"/>
                  </a:lnTo>
                  <a:lnTo>
                    <a:pt x="486" y="141"/>
                  </a:lnTo>
                  <a:lnTo>
                    <a:pt x="513" y="187"/>
                  </a:lnTo>
                  <a:lnTo>
                    <a:pt x="546" y="238"/>
                  </a:lnTo>
                  <a:lnTo>
                    <a:pt x="587" y="295"/>
                  </a:lnTo>
                  <a:lnTo>
                    <a:pt x="636" y="355"/>
                  </a:lnTo>
                  <a:lnTo>
                    <a:pt x="696" y="419"/>
                  </a:lnTo>
                  <a:lnTo>
                    <a:pt x="765" y="487"/>
                  </a:lnTo>
                  <a:lnTo>
                    <a:pt x="847" y="556"/>
                  </a:lnTo>
                  <a:lnTo>
                    <a:pt x="939" y="629"/>
                  </a:lnTo>
                  <a:lnTo>
                    <a:pt x="1045" y="703"/>
                  </a:lnTo>
                  <a:lnTo>
                    <a:pt x="1164" y="778"/>
                  </a:lnTo>
                  <a:lnTo>
                    <a:pt x="1160" y="780"/>
                  </a:lnTo>
                  <a:lnTo>
                    <a:pt x="1150" y="786"/>
                  </a:lnTo>
                  <a:lnTo>
                    <a:pt x="1134" y="795"/>
                  </a:lnTo>
                  <a:lnTo>
                    <a:pt x="1113" y="809"/>
                  </a:lnTo>
                  <a:lnTo>
                    <a:pt x="1086" y="826"/>
                  </a:lnTo>
                  <a:lnTo>
                    <a:pt x="1056" y="847"/>
                  </a:lnTo>
                  <a:lnTo>
                    <a:pt x="1023" y="871"/>
                  </a:lnTo>
                  <a:lnTo>
                    <a:pt x="989" y="900"/>
                  </a:lnTo>
                  <a:lnTo>
                    <a:pt x="951" y="931"/>
                  </a:lnTo>
                  <a:lnTo>
                    <a:pt x="911" y="965"/>
                  </a:lnTo>
                  <a:lnTo>
                    <a:pt x="872" y="1004"/>
                  </a:lnTo>
                  <a:lnTo>
                    <a:pt x="833" y="1046"/>
                  </a:lnTo>
                  <a:lnTo>
                    <a:pt x="795" y="1091"/>
                  </a:lnTo>
                  <a:lnTo>
                    <a:pt x="758" y="1139"/>
                  </a:lnTo>
                  <a:lnTo>
                    <a:pt x="724" y="1190"/>
                  </a:lnTo>
                  <a:lnTo>
                    <a:pt x="691" y="1244"/>
                  </a:lnTo>
                  <a:lnTo>
                    <a:pt x="686" y="1239"/>
                  </a:lnTo>
                  <a:lnTo>
                    <a:pt x="670" y="1226"/>
                  </a:lnTo>
                  <a:lnTo>
                    <a:pt x="643" y="1204"/>
                  </a:lnTo>
                  <a:lnTo>
                    <a:pt x="610" y="1173"/>
                  </a:lnTo>
                  <a:lnTo>
                    <a:pt x="568" y="1133"/>
                  </a:lnTo>
                  <a:lnTo>
                    <a:pt x="521" y="1087"/>
                  </a:lnTo>
                  <a:lnTo>
                    <a:pt x="470" y="1033"/>
                  </a:lnTo>
                  <a:lnTo>
                    <a:pt x="415" y="972"/>
                  </a:lnTo>
                  <a:lnTo>
                    <a:pt x="357" y="904"/>
                  </a:lnTo>
                  <a:lnTo>
                    <a:pt x="300" y="831"/>
                  </a:lnTo>
                  <a:lnTo>
                    <a:pt x="242" y="750"/>
                  </a:lnTo>
                  <a:lnTo>
                    <a:pt x="186" y="665"/>
                  </a:lnTo>
                  <a:lnTo>
                    <a:pt x="133" y="574"/>
                  </a:lnTo>
                  <a:lnTo>
                    <a:pt x="83" y="478"/>
                  </a:lnTo>
                  <a:lnTo>
                    <a:pt x="38" y="378"/>
                  </a:lnTo>
                  <a:lnTo>
                    <a:pt x="0" y="273"/>
                  </a:lnTo>
                  <a:lnTo>
                    <a:pt x="2" y="271"/>
                  </a:lnTo>
                  <a:lnTo>
                    <a:pt x="6" y="265"/>
                  </a:lnTo>
                  <a:lnTo>
                    <a:pt x="12" y="256"/>
                  </a:lnTo>
                  <a:lnTo>
                    <a:pt x="21" y="244"/>
                  </a:lnTo>
                  <a:lnTo>
                    <a:pt x="32" y="230"/>
                  </a:lnTo>
                  <a:lnTo>
                    <a:pt x="44" y="214"/>
                  </a:lnTo>
                  <a:lnTo>
                    <a:pt x="58" y="196"/>
                  </a:lnTo>
                  <a:lnTo>
                    <a:pt x="74" y="177"/>
                  </a:lnTo>
                  <a:lnTo>
                    <a:pt x="91" y="159"/>
                  </a:lnTo>
                  <a:lnTo>
                    <a:pt x="110" y="139"/>
                  </a:lnTo>
                  <a:lnTo>
                    <a:pt x="128" y="121"/>
                  </a:lnTo>
                  <a:lnTo>
                    <a:pt x="149" y="104"/>
                  </a:lnTo>
                  <a:lnTo>
                    <a:pt x="170" y="88"/>
                  </a:lnTo>
                  <a:lnTo>
                    <a:pt x="192" y="74"/>
                  </a:lnTo>
                  <a:lnTo>
                    <a:pt x="213" y="62"/>
                  </a:lnTo>
                  <a:lnTo>
                    <a:pt x="235" y="5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501"/>
            <p:cNvSpPr/>
            <p:nvPr/>
          </p:nvSpPr>
          <p:spPr>
            <a:xfrm rot="20009400">
              <a:off x="6134040" y="5304240"/>
              <a:ext cx="228240" cy="303840"/>
            </a:xfrm>
            <a:custGeom>
              <a:avLst/>
              <a:gdLst>
                <a:gd name="textAreaLeft" fmla="*/ 0 w 228240"/>
                <a:gd name="textAreaRight" fmla="*/ 228600 w 228240"/>
                <a:gd name="textAreaTop" fmla="*/ 0 h 303840"/>
                <a:gd name="textAreaBottom" fmla="*/ 303840 h 303840"/>
              </a:gdLst>
              <a:ahLst/>
              <a:rect l="textAreaLeft" t="textAreaTop" r="textAreaRight" b="textAreaBottom"/>
              <a:pathLst>
                <a:path w="158" h="200">
                  <a:moveTo>
                    <a:pt x="89" y="200"/>
                  </a:moveTo>
                  <a:lnTo>
                    <a:pt x="104" y="197"/>
                  </a:lnTo>
                  <a:lnTo>
                    <a:pt x="119" y="192"/>
                  </a:lnTo>
                  <a:lnTo>
                    <a:pt x="132" y="186"/>
                  </a:lnTo>
                  <a:lnTo>
                    <a:pt x="142" y="177"/>
                  </a:lnTo>
                  <a:lnTo>
                    <a:pt x="150" y="168"/>
                  </a:lnTo>
                  <a:lnTo>
                    <a:pt x="156" y="155"/>
                  </a:lnTo>
                  <a:lnTo>
                    <a:pt x="158" y="140"/>
                  </a:lnTo>
                  <a:lnTo>
                    <a:pt x="157" y="123"/>
                  </a:lnTo>
                  <a:lnTo>
                    <a:pt x="151" y="99"/>
                  </a:lnTo>
                  <a:lnTo>
                    <a:pt x="140" y="77"/>
                  </a:lnTo>
                  <a:lnTo>
                    <a:pt x="124" y="57"/>
                  </a:lnTo>
                  <a:lnTo>
                    <a:pt x="104" y="41"/>
                  </a:lnTo>
                  <a:lnTo>
                    <a:pt x="82" y="27"/>
                  </a:lnTo>
                  <a:lnTo>
                    <a:pt x="59" y="16"/>
                  </a:lnTo>
                  <a:lnTo>
                    <a:pt x="36" y="7"/>
                  </a:lnTo>
                  <a:lnTo>
                    <a:pt x="14" y="0"/>
                  </a:lnTo>
                  <a:lnTo>
                    <a:pt x="9" y="1"/>
                  </a:lnTo>
                  <a:lnTo>
                    <a:pt x="4" y="5"/>
                  </a:lnTo>
                  <a:lnTo>
                    <a:pt x="0" y="12"/>
                  </a:lnTo>
                  <a:lnTo>
                    <a:pt x="3" y="17"/>
                  </a:lnTo>
                  <a:lnTo>
                    <a:pt x="14" y="25"/>
                  </a:lnTo>
                  <a:lnTo>
                    <a:pt x="26" y="34"/>
                  </a:lnTo>
                  <a:lnTo>
                    <a:pt x="37" y="43"/>
                  </a:lnTo>
                  <a:lnTo>
                    <a:pt x="48" y="54"/>
                  </a:lnTo>
                  <a:lnTo>
                    <a:pt x="57" y="64"/>
                  </a:lnTo>
                  <a:lnTo>
                    <a:pt x="67" y="75"/>
                  </a:lnTo>
                  <a:lnTo>
                    <a:pt x="76" y="86"/>
                  </a:lnTo>
                  <a:lnTo>
                    <a:pt x="86" y="98"/>
                  </a:lnTo>
                  <a:lnTo>
                    <a:pt x="94" y="108"/>
                  </a:lnTo>
                  <a:lnTo>
                    <a:pt x="101" y="119"/>
                  </a:lnTo>
                  <a:lnTo>
                    <a:pt x="108" y="131"/>
                  </a:lnTo>
                  <a:lnTo>
                    <a:pt x="113" y="143"/>
                  </a:lnTo>
                  <a:lnTo>
                    <a:pt x="118" y="153"/>
                  </a:lnTo>
                  <a:lnTo>
                    <a:pt x="119" y="162"/>
                  </a:lnTo>
                  <a:lnTo>
                    <a:pt x="118" y="169"/>
                  </a:lnTo>
                  <a:lnTo>
                    <a:pt x="116" y="176"/>
                  </a:lnTo>
                  <a:lnTo>
                    <a:pt x="111" y="183"/>
                  </a:lnTo>
                  <a:lnTo>
                    <a:pt x="105" y="189"/>
                  </a:lnTo>
                  <a:lnTo>
                    <a:pt x="97" y="193"/>
                  </a:lnTo>
                  <a:lnTo>
                    <a:pt x="89" y="199"/>
                  </a:lnTo>
                  <a:lnTo>
                    <a:pt x="88" y="199"/>
                  </a:lnTo>
                  <a:lnTo>
                    <a:pt x="88" y="200"/>
                  </a:lnTo>
                  <a:lnTo>
                    <a:pt x="89"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503"/>
            <p:cNvSpPr/>
            <p:nvPr/>
          </p:nvSpPr>
          <p:spPr>
            <a:xfrm rot="20009400">
              <a:off x="5997600" y="5370480"/>
              <a:ext cx="83880" cy="177480"/>
            </a:xfrm>
            <a:custGeom>
              <a:avLst/>
              <a:gdLst>
                <a:gd name="textAreaLeft" fmla="*/ 0 w 83880"/>
                <a:gd name="textAreaRight" fmla="*/ 84240 w 83880"/>
                <a:gd name="textAreaTop" fmla="*/ 0 h 177480"/>
                <a:gd name="textAreaBottom" fmla="*/ 177840 h 177480"/>
              </a:gdLst>
              <a:ahLst/>
              <a:rect l="textAreaLeft" t="textAreaTop" r="textAreaRight" b="textAreaBottom"/>
              <a:pathLst>
                <a:path w="58" h="118">
                  <a:moveTo>
                    <a:pt x="30" y="0"/>
                  </a:moveTo>
                  <a:lnTo>
                    <a:pt x="18" y="12"/>
                  </a:lnTo>
                  <a:lnTo>
                    <a:pt x="10" y="27"/>
                  </a:lnTo>
                  <a:lnTo>
                    <a:pt x="5" y="44"/>
                  </a:lnTo>
                  <a:lnTo>
                    <a:pt x="1" y="60"/>
                  </a:lnTo>
                  <a:lnTo>
                    <a:pt x="0" y="71"/>
                  </a:lnTo>
                  <a:lnTo>
                    <a:pt x="1" y="81"/>
                  </a:lnTo>
                  <a:lnTo>
                    <a:pt x="3" y="91"/>
                  </a:lnTo>
                  <a:lnTo>
                    <a:pt x="7" y="102"/>
                  </a:lnTo>
                  <a:lnTo>
                    <a:pt x="13" y="110"/>
                  </a:lnTo>
                  <a:lnTo>
                    <a:pt x="20" y="115"/>
                  </a:lnTo>
                  <a:lnTo>
                    <a:pt x="29" y="118"/>
                  </a:lnTo>
                  <a:lnTo>
                    <a:pt x="40" y="117"/>
                  </a:lnTo>
                  <a:lnTo>
                    <a:pt x="47" y="113"/>
                  </a:lnTo>
                  <a:lnTo>
                    <a:pt x="54" y="106"/>
                  </a:lnTo>
                  <a:lnTo>
                    <a:pt x="58" y="98"/>
                  </a:lnTo>
                  <a:lnTo>
                    <a:pt x="55" y="90"/>
                  </a:lnTo>
                  <a:lnTo>
                    <a:pt x="51" y="87"/>
                  </a:lnTo>
                  <a:lnTo>
                    <a:pt x="45" y="84"/>
                  </a:lnTo>
                  <a:lnTo>
                    <a:pt x="39" y="82"/>
                  </a:lnTo>
                  <a:lnTo>
                    <a:pt x="33" y="80"/>
                  </a:lnTo>
                  <a:lnTo>
                    <a:pt x="28" y="76"/>
                  </a:lnTo>
                  <a:lnTo>
                    <a:pt x="24" y="72"/>
                  </a:lnTo>
                  <a:lnTo>
                    <a:pt x="20" y="66"/>
                  </a:lnTo>
                  <a:lnTo>
                    <a:pt x="17" y="60"/>
                  </a:lnTo>
                  <a:lnTo>
                    <a:pt x="14" y="45"/>
                  </a:lnTo>
                  <a:lnTo>
                    <a:pt x="15" y="29"/>
                  </a:lnTo>
                  <a:lnTo>
                    <a:pt x="20" y="14"/>
                  </a:lnTo>
                  <a:lnTo>
                    <a:pt x="30" y="1"/>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504"/>
            <p:cNvSpPr/>
            <p:nvPr/>
          </p:nvSpPr>
          <p:spPr>
            <a:xfrm rot="20009400">
              <a:off x="6039720" y="5342400"/>
              <a:ext cx="74880" cy="132120"/>
            </a:xfrm>
            <a:custGeom>
              <a:avLst/>
              <a:gdLst>
                <a:gd name="textAreaLeft" fmla="*/ 0 w 74880"/>
                <a:gd name="textAreaRight" fmla="*/ 75240 w 74880"/>
                <a:gd name="textAreaTop" fmla="*/ 0 h 132120"/>
                <a:gd name="textAreaBottom" fmla="*/ 132480 h 132120"/>
              </a:gdLst>
              <a:ahLst/>
              <a:rect l="textAreaLeft" t="textAreaTop" r="textAreaRight" b="textAreaBottom"/>
              <a:pathLst>
                <a:path w="53" h="88">
                  <a:moveTo>
                    <a:pt x="43" y="0"/>
                  </a:moveTo>
                  <a:lnTo>
                    <a:pt x="36" y="2"/>
                  </a:lnTo>
                  <a:lnTo>
                    <a:pt x="29" y="4"/>
                  </a:lnTo>
                  <a:lnTo>
                    <a:pt x="23" y="8"/>
                  </a:lnTo>
                  <a:lnTo>
                    <a:pt x="19" y="12"/>
                  </a:lnTo>
                  <a:lnTo>
                    <a:pt x="14" y="17"/>
                  </a:lnTo>
                  <a:lnTo>
                    <a:pt x="10" y="23"/>
                  </a:lnTo>
                  <a:lnTo>
                    <a:pt x="6" y="28"/>
                  </a:lnTo>
                  <a:lnTo>
                    <a:pt x="4" y="35"/>
                  </a:lnTo>
                  <a:lnTo>
                    <a:pt x="0" y="45"/>
                  </a:lnTo>
                  <a:lnTo>
                    <a:pt x="0" y="54"/>
                  </a:lnTo>
                  <a:lnTo>
                    <a:pt x="2" y="63"/>
                  </a:lnTo>
                  <a:lnTo>
                    <a:pt x="4" y="72"/>
                  </a:lnTo>
                  <a:lnTo>
                    <a:pt x="9" y="83"/>
                  </a:lnTo>
                  <a:lnTo>
                    <a:pt x="17" y="87"/>
                  </a:lnTo>
                  <a:lnTo>
                    <a:pt x="26" y="88"/>
                  </a:lnTo>
                  <a:lnTo>
                    <a:pt x="36" y="87"/>
                  </a:lnTo>
                  <a:lnTo>
                    <a:pt x="42" y="84"/>
                  </a:lnTo>
                  <a:lnTo>
                    <a:pt x="49" y="78"/>
                  </a:lnTo>
                  <a:lnTo>
                    <a:pt x="53" y="71"/>
                  </a:lnTo>
                  <a:lnTo>
                    <a:pt x="51" y="65"/>
                  </a:lnTo>
                  <a:lnTo>
                    <a:pt x="45" y="61"/>
                  </a:lnTo>
                  <a:lnTo>
                    <a:pt x="37" y="53"/>
                  </a:lnTo>
                  <a:lnTo>
                    <a:pt x="29" y="45"/>
                  </a:lnTo>
                  <a:lnTo>
                    <a:pt x="25" y="39"/>
                  </a:lnTo>
                  <a:lnTo>
                    <a:pt x="20" y="27"/>
                  </a:lnTo>
                  <a:lnTo>
                    <a:pt x="25" y="16"/>
                  </a:lnTo>
                  <a:lnTo>
                    <a:pt x="34" y="7"/>
                  </a:lnTo>
                  <a:lnTo>
                    <a:pt x="43" y="1"/>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509"/>
            <p:cNvSpPr/>
            <p:nvPr/>
          </p:nvSpPr>
          <p:spPr>
            <a:xfrm rot="20009400">
              <a:off x="6340680" y="5446440"/>
              <a:ext cx="1107720" cy="1639800"/>
            </a:xfrm>
            <a:custGeom>
              <a:avLst/>
              <a:gdLst>
                <a:gd name="textAreaLeft" fmla="*/ 0 w 1107720"/>
                <a:gd name="textAreaRight" fmla="*/ 1108080 w 1107720"/>
                <a:gd name="textAreaTop" fmla="*/ 0 h 1639800"/>
                <a:gd name="textAreaBottom" fmla="*/ 1640160 h 1639800"/>
              </a:gdLst>
              <a:ahLst/>
              <a:rect l="textAreaLeft" t="textAreaTop" r="textAreaRight" b="textAreaBottom"/>
              <a:pathLst>
                <a:path w="767" h="1090">
                  <a:moveTo>
                    <a:pt x="0" y="1"/>
                  </a:moveTo>
                  <a:lnTo>
                    <a:pt x="24" y="82"/>
                  </a:lnTo>
                  <a:lnTo>
                    <a:pt x="51" y="161"/>
                  </a:lnTo>
                  <a:lnTo>
                    <a:pt x="82" y="239"/>
                  </a:lnTo>
                  <a:lnTo>
                    <a:pt x="115" y="317"/>
                  </a:lnTo>
                  <a:lnTo>
                    <a:pt x="152" y="393"/>
                  </a:lnTo>
                  <a:lnTo>
                    <a:pt x="191" y="468"/>
                  </a:lnTo>
                  <a:lnTo>
                    <a:pt x="235" y="541"/>
                  </a:lnTo>
                  <a:lnTo>
                    <a:pt x="280" y="612"/>
                  </a:lnTo>
                  <a:lnTo>
                    <a:pt x="330" y="681"/>
                  </a:lnTo>
                  <a:lnTo>
                    <a:pt x="380" y="747"/>
                  </a:lnTo>
                  <a:lnTo>
                    <a:pt x="435" y="812"/>
                  </a:lnTo>
                  <a:lnTo>
                    <a:pt x="492" y="873"/>
                  </a:lnTo>
                  <a:lnTo>
                    <a:pt x="552" y="932"/>
                  </a:lnTo>
                  <a:lnTo>
                    <a:pt x="614" y="988"/>
                  </a:lnTo>
                  <a:lnTo>
                    <a:pt x="678" y="1040"/>
                  </a:lnTo>
                  <a:lnTo>
                    <a:pt x="746" y="1090"/>
                  </a:lnTo>
                  <a:lnTo>
                    <a:pt x="754" y="1090"/>
                  </a:lnTo>
                  <a:lnTo>
                    <a:pt x="763" y="1085"/>
                  </a:lnTo>
                  <a:lnTo>
                    <a:pt x="767" y="1077"/>
                  </a:lnTo>
                  <a:lnTo>
                    <a:pt x="766" y="1070"/>
                  </a:lnTo>
                  <a:lnTo>
                    <a:pt x="744" y="1048"/>
                  </a:lnTo>
                  <a:lnTo>
                    <a:pt x="721" y="1026"/>
                  </a:lnTo>
                  <a:lnTo>
                    <a:pt x="699" y="1003"/>
                  </a:lnTo>
                  <a:lnTo>
                    <a:pt x="676" y="981"/>
                  </a:lnTo>
                  <a:lnTo>
                    <a:pt x="653" y="959"/>
                  </a:lnTo>
                  <a:lnTo>
                    <a:pt x="631" y="938"/>
                  </a:lnTo>
                  <a:lnTo>
                    <a:pt x="608" y="916"/>
                  </a:lnTo>
                  <a:lnTo>
                    <a:pt x="586" y="894"/>
                  </a:lnTo>
                  <a:lnTo>
                    <a:pt x="563" y="872"/>
                  </a:lnTo>
                  <a:lnTo>
                    <a:pt x="541" y="850"/>
                  </a:lnTo>
                  <a:lnTo>
                    <a:pt x="520" y="827"/>
                  </a:lnTo>
                  <a:lnTo>
                    <a:pt x="498" y="805"/>
                  </a:lnTo>
                  <a:lnTo>
                    <a:pt x="476" y="782"/>
                  </a:lnTo>
                  <a:lnTo>
                    <a:pt x="454" y="759"/>
                  </a:lnTo>
                  <a:lnTo>
                    <a:pt x="432" y="736"/>
                  </a:lnTo>
                  <a:lnTo>
                    <a:pt x="411" y="713"/>
                  </a:lnTo>
                  <a:lnTo>
                    <a:pt x="377" y="674"/>
                  </a:lnTo>
                  <a:lnTo>
                    <a:pt x="344" y="633"/>
                  </a:lnTo>
                  <a:lnTo>
                    <a:pt x="312" y="593"/>
                  </a:lnTo>
                  <a:lnTo>
                    <a:pt x="281" y="552"/>
                  </a:lnTo>
                  <a:lnTo>
                    <a:pt x="251" y="509"/>
                  </a:lnTo>
                  <a:lnTo>
                    <a:pt x="222" y="466"/>
                  </a:lnTo>
                  <a:lnTo>
                    <a:pt x="195" y="423"/>
                  </a:lnTo>
                  <a:lnTo>
                    <a:pt x="168" y="379"/>
                  </a:lnTo>
                  <a:lnTo>
                    <a:pt x="143" y="334"/>
                  </a:lnTo>
                  <a:lnTo>
                    <a:pt x="119" y="288"/>
                  </a:lnTo>
                  <a:lnTo>
                    <a:pt x="96" y="242"/>
                  </a:lnTo>
                  <a:lnTo>
                    <a:pt x="75" y="195"/>
                  </a:lnTo>
                  <a:lnTo>
                    <a:pt x="54" y="147"/>
                  </a:lnTo>
                  <a:lnTo>
                    <a:pt x="35" y="99"/>
                  </a:lnTo>
                  <a:lnTo>
                    <a:pt x="17" y="49"/>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511"/>
            <p:cNvSpPr/>
            <p:nvPr/>
          </p:nvSpPr>
          <p:spPr>
            <a:xfrm rot="20009400">
              <a:off x="6283800" y="5449680"/>
              <a:ext cx="225360" cy="210600"/>
            </a:xfrm>
            <a:custGeom>
              <a:avLst/>
              <a:gdLst>
                <a:gd name="textAreaLeft" fmla="*/ 0 w 225360"/>
                <a:gd name="textAreaRight" fmla="*/ 225720 w 225360"/>
                <a:gd name="textAreaTop" fmla="*/ 0 h 210600"/>
                <a:gd name="textAreaBottom" fmla="*/ 210960 h 210600"/>
              </a:gdLst>
              <a:ahLst/>
              <a:rect l="textAreaLeft" t="textAreaTop" r="textAreaRight" b="textAreaBottom"/>
              <a:pathLst>
                <a:path w="155" h="140">
                  <a:moveTo>
                    <a:pt x="65" y="0"/>
                  </a:moveTo>
                  <a:lnTo>
                    <a:pt x="54" y="1"/>
                  </a:lnTo>
                  <a:lnTo>
                    <a:pt x="43" y="4"/>
                  </a:lnTo>
                  <a:lnTo>
                    <a:pt x="33" y="8"/>
                  </a:lnTo>
                  <a:lnTo>
                    <a:pt x="25" y="14"/>
                  </a:lnTo>
                  <a:lnTo>
                    <a:pt x="18" y="21"/>
                  </a:lnTo>
                  <a:lnTo>
                    <a:pt x="11" y="30"/>
                  </a:lnTo>
                  <a:lnTo>
                    <a:pt x="7" y="39"/>
                  </a:lnTo>
                  <a:lnTo>
                    <a:pt x="2" y="51"/>
                  </a:lnTo>
                  <a:lnTo>
                    <a:pt x="0" y="66"/>
                  </a:lnTo>
                  <a:lnTo>
                    <a:pt x="1" y="80"/>
                  </a:lnTo>
                  <a:lnTo>
                    <a:pt x="4" y="94"/>
                  </a:lnTo>
                  <a:lnTo>
                    <a:pt x="11" y="106"/>
                  </a:lnTo>
                  <a:lnTo>
                    <a:pt x="20" y="117"/>
                  </a:lnTo>
                  <a:lnTo>
                    <a:pt x="32" y="126"/>
                  </a:lnTo>
                  <a:lnTo>
                    <a:pt x="45" y="133"/>
                  </a:lnTo>
                  <a:lnTo>
                    <a:pt x="57" y="137"/>
                  </a:lnTo>
                  <a:lnTo>
                    <a:pt x="72" y="140"/>
                  </a:lnTo>
                  <a:lnTo>
                    <a:pt x="86" y="140"/>
                  </a:lnTo>
                  <a:lnTo>
                    <a:pt x="100" y="137"/>
                  </a:lnTo>
                  <a:lnTo>
                    <a:pt x="114" y="133"/>
                  </a:lnTo>
                  <a:lnTo>
                    <a:pt x="126" y="127"/>
                  </a:lnTo>
                  <a:lnTo>
                    <a:pt x="138" y="118"/>
                  </a:lnTo>
                  <a:lnTo>
                    <a:pt x="147" y="106"/>
                  </a:lnTo>
                  <a:lnTo>
                    <a:pt x="154" y="94"/>
                  </a:lnTo>
                  <a:lnTo>
                    <a:pt x="155" y="81"/>
                  </a:lnTo>
                  <a:lnTo>
                    <a:pt x="155" y="66"/>
                  </a:lnTo>
                  <a:lnTo>
                    <a:pt x="152" y="52"/>
                  </a:lnTo>
                  <a:lnTo>
                    <a:pt x="149" y="39"/>
                  </a:lnTo>
                  <a:lnTo>
                    <a:pt x="147" y="33"/>
                  </a:lnTo>
                  <a:lnTo>
                    <a:pt x="142" y="27"/>
                  </a:lnTo>
                  <a:lnTo>
                    <a:pt x="138" y="22"/>
                  </a:lnTo>
                  <a:lnTo>
                    <a:pt x="132" y="18"/>
                  </a:lnTo>
                  <a:lnTo>
                    <a:pt x="125" y="13"/>
                  </a:lnTo>
                  <a:lnTo>
                    <a:pt x="118" y="10"/>
                  </a:lnTo>
                  <a:lnTo>
                    <a:pt x="111" y="7"/>
                  </a:lnTo>
                  <a:lnTo>
                    <a:pt x="106" y="4"/>
                  </a:lnTo>
                  <a:lnTo>
                    <a:pt x="102" y="4"/>
                  </a:lnTo>
                  <a:lnTo>
                    <a:pt x="100" y="6"/>
                  </a:lnTo>
                  <a:lnTo>
                    <a:pt x="98" y="11"/>
                  </a:lnTo>
                  <a:lnTo>
                    <a:pt x="99" y="13"/>
                  </a:lnTo>
                  <a:lnTo>
                    <a:pt x="104" y="19"/>
                  </a:lnTo>
                  <a:lnTo>
                    <a:pt x="111" y="23"/>
                  </a:lnTo>
                  <a:lnTo>
                    <a:pt x="117" y="29"/>
                  </a:lnTo>
                  <a:lnTo>
                    <a:pt x="123" y="35"/>
                  </a:lnTo>
                  <a:lnTo>
                    <a:pt x="133" y="51"/>
                  </a:lnTo>
                  <a:lnTo>
                    <a:pt x="136" y="66"/>
                  </a:lnTo>
                  <a:lnTo>
                    <a:pt x="131" y="79"/>
                  </a:lnTo>
                  <a:lnTo>
                    <a:pt x="123" y="89"/>
                  </a:lnTo>
                  <a:lnTo>
                    <a:pt x="111" y="98"/>
                  </a:lnTo>
                  <a:lnTo>
                    <a:pt x="100" y="104"/>
                  </a:lnTo>
                  <a:lnTo>
                    <a:pt x="89" y="109"/>
                  </a:lnTo>
                  <a:lnTo>
                    <a:pt x="84" y="110"/>
                  </a:lnTo>
                  <a:lnTo>
                    <a:pt x="76" y="110"/>
                  </a:lnTo>
                  <a:lnTo>
                    <a:pt x="66" y="110"/>
                  </a:lnTo>
                  <a:lnTo>
                    <a:pt x="58" y="109"/>
                  </a:lnTo>
                  <a:lnTo>
                    <a:pt x="50" y="106"/>
                  </a:lnTo>
                  <a:lnTo>
                    <a:pt x="42" y="104"/>
                  </a:lnTo>
                  <a:lnTo>
                    <a:pt x="35" y="99"/>
                  </a:lnTo>
                  <a:lnTo>
                    <a:pt x="28" y="95"/>
                  </a:lnTo>
                  <a:lnTo>
                    <a:pt x="22" y="89"/>
                  </a:lnTo>
                  <a:lnTo>
                    <a:pt x="11" y="75"/>
                  </a:lnTo>
                  <a:lnTo>
                    <a:pt x="8" y="61"/>
                  </a:lnTo>
                  <a:lnTo>
                    <a:pt x="9" y="48"/>
                  </a:lnTo>
                  <a:lnTo>
                    <a:pt x="16" y="34"/>
                  </a:lnTo>
                  <a:lnTo>
                    <a:pt x="25" y="21"/>
                  </a:lnTo>
                  <a:lnTo>
                    <a:pt x="37" y="12"/>
                  </a:lnTo>
                  <a:lnTo>
                    <a:pt x="50" y="5"/>
                  </a:lnTo>
                  <a:lnTo>
                    <a:pt x="64" y="1"/>
                  </a:lnTo>
                  <a:lnTo>
                    <a:pt x="65" y="1"/>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512"/>
            <p:cNvSpPr/>
            <p:nvPr/>
          </p:nvSpPr>
          <p:spPr>
            <a:xfrm rot="20009400">
              <a:off x="7434000" y="5882400"/>
              <a:ext cx="792360" cy="803160"/>
            </a:xfrm>
            <a:custGeom>
              <a:avLst/>
              <a:gdLst>
                <a:gd name="textAreaLeft" fmla="*/ 0 w 792360"/>
                <a:gd name="textAreaRight" fmla="*/ 792720 w 792360"/>
                <a:gd name="textAreaTop" fmla="*/ 0 h 803160"/>
                <a:gd name="textAreaBottom" fmla="*/ 803520 h 803160"/>
              </a:gdLst>
              <a:ahLst/>
              <a:rect l="textAreaLeft" t="textAreaTop" r="textAreaRight" b="textAreaBottom"/>
              <a:pathLst>
                <a:path w="548" h="535">
                  <a:moveTo>
                    <a:pt x="548" y="0"/>
                  </a:moveTo>
                  <a:lnTo>
                    <a:pt x="533" y="5"/>
                  </a:lnTo>
                  <a:lnTo>
                    <a:pt x="517" y="11"/>
                  </a:lnTo>
                  <a:lnTo>
                    <a:pt x="503" y="19"/>
                  </a:lnTo>
                  <a:lnTo>
                    <a:pt x="488" y="28"/>
                  </a:lnTo>
                  <a:lnTo>
                    <a:pt x="475" y="37"/>
                  </a:lnTo>
                  <a:lnTo>
                    <a:pt x="461" y="48"/>
                  </a:lnTo>
                  <a:lnTo>
                    <a:pt x="447" y="57"/>
                  </a:lnTo>
                  <a:lnTo>
                    <a:pt x="434" y="66"/>
                  </a:lnTo>
                  <a:lnTo>
                    <a:pt x="423" y="74"/>
                  </a:lnTo>
                  <a:lnTo>
                    <a:pt x="410" y="82"/>
                  </a:lnTo>
                  <a:lnTo>
                    <a:pt x="399" y="90"/>
                  </a:lnTo>
                  <a:lnTo>
                    <a:pt x="386" y="98"/>
                  </a:lnTo>
                  <a:lnTo>
                    <a:pt x="374" y="108"/>
                  </a:lnTo>
                  <a:lnTo>
                    <a:pt x="362" y="116"/>
                  </a:lnTo>
                  <a:lnTo>
                    <a:pt x="350" y="125"/>
                  </a:lnTo>
                  <a:lnTo>
                    <a:pt x="339" y="133"/>
                  </a:lnTo>
                  <a:lnTo>
                    <a:pt x="327" y="142"/>
                  </a:lnTo>
                  <a:lnTo>
                    <a:pt x="314" y="150"/>
                  </a:lnTo>
                  <a:lnTo>
                    <a:pt x="303" y="159"/>
                  </a:lnTo>
                  <a:lnTo>
                    <a:pt x="291" y="169"/>
                  </a:lnTo>
                  <a:lnTo>
                    <a:pt x="280" y="178"/>
                  </a:lnTo>
                  <a:lnTo>
                    <a:pt x="268" y="186"/>
                  </a:lnTo>
                  <a:lnTo>
                    <a:pt x="257" y="195"/>
                  </a:lnTo>
                  <a:lnTo>
                    <a:pt x="245" y="204"/>
                  </a:lnTo>
                  <a:lnTo>
                    <a:pt x="223" y="222"/>
                  </a:lnTo>
                  <a:lnTo>
                    <a:pt x="203" y="239"/>
                  </a:lnTo>
                  <a:lnTo>
                    <a:pt x="182" y="257"/>
                  </a:lnTo>
                  <a:lnTo>
                    <a:pt x="161" y="276"/>
                  </a:lnTo>
                  <a:lnTo>
                    <a:pt x="141" y="295"/>
                  </a:lnTo>
                  <a:lnTo>
                    <a:pt x="122" y="315"/>
                  </a:lnTo>
                  <a:lnTo>
                    <a:pt x="103" y="336"/>
                  </a:lnTo>
                  <a:lnTo>
                    <a:pt x="85" y="358"/>
                  </a:lnTo>
                  <a:lnTo>
                    <a:pt x="71" y="374"/>
                  </a:lnTo>
                  <a:lnTo>
                    <a:pt x="56" y="393"/>
                  </a:lnTo>
                  <a:lnTo>
                    <a:pt x="40" y="415"/>
                  </a:lnTo>
                  <a:lnTo>
                    <a:pt x="24" y="438"/>
                  </a:lnTo>
                  <a:lnTo>
                    <a:pt x="12" y="461"/>
                  </a:lnTo>
                  <a:lnTo>
                    <a:pt x="4" y="485"/>
                  </a:lnTo>
                  <a:lnTo>
                    <a:pt x="0" y="507"/>
                  </a:lnTo>
                  <a:lnTo>
                    <a:pt x="5" y="529"/>
                  </a:lnTo>
                  <a:lnTo>
                    <a:pt x="10" y="535"/>
                  </a:lnTo>
                  <a:lnTo>
                    <a:pt x="20" y="533"/>
                  </a:lnTo>
                  <a:lnTo>
                    <a:pt x="28" y="527"/>
                  </a:lnTo>
                  <a:lnTo>
                    <a:pt x="33" y="521"/>
                  </a:lnTo>
                  <a:lnTo>
                    <a:pt x="45" y="503"/>
                  </a:lnTo>
                  <a:lnTo>
                    <a:pt x="58" y="483"/>
                  </a:lnTo>
                  <a:lnTo>
                    <a:pt x="69" y="465"/>
                  </a:lnTo>
                  <a:lnTo>
                    <a:pt x="82" y="446"/>
                  </a:lnTo>
                  <a:lnTo>
                    <a:pt x="93" y="427"/>
                  </a:lnTo>
                  <a:lnTo>
                    <a:pt x="106" y="408"/>
                  </a:lnTo>
                  <a:lnTo>
                    <a:pt x="119" y="390"/>
                  </a:lnTo>
                  <a:lnTo>
                    <a:pt x="131" y="373"/>
                  </a:lnTo>
                  <a:lnTo>
                    <a:pt x="144" y="354"/>
                  </a:lnTo>
                  <a:lnTo>
                    <a:pt x="157" y="337"/>
                  </a:lnTo>
                  <a:lnTo>
                    <a:pt x="171" y="320"/>
                  </a:lnTo>
                  <a:lnTo>
                    <a:pt x="184" y="302"/>
                  </a:lnTo>
                  <a:lnTo>
                    <a:pt x="198" y="285"/>
                  </a:lnTo>
                  <a:lnTo>
                    <a:pt x="213" y="268"/>
                  </a:lnTo>
                  <a:lnTo>
                    <a:pt x="228" y="252"/>
                  </a:lnTo>
                  <a:lnTo>
                    <a:pt x="244" y="235"/>
                  </a:lnTo>
                  <a:lnTo>
                    <a:pt x="265" y="216"/>
                  </a:lnTo>
                  <a:lnTo>
                    <a:pt x="287" y="196"/>
                  </a:lnTo>
                  <a:lnTo>
                    <a:pt x="309" y="178"/>
                  </a:lnTo>
                  <a:lnTo>
                    <a:pt x="331" y="161"/>
                  </a:lnTo>
                  <a:lnTo>
                    <a:pt x="354" y="144"/>
                  </a:lnTo>
                  <a:lnTo>
                    <a:pt x="377" y="127"/>
                  </a:lnTo>
                  <a:lnTo>
                    <a:pt x="400" y="110"/>
                  </a:lnTo>
                  <a:lnTo>
                    <a:pt x="423" y="93"/>
                  </a:lnTo>
                  <a:lnTo>
                    <a:pt x="437" y="82"/>
                  </a:lnTo>
                  <a:lnTo>
                    <a:pt x="452" y="70"/>
                  </a:lnTo>
                  <a:lnTo>
                    <a:pt x="466" y="58"/>
                  </a:lnTo>
                  <a:lnTo>
                    <a:pt x="483" y="45"/>
                  </a:lnTo>
                  <a:lnTo>
                    <a:pt x="498" y="34"/>
                  </a:lnTo>
                  <a:lnTo>
                    <a:pt x="515" y="22"/>
                  </a:lnTo>
                  <a:lnTo>
                    <a:pt x="531" y="11"/>
                  </a:lnTo>
                  <a:lnTo>
                    <a:pt x="548" y="2"/>
                  </a:lnTo>
                  <a:lnTo>
                    <a:pt x="5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513"/>
            <p:cNvSpPr/>
            <p:nvPr/>
          </p:nvSpPr>
          <p:spPr>
            <a:xfrm rot="20009400">
              <a:off x="6192360" y="5542200"/>
              <a:ext cx="621720" cy="460080"/>
            </a:xfrm>
            <a:custGeom>
              <a:avLst/>
              <a:gdLst>
                <a:gd name="textAreaLeft" fmla="*/ 0 w 621720"/>
                <a:gd name="textAreaRight" fmla="*/ 621720 w 621720"/>
                <a:gd name="textAreaTop" fmla="*/ 0 h 460080"/>
                <a:gd name="textAreaBottom" fmla="*/ 460440 h 460080"/>
              </a:gdLst>
              <a:ahLst/>
              <a:rect l="textAreaLeft" t="textAreaTop" r="textAreaRight" b="textAreaBottom"/>
              <a:pathLst>
                <a:path w="428" h="307">
                  <a:moveTo>
                    <a:pt x="428" y="0"/>
                  </a:moveTo>
                  <a:lnTo>
                    <a:pt x="413" y="6"/>
                  </a:lnTo>
                  <a:lnTo>
                    <a:pt x="398" y="11"/>
                  </a:lnTo>
                  <a:lnTo>
                    <a:pt x="383" y="17"/>
                  </a:lnTo>
                  <a:lnTo>
                    <a:pt x="368" y="22"/>
                  </a:lnTo>
                  <a:lnTo>
                    <a:pt x="353" y="28"/>
                  </a:lnTo>
                  <a:lnTo>
                    <a:pt x="338" y="35"/>
                  </a:lnTo>
                  <a:lnTo>
                    <a:pt x="324" y="42"/>
                  </a:lnTo>
                  <a:lnTo>
                    <a:pt x="309" y="48"/>
                  </a:lnTo>
                  <a:lnTo>
                    <a:pt x="296" y="55"/>
                  </a:lnTo>
                  <a:lnTo>
                    <a:pt x="281" y="63"/>
                  </a:lnTo>
                  <a:lnTo>
                    <a:pt x="267" y="70"/>
                  </a:lnTo>
                  <a:lnTo>
                    <a:pt x="253" y="78"/>
                  </a:lnTo>
                  <a:lnTo>
                    <a:pt x="239" y="86"/>
                  </a:lnTo>
                  <a:lnTo>
                    <a:pt x="225" y="94"/>
                  </a:lnTo>
                  <a:lnTo>
                    <a:pt x="213" y="103"/>
                  </a:lnTo>
                  <a:lnTo>
                    <a:pt x="199" y="112"/>
                  </a:lnTo>
                  <a:lnTo>
                    <a:pt x="186" y="121"/>
                  </a:lnTo>
                  <a:lnTo>
                    <a:pt x="172" y="131"/>
                  </a:lnTo>
                  <a:lnTo>
                    <a:pt x="160" y="141"/>
                  </a:lnTo>
                  <a:lnTo>
                    <a:pt x="146" y="151"/>
                  </a:lnTo>
                  <a:lnTo>
                    <a:pt x="132" y="162"/>
                  </a:lnTo>
                  <a:lnTo>
                    <a:pt x="119" y="173"/>
                  </a:lnTo>
                  <a:lnTo>
                    <a:pt x="106" y="185"/>
                  </a:lnTo>
                  <a:lnTo>
                    <a:pt x="92" y="196"/>
                  </a:lnTo>
                  <a:lnTo>
                    <a:pt x="79" y="208"/>
                  </a:lnTo>
                  <a:lnTo>
                    <a:pt x="66" y="220"/>
                  </a:lnTo>
                  <a:lnTo>
                    <a:pt x="55" y="233"/>
                  </a:lnTo>
                  <a:lnTo>
                    <a:pt x="42" y="246"/>
                  </a:lnTo>
                  <a:lnTo>
                    <a:pt x="32" y="258"/>
                  </a:lnTo>
                  <a:lnTo>
                    <a:pt x="20" y="271"/>
                  </a:lnTo>
                  <a:lnTo>
                    <a:pt x="11" y="285"/>
                  </a:lnTo>
                  <a:lnTo>
                    <a:pt x="2" y="298"/>
                  </a:lnTo>
                  <a:lnTo>
                    <a:pt x="0" y="302"/>
                  </a:lnTo>
                  <a:lnTo>
                    <a:pt x="1" y="306"/>
                  </a:lnTo>
                  <a:lnTo>
                    <a:pt x="4" y="307"/>
                  </a:lnTo>
                  <a:lnTo>
                    <a:pt x="8" y="305"/>
                  </a:lnTo>
                  <a:lnTo>
                    <a:pt x="31" y="280"/>
                  </a:lnTo>
                  <a:lnTo>
                    <a:pt x="55" y="256"/>
                  </a:lnTo>
                  <a:lnTo>
                    <a:pt x="78" y="232"/>
                  </a:lnTo>
                  <a:lnTo>
                    <a:pt x="102" y="210"/>
                  </a:lnTo>
                  <a:lnTo>
                    <a:pt x="125" y="187"/>
                  </a:lnTo>
                  <a:lnTo>
                    <a:pt x="150" y="166"/>
                  </a:lnTo>
                  <a:lnTo>
                    <a:pt x="175" y="146"/>
                  </a:lnTo>
                  <a:lnTo>
                    <a:pt x="200" y="126"/>
                  </a:lnTo>
                  <a:lnTo>
                    <a:pt x="225" y="108"/>
                  </a:lnTo>
                  <a:lnTo>
                    <a:pt x="252" y="89"/>
                  </a:lnTo>
                  <a:lnTo>
                    <a:pt x="279" y="73"/>
                  </a:lnTo>
                  <a:lnTo>
                    <a:pt x="307" y="57"/>
                  </a:lnTo>
                  <a:lnTo>
                    <a:pt x="336" y="41"/>
                  </a:lnTo>
                  <a:lnTo>
                    <a:pt x="365" y="27"/>
                  </a:lnTo>
                  <a:lnTo>
                    <a:pt x="396" y="14"/>
                  </a:lnTo>
                  <a:lnTo>
                    <a:pt x="427" y="2"/>
                  </a:lnTo>
                  <a:lnTo>
                    <a:pt x="428" y="2"/>
                  </a:lnTo>
                  <a:lnTo>
                    <a:pt x="4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514"/>
            <p:cNvSpPr/>
            <p:nvPr/>
          </p:nvSpPr>
          <p:spPr>
            <a:xfrm rot="20009400">
              <a:off x="5943600" y="5293800"/>
              <a:ext cx="726120" cy="505440"/>
            </a:xfrm>
            <a:custGeom>
              <a:avLst/>
              <a:gdLst>
                <a:gd name="textAreaLeft" fmla="*/ 0 w 726120"/>
                <a:gd name="textAreaRight" fmla="*/ 726480 w 726120"/>
                <a:gd name="textAreaTop" fmla="*/ 0 h 505440"/>
                <a:gd name="textAreaBottom" fmla="*/ 505800 h 505440"/>
              </a:gdLst>
              <a:ahLst/>
              <a:rect l="textAreaLeft" t="textAreaTop" r="textAreaRight" b="textAreaBottom"/>
              <a:pathLst>
                <a:path w="502" h="335">
                  <a:moveTo>
                    <a:pt x="502" y="0"/>
                  </a:moveTo>
                  <a:lnTo>
                    <a:pt x="463" y="2"/>
                  </a:lnTo>
                  <a:lnTo>
                    <a:pt x="425" y="7"/>
                  </a:lnTo>
                  <a:lnTo>
                    <a:pt x="386" y="15"/>
                  </a:lnTo>
                  <a:lnTo>
                    <a:pt x="348" y="24"/>
                  </a:lnTo>
                  <a:lnTo>
                    <a:pt x="310" y="37"/>
                  </a:lnTo>
                  <a:lnTo>
                    <a:pt x="273" y="52"/>
                  </a:lnTo>
                  <a:lnTo>
                    <a:pt x="236" y="69"/>
                  </a:lnTo>
                  <a:lnTo>
                    <a:pt x="201" y="89"/>
                  </a:lnTo>
                  <a:lnTo>
                    <a:pt x="169" y="111"/>
                  </a:lnTo>
                  <a:lnTo>
                    <a:pt x="137" y="135"/>
                  </a:lnTo>
                  <a:lnTo>
                    <a:pt x="108" y="161"/>
                  </a:lnTo>
                  <a:lnTo>
                    <a:pt x="81" y="190"/>
                  </a:lnTo>
                  <a:lnTo>
                    <a:pt x="56" y="221"/>
                  </a:lnTo>
                  <a:lnTo>
                    <a:pt x="34" y="255"/>
                  </a:lnTo>
                  <a:lnTo>
                    <a:pt x="16" y="289"/>
                  </a:lnTo>
                  <a:lnTo>
                    <a:pt x="0" y="327"/>
                  </a:lnTo>
                  <a:lnTo>
                    <a:pt x="0" y="334"/>
                  </a:lnTo>
                  <a:lnTo>
                    <a:pt x="6" y="335"/>
                  </a:lnTo>
                  <a:lnTo>
                    <a:pt x="13" y="333"/>
                  </a:lnTo>
                  <a:lnTo>
                    <a:pt x="17" y="328"/>
                  </a:lnTo>
                  <a:lnTo>
                    <a:pt x="36" y="301"/>
                  </a:lnTo>
                  <a:lnTo>
                    <a:pt x="54" y="274"/>
                  </a:lnTo>
                  <a:lnTo>
                    <a:pt x="74" y="247"/>
                  </a:lnTo>
                  <a:lnTo>
                    <a:pt x="93" y="220"/>
                  </a:lnTo>
                  <a:lnTo>
                    <a:pt x="114" y="195"/>
                  </a:lnTo>
                  <a:lnTo>
                    <a:pt x="135" y="169"/>
                  </a:lnTo>
                  <a:lnTo>
                    <a:pt x="158" y="145"/>
                  </a:lnTo>
                  <a:lnTo>
                    <a:pt x="181" y="122"/>
                  </a:lnTo>
                  <a:lnTo>
                    <a:pt x="196" y="110"/>
                  </a:lnTo>
                  <a:lnTo>
                    <a:pt x="212" y="97"/>
                  </a:lnTo>
                  <a:lnTo>
                    <a:pt x="230" y="85"/>
                  </a:lnTo>
                  <a:lnTo>
                    <a:pt x="249" y="74"/>
                  </a:lnTo>
                  <a:lnTo>
                    <a:pt x="268" y="63"/>
                  </a:lnTo>
                  <a:lnTo>
                    <a:pt x="289" y="54"/>
                  </a:lnTo>
                  <a:lnTo>
                    <a:pt x="310" y="45"/>
                  </a:lnTo>
                  <a:lnTo>
                    <a:pt x="330" y="37"/>
                  </a:lnTo>
                  <a:lnTo>
                    <a:pt x="352" y="30"/>
                  </a:lnTo>
                  <a:lnTo>
                    <a:pt x="374" y="23"/>
                  </a:lnTo>
                  <a:lnTo>
                    <a:pt x="396" y="17"/>
                  </a:lnTo>
                  <a:lnTo>
                    <a:pt x="418" y="13"/>
                  </a:lnTo>
                  <a:lnTo>
                    <a:pt x="440" y="8"/>
                  </a:lnTo>
                  <a:lnTo>
                    <a:pt x="461" y="5"/>
                  </a:lnTo>
                  <a:lnTo>
                    <a:pt x="481" y="2"/>
                  </a:lnTo>
                  <a:lnTo>
                    <a:pt x="501" y="0"/>
                  </a:lnTo>
                  <a:lnTo>
                    <a:pt x="5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515"/>
            <p:cNvSpPr/>
            <p:nvPr/>
          </p:nvSpPr>
          <p:spPr>
            <a:xfrm rot="20009400">
              <a:off x="6240600" y="5517720"/>
              <a:ext cx="737640" cy="547560"/>
            </a:xfrm>
            <a:custGeom>
              <a:avLst/>
              <a:gdLst>
                <a:gd name="textAreaLeft" fmla="*/ 0 w 737640"/>
                <a:gd name="textAreaRight" fmla="*/ 738000 w 737640"/>
                <a:gd name="textAreaTop" fmla="*/ 0 h 547560"/>
                <a:gd name="textAreaBottom" fmla="*/ 547920 h 547560"/>
              </a:gdLst>
              <a:ahLst/>
              <a:rect l="textAreaLeft" t="textAreaTop" r="textAreaRight" b="textAreaBottom"/>
              <a:pathLst>
                <a:path w="509" h="364">
                  <a:moveTo>
                    <a:pt x="1" y="363"/>
                  </a:moveTo>
                  <a:lnTo>
                    <a:pt x="21" y="329"/>
                  </a:lnTo>
                  <a:lnTo>
                    <a:pt x="42" y="295"/>
                  </a:lnTo>
                  <a:lnTo>
                    <a:pt x="65" y="262"/>
                  </a:lnTo>
                  <a:lnTo>
                    <a:pt x="90" y="231"/>
                  </a:lnTo>
                  <a:lnTo>
                    <a:pt x="116" y="201"/>
                  </a:lnTo>
                  <a:lnTo>
                    <a:pt x="145" y="172"/>
                  </a:lnTo>
                  <a:lnTo>
                    <a:pt x="176" y="146"/>
                  </a:lnTo>
                  <a:lnTo>
                    <a:pt x="207" y="121"/>
                  </a:lnTo>
                  <a:lnTo>
                    <a:pt x="241" y="98"/>
                  </a:lnTo>
                  <a:lnTo>
                    <a:pt x="275" y="79"/>
                  </a:lnTo>
                  <a:lnTo>
                    <a:pt x="311" y="62"/>
                  </a:lnTo>
                  <a:lnTo>
                    <a:pt x="348" y="47"/>
                  </a:lnTo>
                  <a:lnTo>
                    <a:pt x="385" y="35"/>
                  </a:lnTo>
                  <a:lnTo>
                    <a:pt x="424" y="26"/>
                  </a:lnTo>
                  <a:lnTo>
                    <a:pt x="463" y="21"/>
                  </a:lnTo>
                  <a:lnTo>
                    <a:pt x="502" y="19"/>
                  </a:lnTo>
                  <a:lnTo>
                    <a:pt x="506" y="18"/>
                  </a:lnTo>
                  <a:lnTo>
                    <a:pt x="508" y="14"/>
                  </a:lnTo>
                  <a:lnTo>
                    <a:pt x="509" y="11"/>
                  </a:lnTo>
                  <a:lnTo>
                    <a:pt x="508" y="9"/>
                  </a:lnTo>
                  <a:lnTo>
                    <a:pt x="492" y="4"/>
                  </a:lnTo>
                  <a:lnTo>
                    <a:pt x="475" y="0"/>
                  </a:lnTo>
                  <a:lnTo>
                    <a:pt x="456" y="0"/>
                  </a:lnTo>
                  <a:lnTo>
                    <a:pt x="438" y="2"/>
                  </a:lnTo>
                  <a:lnTo>
                    <a:pt x="419" y="4"/>
                  </a:lnTo>
                  <a:lnTo>
                    <a:pt x="401" y="9"/>
                  </a:lnTo>
                  <a:lnTo>
                    <a:pt x="381" y="14"/>
                  </a:lnTo>
                  <a:lnTo>
                    <a:pt x="363" y="20"/>
                  </a:lnTo>
                  <a:lnTo>
                    <a:pt x="345" y="28"/>
                  </a:lnTo>
                  <a:lnTo>
                    <a:pt x="326" y="36"/>
                  </a:lnTo>
                  <a:lnTo>
                    <a:pt x="308" y="45"/>
                  </a:lnTo>
                  <a:lnTo>
                    <a:pt x="292" y="55"/>
                  </a:lnTo>
                  <a:lnTo>
                    <a:pt x="274" y="65"/>
                  </a:lnTo>
                  <a:lnTo>
                    <a:pt x="259" y="74"/>
                  </a:lnTo>
                  <a:lnTo>
                    <a:pt x="244" y="85"/>
                  </a:lnTo>
                  <a:lnTo>
                    <a:pt x="232" y="94"/>
                  </a:lnTo>
                  <a:lnTo>
                    <a:pt x="213" y="108"/>
                  </a:lnTo>
                  <a:lnTo>
                    <a:pt x="196" y="121"/>
                  </a:lnTo>
                  <a:lnTo>
                    <a:pt x="179" y="135"/>
                  </a:lnTo>
                  <a:lnTo>
                    <a:pt x="161" y="150"/>
                  </a:lnTo>
                  <a:lnTo>
                    <a:pt x="145" y="165"/>
                  </a:lnTo>
                  <a:lnTo>
                    <a:pt x="129" y="181"/>
                  </a:lnTo>
                  <a:lnTo>
                    <a:pt x="114" y="197"/>
                  </a:lnTo>
                  <a:lnTo>
                    <a:pt x="99" y="214"/>
                  </a:lnTo>
                  <a:lnTo>
                    <a:pt x="85" y="231"/>
                  </a:lnTo>
                  <a:lnTo>
                    <a:pt x="72" y="248"/>
                  </a:lnTo>
                  <a:lnTo>
                    <a:pt x="58" y="265"/>
                  </a:lnTo>
                  <a:lnTo>
                    <a:pt x="45" y="284"/>
                  </a:lnTo>
                  <a:lnTo>
                    <a:pt x="34" y="303"/>
                  </a:lnTo>
                  <a:lnTo>
                    <a:pt x="22" y="323"/>
                  </a:lnTo>
                  <a:lnTo>
                    <a:pt x="11" y="343"/>
                  </a:lnTo>
                  <a:lnTo>
                    <a:pt x="0" y="363"/>
                  </a:lnTo>
                  <a:lnTo>
                    <a:pt x="0" y="364"/>
                  </a:lnTo>
                  <a:lnTo>
                    <a:pt x="1" y="364"/>
                  </a:lnTo>
                  <a:lnTo>
                    <a:pt x="1"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TextBox 544"/>
          <p:cNvSpPr/>
          <p:nvPr/>
        </p:nvSpPr>
        <p:spPr>
          <a:xfrm rot="1069800">
            <a:off x="6502680" y="584784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Lucida Handwriting"/>
              </a:rPr>
              <a:t>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Lucida Handwriting"/>
              </a:rPr>
              <a:t>MAPLE-3</a:t>
            </a:r>
            <a:endParaRPr b="0" lang="en-US" sz="1800" spc="-1" strike="noStrike">
              <a:solidFill>
                <a:srgbClr val="000000"/>
              </a:solidFill>
              <a:latin typeface="Arial"/>
            </a:endParaRPr>
          </a:p>
        </p:txBody>
      </p:sp>
      <p:sp>
        <p:nvSpPr>
          <p:cNvPr id="194" name="AutoShape 534"/>
          <p:cNvSpPr/>
          <p:nvPr/>
        </p:nvSpPr>
        <p:spPr>
          <a:xfrm>
            <a:off x="7010280" y="1371600"/>
            <a:ext cx="1820880" cy="1338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1"/>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A4FF-B5C9-43FA-90BF-E83AE5CED8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Content Placeholder 2"/>
          <p:cNvSpPr/>
          <p:nvPr/>
        </p:nvSpPr>
        <p:spPr>
          <a:xfrm>
            <a:off x="457200" y="1417680"/>
            <a:ext cx="8229600" cy="56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rking your site</a:t>
            </a:r>
            <a:endParaRPr b="0" lang="en-US" sz="3200" spc="-1" strike="noStrike">
              <a:solidFill>
                <a:srgbClr val="000000"/>
              </a:solidFill>
              <a:latin typeface="Arial"/>
            </a:endParaRPr>
          </a:p>
        </p:txBody>
      </p:sp>
      <p:sp>
        <p:nvSpPr>
          <p:cNvPr id="197" name="Content Placeholder 2"/>
          <p:cNvSpPr/>
          <p:nvPr/>
        </p:nvSpPr>
        <p:spPr>
          <a:xfrm>
            <a:off x="457200" y="2027160"/>
            <a:ext cx="54864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lagging tape or scrap cl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atural or human-made landma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Picture 5" descr="w6-rebar-stake-400.jpg"/>
          <p:cNvPicPr/>
          <p:nvPr/>
        </p:nvPicPr>
        <p:blipFill>
          <a:blip r:embed="rId1"/>
          <a:srcRect l="18001" t="13500" r="9997" b="0"/>
          <a:stretch/>
        </p:blipFill>
        <p:spPr>
          <a:xfrm>
            <a:off x="5638680" y="1371600"/>
            <a:ext cx="2743200" cy="4394160"/>
          </a:xfrm>
          <a:prstGeom prst="rect">
            <a:avLst/>
          </a:prstGeom>
          <a:ln w="0">
            <a:noFill/>
          </a:ln>
        </p:spPr>
      </p:pic>
      <p:sp>
        <p:nvSpPr>
          <p:cNvPr id="199" name="TextBox 6"/>
          <p:cNvSpPr/>
          <p:nvPr/>
        </p:nvSpPr>
        <p:spPr>
          <a:xfrm>
            <a:off x="4905360" y="5791320"/>
            <a:ext cx="40989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te corner marked with painte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bar and colored flagging ta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17320"/>
            <a:ext cx="8229600" cy="5634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rking trees or shrubs</a:t>
            </a:r>
            <a:endParaRPr b="0" lang="en-US" sz="3200" spc="-1" strike="noStrike">
              <a:solidFill>
                <a:srgbClr val="000000"/>
              </a:solidFill>
              <a:latin typeface="Calibri"/>
            </a:endParaRPr>
          </a:p>
        </p:txBody>
      </p:sp>
      <p:pic>
        <p:nvPicPr>
          <p:cNvPr id="201" name="Picture 4" descr=""/>
          <p:cNvPicPr/>
          <p:nvPr/>
        </p:nvPicPr>
        <p:blipFill>
          <a:blip r:embed="rId1"/>
          <a:stretch/>
        </p:blipFill>
        <p:spPr>
          <a:xfrm>
            <a:off x="4419720" y="3505320"/>
            <a:ext cx="3124080" cy="2349360"/>
          </a:xfrm>
          <a:prstGeom prst="rect">
            <a:avLst/>
          </a:prstGeom>
          <a:ln w="0">
            <a:noFill/>
          </a:ln>
        </p:spPr>
      </p:pic>
      <p:sp>
        <p:nvSpPr>
          <p:cNvPr id="202" name="Content Placeholder 2"/>
          <p:cNvSpPr/>
          <p:nvPr/>
        </p:nvSpPr>
        <p:spPr>
          <a:xfrm>
            <a:off x="457200" y="20271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lagging tape marked with permanent 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mall aluminum ta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Slide Number Placeholder 7"/>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8F4B6-03BB-488C-AD1E-471EF2FA8D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04" name="Picture 9" descr=""/>
          <p:cNvPicPr/>
          <p:nvPr/>
        </p:nvPicPr>
        <p:blipFill>
          <a:blip r:embed="rId2"/>
          <a:stretch/>
        </p:blipFill>
        <p:spPr>
          <a:xfrm>
            <a:off x="2057400" y="3429000"/>
            <a:ext cx="1905120" cy="2435400"/>
          </a:xfrm>
          <a:prstGeom prst="rect">
            <a:avLst/>
          </a:prstGeom>
          <a:ln w="0">
            <a:noFill/>
          </a:ln>
        </p:spPr>
      </p:pic>
      <p:sp>
        <p:nvSpPr>
          <p:cNvPr id="205" name="TextBox 11"/>
          <p:cNvSpPr/>
          <p:nvPr/>
        </p:nvSpPr>
        <p:spPr>
          <a:xfrm>
            <a:off x="2764800" y="601992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lagging tape to mark pla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2659-B1CA-4066-942D-0F23368F73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Content Placeholder 2"/>
          <p:cNvSpPr/>
          <p:nvPr/>
        </p:nvSpPr>
        <p:spPr>
          <a:xfrm>
            <a:off x="457200" y="1417680"/>
            <a:ext cx="8229600" cy="56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rking trees or shrubs</a:t>
            </a:r>
            <a:endParaRPr b="0" lang="en-US" sz="3200" spc="-1" strike="noStrike">
              <a:solidFill>
                <a:srgbClr val="000000"/>
              </a:solidFill>
              <a:latin typeface="Arial"/>
            </a:endParaRPr>
          </a:p>
        </p:txBody>
      </p:sp>
      <p:pic>
        <p:nvPicPr>
          <p:cNvPr id="208" name="Picture 2" descr=""/>
          <p:cNvPicPr/>
          <p:nvPr/>
        </p:nvPicPr>
        <p:blipFill>
          <a:blip r:embed="rId1"/>
          <a:srcRect l="0" t="16396" r="0" b="4921"/>
          <a:stretch/>
        </p:blipFill>
        <p:spPr>
          <a:xfrm>
            <a:off x="1905120" y="3429000"/>
            <a:ext cx="2514600" cy="2971800"/>
          </a:xfrm>
          <a:prstGeom prst="rect">
            <a:avLst/>
          </a:prstGeom>
          <a:ln w="0">
            <a:noFill/>
          </a:ln>
        </p:spPr>
      </p:pic>
      <p:sp>
        <p:nvSpPr>
          <p:cNvPr id="209" name="Content Placeholder 2"/>
          <p:cNvSpPr/>
          <p:nvPr/>
        </p:nvSpPr>
        <p:spPr>
          <a:xfrm>
            <a:off x="457200" y="20271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lagging tape marked with permanent 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mall aluminum ta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TextBox 12"/>
          <p:cNvSpPr/>
          <p:nvPr/>
        </p:nvSpPr>
        <p:spPr>
          <a:xfrm>
            <a:off x="4737240" y="5334120"/>
            <a:ext cx="22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 tree tags.</a:t>
            </a:r>
            <a:endParaRPr b="0" lang="en-US" sz="1800" spc="-1" strike="noStrike">
              <a:solidFill>
                <a:srgbClr val="000000"/>
              </a:solidFill>
              <a:latin typeface="Arial"/>
            </a:endParaRPr>
          </a:p>
        </p:txBody>
      </p:sp>
      <p:pic>
        <p:nvPicPr>
          <p:cNvPr id="211" name="Picture 10" descr=""/>
          <p:cNvPicPr/>
          <p:nvPr/>
        </p:nvPicPr>
        <p:blipFill>
          <a:blip r:embed="rId2"/>
          <a:srcRect l="43601" t="0" r="0" b="10499"/>
          <a:stretch/>
        </p:blipFill>
        <p:spPr>
          <a:xfrm>
            <a:off x="4572000" y="4191120"/>
            <a:ext cx="355608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533520" y="2057040"/>
            <a:ext cx="8229600" cy="1219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mall pins or toothpick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mall stakes such as chopsticks</a:t>
            </a:r>
            <a:endParaRPr b="0" lang="en-US" sz="3200" spc="-1" strike="noStrike">
              <a:solidFill>
                <a:srgbClr val="000000"/>
              </a:solidFill>
              <a:latin typeface="Calibri"/>
            </a:endParaRPr>
          </a:p>
        </p:txBody>
      </p:sp>
      <p:sp>
        <p:nvSpPr>
          <p:cNvPr id="213"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A883-59EC-450B-BFE4-208529802A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Content Placeholder 2"/>
          <p:cNvSpPr/>
          <p:nvPr/>
        </p:nvSpPr>
        <p:spPr>
          <a:xfrm>
            <a:off x="457200" y="1494000"/>
            <a:ext cx="8229600" cy="56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rking grasses and herbaceous plants</a:t>
            </a:r>
            <a:endParaRPr b="0" lang="en-US" sz="3200" spc="-1" strike="noStrike">
              <a:solidFill>
                <a:srgbClr val="000000"/>
              </a:solidFill>
              <a:latin typeface="Arial"/>
            </a:endParaRPr>
          </a:p>
        </p:txBody>
      </p:sp>
      <p:pic>
        <p:nvPicPr>
          <p:cNvPr id="215" name="Picture 7" descr="DSC_0009.jpeg"/>
          <p:cNvPicPr/>
          <p:nvPr/>
        </p:nvPicPr>
        <p:blipFill>
          <a:blip r:embed="rId1"/>
          <a:srcRect l="0" t="0" r="0" b="25713"/>
          <a:stretch/>
        </p:blipFill>
        <p:spPr>
          <a:xfrm>
            <a:off x="5867280" y="3438360"/>
            <a:ext cx="2397240" cy="2657520"/>
          </a:xfrm>
          <a:prstGeom prst="rect">
            <a:avLst/>
          </a:prstGeom>
          <a:ln w="0">
            <a:noFill/>
          </a:ln>
        </p:spPr>
      </p:pic>
      <p:grpSp>
        <p:nvGrpSpPr>
          <p:cNvPr id="216" name="Group 9"/>
          <p:cNvGrpSpPr/>
          <p:nvPr/>
        </p:nvGrpSpPr>
        <p:grpSpPr>
          <a:xfrm>
            <a:off x="1219320" y="3352680"/>
            <a:ext cx="4190760" cy="2819520"/>
            <a:chOff x="1219320" y="3352680"/>
            <a:chExt cx="4190760" cy="2819520"/>
          </a:xfrm>
        </p:grpSpPr>
        <p:pic>
          <p:nvPicPr>
            <p:cNvPr id="217" name="Picture 7" descr="DSC_2487.JPG"/>
            <p:cNvPicPr/>
            <p:nvPr/>
          </p:nvPicPr>
          <p:blipFill>
            <a:blip r:embed="rId2"/>
            <a:stretch/>
          </p:blipFill>
          <p:spPr>
            <a:xfrm>
              <a:off x="1219320" y="3352680"/>
              <a:ext cx="4190760" cy="2813400"/>
            </a:xfrm>
            <a:prstGeom prst="rect">
              <a:avLst/>
            </a:prstGeom>
            <a:ln w="0">
              <a:noFill/>
            </a:ln>
          </p:spPr>
        </p:pic>
        <p:sp>
          <p:nvSpPr>
            <p:cNvPr id="218" name="Oval 8"/>
            <p:cNvSpPr/>
            <p:nvPr/>
          </p:nvSpPr>
          <p:spPr>
            <a:xfrm>
              <a:off x="3048120" y="5486400"/>
              <a:ext cx="457200" cy="685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TextBox 9"/>
          <p:cNvSpPr/>
          <p:nvPr/>
        </p:nvSpPr>
        <p:spPr>
          <a:xfrm>
            <a:off x="3288960" y="6172200"/>
            <a:ext cx="195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ed toothp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20:16:54Z</dcterms:created>
  <dc:creator>Theresa Crimmins 2</dc:creator>
  <dc:description/>
  <dc:language>en-US</dc:language>
  <cp:lastModifiedBy>Sara</cp:lastModifiedBy>
  <dcterms:modified xsi:type="dcterms:W3CDTF">2011-10-28T21:16:28Z</dcterms:modified>
  <cp:revision>54</cp:revision>
  <dc:subject/>
  <dc:title>Slide 1</dc:title>
</cp:coreProperties>
</file>